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B81-9D35-478C-93C9-B58D9AFA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CBF-D65E-4D46-AFE6-848BAFCD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45C-64FB-4961-8F5B-E53839F3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5B5-E065-4E89-A6FA-B2F770DD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7D5-AAE7-4C59-8CDC-51A4C09B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657-C0D7-435C-A410-5B24EA0C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44D-1D5F-4D7C-B9B2-9ED4D54D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7B5-6D27-4FD1-8B33-FA8A4F9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9D8-6EC0-430B-81B8-E3E9AE27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947-924B-4DC8-858A-8537CA4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036-802C-4C91-BE9A-5CFFD95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01D-F3AD-4D00-87E7-35A9061B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E130-4076-4968-9A8B-1D27B190CA4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e un comentario breve acerca de la relación entre  el envejecimiento y el desarrollo de una población, entendido como el despliegue de recursos sociales, financieros, culturales etc, que una población posee en un determinad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56Z</dcterms:modified>
  <cp:revision>51</cp:revision>
  <dc:subject/>
  <dc:title>Leopoldo María Panero: biografía</dc:title>
</cp:coreProperties>
</file>