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95C-03E3-48AF-90E4-F3142E79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5CC-972A-4591-BA68-18888590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A12-DF9F-439A-A66C-02B45DA1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991-F418-4517-91B5-B3334975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150-DDC9-4755-9980-A147B0EA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998-F9CD-406A-B347-2997859D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21B-42A7-457A-A0AF-40198734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5DE-1B55-4769-9397-FBC4D7A8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20B-593A-431C-B6F0-2F0135F0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292-0A7F-4B9B-B4AD-4015C379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A44-0518-4086-9AA8-EDB51CB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662-C7E7-41DA-9928-057E2E7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5FED-7C3B-4868-A12C-8676C439676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e un comentario breve acerca de la relación entre  el envejecimiento y el desarrollo de una población, entendido como el despliegue de recursos sociales, financieros, culturales etc, que una población posee en un determinad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56Z</dcterms:modified>
  <cp:revision>51</cp:revision>
  <dc:subject/>
  <dc:title>Leopoldo María Panero: biografía</dc:title>
</cp:coreProperties>
</file>