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219A-D2C5-44F0-A80E-8078E6C6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C38C-8541-4EC5-AC11-D92AB289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7B0A-73C1-4735-94C7-479596AC8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FAEC-6E9E-4A83-B6D2-7EF80A723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3255-319F-4BDA-B660-55CA7317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8318-712B-40B5-B9B2-FE9E09FC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D3C0-488D-44DB-843E-7CC95628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8D70-9B0E-4D88-A4CF-8F60D945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EF81-57DF-4A65-A529-BCF33C34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37B1-7123-4B5D-BE2E-E47C1EBD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BE4C-7F93-4F43-B427-A34B0137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AC6E-9AF6-43D4-906B-0836EBE4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A4DB-849F-4DC4-AE24-342F401A7296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1152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gunda Cla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Sergio Sánchez Bu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ntenidos: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nsición demográfica. Cambios epidemiológ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ase expositiva, pausa,  taller (evaluación parcia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200" spc="-1" strike="noStrike">
                <a:solidFill>
                  <a:srgbClr val="000000"/>
                </a:solidFill>
                <a:latin typeface="Arial"/>
              </a:rPr>
              <a:t>Descanso 10 M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 regre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r grupos de 2-3 perso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ntar los casos que expondrá el profe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erdo: actividad evalu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216000"/>
            <a:ext cx="8207280" cy="83664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Describe y comenta los componentes demográficos de las tres posibles trayectorias futuras del tamaño poblacion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7488360" cy="5642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216000"/>
            <a:ext cx="8207280" cy="83664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Describe y comenta los componentes demográficos de las tres posibles trayectorias futuras del tamaño poblacion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oría Demográ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tro etapas (sucesivas en el tiempo)  explican los cambios del tamaño de una pobl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a Natalidad, Alta mort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a Natalidad, Mortalidad a la b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alidad a la baja , baja Mort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ja Natalidad, Baja Mort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ción Demográ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explica mediante el análisis de las tasas de Natalidad, Morta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 consecuencias se entienden mediante el resultado o Crecimiento Natural de la población (CN=N-M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 1: Crecimiento nulo o esc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 2: Crecimiento Al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 3: Menor c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 4: Escaso c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ción Demográfica-Cálculo Numé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79200" indent="0">
              <a:spcBef>
                <a:spcPts val="799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ecuación compensado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0120" y="2852640"/>
            <a:ext cx="793260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095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a de crecimiento Na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centaje neto de cambio en el tamaño poblacional, en un añ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20640" y="2492280"/>
            <a:ext cx="8272440" cy="3097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a de Creci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centaje de cambio en una población resultante de los flujos migratorios y los cambios en los patrones de natalidad y mortalidad ( en un año, respecto a la población base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4960" y="3429000"/>
            <a:ext cx="8072640" cy="19749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os a conside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80360" cy="4896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tualmente la población mundial crece en aproximadamente 90 millones de personas al añ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blación mundial total por países agrupados según el ingreso, 1980, 1998, 2015 (www.worldbank.o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5113440" cy="2746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os a Conside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tiempo de duplicación , es el parámetro que permite conocer el tiempo en que una determinada población se duplicaría a la tasa de crecimiento act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población con una tasa de crecimiento del 1% se demoraría aproximadamente 70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%, 35; 3% 23,3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puede aproximar a su calculo, dividiendo 70 por la tasa de natalida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9760" y="4797360"/>
            <a:ext cx="8123040" cy="8254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os a Conside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a teoría es una mirada moderna sobre la realidad sociopolítica del mu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éase: Notestein, Frank. 1953. "Economic Problems of Population Change". En Proceedings of the Eighth International Conference of Agricultural Economists, págs. 13 a 31. Londres: Oxford University 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estructura sobre el concepto de revolución 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tiene por ejemplar la evolución de las poblaciones del mundo desarrollado (Caso de Finland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gunos dicen que hay una quinta etapa, caracterizada por baja natalidad y mortalidad con crecimiento que podría llegar a ser nega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transforma en un problema político, hay que desarrollar polítcias pro-crecimiento pobl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4:54:28Z</dcterms:created>
  <dc:creator>Sergio Sanchez</dc:creator>
  <dc:description/>
  <dc:language>en-US</dc:language>
  <cp:lastModifiedBy>ssanchez</cp:lastModifiedBy>
  <dcterms:modified xsi:type="dcterms:W3CDTF">2009-08-20T14:52:38Z</dcterms:modified>
  <cp:revision>41</cp:revision>
  <dc:subject/>
  <dc:title>Leopoldo María Panero: biografía</dc:title>
</cp:coreProperties>
</file>