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903-85AC-49AE-80A3-A964C938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7AE-9713-4FDF-BA50-5D7ACFA9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F90-905D-4B2B-89AC-6627E937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124-9505-49D1-90D8-5CB25DB2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D62-7C9B-4FFA-8529-C9F15E68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BE8-2712-47DF-A444-383C1C64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795-77FA-40B3-BFDC-E414B20D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199-B9B1-4893-BC90-D8223A80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754F-6A9B-4926-B62E-929A9EC4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A6A-6BBF-4FF3-83A3-3CC64280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A42-D966-48C0-B23D-F9A5C209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A96-BF2F-4E39-8337-4430FDC8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BE68-8742-4229-80E9-C2C569D38D0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ición demográfica. Cambios epidemiológ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488360" cy="5642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ía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tro etapas (sucesivas en el tiempo)  explican los cambios del tamaño de una pobl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Alt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Mortalidad a la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lidad a la baja 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ja Natalidad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xplica mediante el análisis de las tasas de Natalidad, Mor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 consecuencias se entienden mediante el resultado o Crecimiento Natural de la población (CN=N-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1: Crecimiento nulo o es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: Crecimiento A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3: Menor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4: Escaso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-Cálculo Numé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cuación compensad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0120" y="2852640"/>
            <a:ext cx="79326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a de crecimiento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neto de cambio en el tamaño poblacional, en un añ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0640" y="2492280"/>
            <a:ext cx="827244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a de Cre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centaje de cambio en una población resultante de los flujos migratorios y los cambios en los patrones de natalidad y mortalidad ( en un año, respecto a la población bas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4960" y="3429000"/>
            <a:ext cx="807264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mente la población mundial crece en aproximadamente 90 millones de personas al 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lación mundial total por países agrupados según el ingreso, 1980, 1998, 2015 (www.worldbank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1344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iempo de duplicación , es el parámetro que permite conocer el tiempo en que una determinada población se duplicaría a la tasa de crecimiento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oblación con una tasa de crecimiento del 1% se demoraría aproximadamente 7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, 35; 3% 23,3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aproximar a su calculo, dividiendo 70 por la tasa de natal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9760" y="4797360"/>
            <a:ext cx="8123040" cy="82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teoría es una mirada moderna sobre la realidad sociopolítica d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ase: Notestein, Frank. 1953. "Economic Problems of Population Change". En Proceedings of the Eighth International Conference of Agricultural Economists, págs. 13 a 31. Londres: Oxford University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structura sobre el concepto de revolución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iene por ejemplar la evolución de las poblaciones del mundo desarrollado (Caso de Finlan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os dicen que hay una quinta etapa, caracterizada por baja natalidad y mortalidad con crecimiento que podría llegar a ser neg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ransforma en un problema político, hay que desarrollar polítcias pro-crecimiento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0T14:52:38Z</dcterms:modified>
  <cp:revision>41</cp:revision>
  <dc:subject/>
  <dc:title>Leopoldo María Panero: biografía</dc:title>
</cp:coreProperties>
</file>