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22F0-F90A-41E6-9EDA-CD7FCC93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0B4E-4D2E-47E1-832E-70FB745F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6546-85DF-40F4-9451-F2688EB6F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4E76-84F2-4EF8-9CB5-75440758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E696-DADF-415E-B4CC-BE30F9CD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342C-898B-4873-9F2A-16787D4B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4105-6A96-44BC-8B9F-501D8C9C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C143-65F6-41B5-8137-7940FF58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CFF2-0862-43CB-8283-1C7C1B22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50E8-7690-42D8-8A6C-CC1322CD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91BF-8D63-4A31-BE97-DF175AAD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4E56-5060-4F33-AF6C-EA08C21F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0DAA-6105-4A9A-8720-DD8CF1B8ED5F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1152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unda Cla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Sergio Sánchez Bu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ntenidos: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nsición demográfica. Cambios epidemiológ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ase expositiva, pausa,  taller (evaluación parcia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200" spc="-1" strike="noStrike">
                <a:solidFill>
                  <a:srgbClr val="000000"/>
                </a:solidFill>
                <a:latin typeface="Arial"/>
              </a:rPr>
              <a:t>Descanso 10 M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regre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r grupos de 2-3 pers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ntar los casos que expondrá el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erdo: actividad evalu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216000"/>
            <a:ext cx="8207280" cy="8366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Describe y comenta los componentes demográficos de las tres posibles trayectorias futuras del tamaño poblacio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7488360" cy="5642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16000"/>
            <a:ext cx="8207280" cy="8366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Describe y comenta los componentes demográficos de las tres posibles trayectorias futuras del tamaño poblacio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oría Demográ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tro etapas (sucesivas en el tiempo)  explican los cambios del tamaño de una pobl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a Natalidad, Alta mort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a Natalidad, Mortalidad a la b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alidad a la baja , baja Mort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ja Natalidad, Baja Mort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ción Demográ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explica mediante el análisis de las tasas de Natalidad, Morta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 consecuencias se entienden mediante el resultado o Crecimiento Natural de la población (CN=N-M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1: Crecimiento nulo o es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2: Crecimiento Al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3: Menor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4: Escaso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ción Demográfica-Cálculo Numé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79200" indent="0">
              <a:spcBef>
                <a:spcPts val="799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ecuación compensado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0120" y="2852640"/>
            <a:ext cx="793260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095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a de crecimiento Na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centaje neto de cambio en el tamaño poblacional, en un añ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20640" y="2492280"/>
            <a:ext cx="8272440" cy="3097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a de Creci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centaje de cambio en una población resultante de los flujos migratorios y los cambios en los patrones de natalidad y mortalidad ( en un año, respecto a la población base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4960" y="3429000"/>
            <a:ext cx="8072640" cy="19749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os a conside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80360" cy="4896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tualmente la población mundial crece en aproximadamente 90 millones de personas al añ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blación mundial total por países agrupados según el ingreso, 1980, 1998, 2015 (www.worldbank.o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113440" cy="2746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os a Conside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tiempo de duplicación , es el parámetro que permite conocer el tiempo en que una determinada población se duplicaría a la tasa de crecimiento act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población con una tasa de crecimiento del 1% se demoraría aproximadamente 7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%, 35; 3% 23,3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uede aproximar a su calculo, dividiendo 70 por la tasa de natalida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9760" y="4797360"/>
            <a:ext cx="8123040" cy="8254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os a Conside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a teoría es una mirada moderna sobre la realidad sociopolítica del mu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éase: Notestein, Frank. 1953. "Economic Problems of Population Change". En Proceedings of the Eighth International Conference of Agricultural Economists, págs. 13 a 31. Londres: Oxford University 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estructura sobre el concepto de revolución 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tiene por ejemplar la evolución de las poblaciones del mundo desarrollado (Caso de Finland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gunos dicen que hay una quinta etapa, caracterizada por baja natalidad y mortalidad con crecimiento que podría llegar a ser nega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transforma en un problema político, hay que desarrollar polítcias pro-crecimiento pobl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4:54:28Z</dcterms:created>
  <dc:creator>Sergio Sanchez</dc:creator>
  <dc:description/>
  <dc:language>en-US</dc:language>
  <cp:lastModifiedBy>ssanchez</cp:lastModifiedBy>
  <dcterms:modified xsi:type="dcterms:W3CDTF">2009-08-20T14:52:38Z</dcterms:modified>
  <cp:revision>41</cp:revision>
  <dc:subject/>
  <dc:title>Leopoldo María Panero: biografía</dc:title>
</cp:coreProperties>
</file>