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5DC1-9B64-40EA-9144-4B00C996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75BA-4E78-494C-B65D-93318BAC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AAD3-427B-4A4F-93D1-CC7ACB12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5F4D-0A65-4202-A0B0-B63FA0B8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F6BE-A169-4C74-A888-9A8A22BA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C0CB-08FF-4647-982D-1488AA66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24BB-279A-483F-83B3-5568262F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2A9F-47D0-49DB-A621-7A38A879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B27-E48B-46E9-83A8-F76A0636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C4AF-FDE1-4230-B51E-AC2C37C5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EB19-7B5C-4207-90FA-14807142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68A0-1089-47F5-ABF9-3F75B200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9534-9F63-4251-A748-91EB0E6210D5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nda Cl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ición demográfica. Cambios epidemiológ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, pausa,  taller (evaluación parc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000000"/>
                </a:solidFill>
                <a:latin typeface="Arial"/>
              </a:rPr>
              <a:t>Descanso 10 M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regr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r grupos de 2-3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ntar los casos que expondrá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rdo: actividad evalu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216000"/>
            <a:ext cx="8207280" cy="8366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escribe y comenta los componentes demográficos de las tres posibles trayectorias futuras del tamaño pobl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7488360" cy="5642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16000"/>
            <a:ext cx="8207280" cy="8366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escribe y comenta los componentes demográficos de las tres posibles trayectorias futuras del tamaño pobl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ía Demográ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tro etapas (sucesivas en el tiempo)  explican los cambios del tamaño de una pobl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a Natalidad, Alta 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a Natalidad, Mortalidad a la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alidad a la baja , baja 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ja Natalidad, Baja 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ción Dem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xplica mediante el análisis de las tasas de Natalidad, Mort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 consecuencias se entienden mediante el resultado o Crecimiento Natural de la población (CN=N-M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1: Crecimiento nulo o es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2: Crecimiento Al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3: Menor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4: Escaso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ción Demográfica-Cálculo Numé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ecuación compensado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0120" y="2852640"/>
            <a:ext cx="79326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095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a de crecimiento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centaje neto de cambio en el tamaño poblacional, en un añ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0640" y="2492280"/>
            <a:ext cx="8272440" cy="3097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a de Crec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centaje de cambio en una población resultante de los flujos migratorios y los cambios en los patrones de natalidad y mortalidad ( en un año, respecto a la población bas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4960" y="3429000"/>
            <a:ext cx="8072640" cy="1974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896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ualmente la población mundial crece en aproximadamente 90 millones de personas al añ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blación mundial total por países agrupados según el ingreso, 1980, 1998, 2015 (www.worldbank.o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11344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tiempo de duplicación , es el parámetro que permite conocer el tiempo en que una determinada población se duplicaría a la tasa de crecimiento ac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población con una tasa de crecimiento del 1% se demoraría aproximadamente 7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%, 35; 3% 23,3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aproximar a su calculo, dividiendo 70 por la tasa de natalid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9760" y="4797360"/>
            <a:ext cx="8123040" cy="825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 teoría es una mirada moderna sobre la realidad sociopolítica del m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éase: Notestein, Frank. 1953. "Economic Problems of Population Change". En Proceedings of the Eighth International Conference of Agricultural Economists, págs. 13 a 31. Londres: Oxford University 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estructura sobre el concepto de revolución 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tiene por ejemplar la evolución de las poblaciones del mundo desarrollado (Caso de Finland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gunos dicen que hay una quinta etapa, caracterizada por baja natalidad y mortalidad con crecimiento que podría llegar a ser neg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transforma en un problema político, hay que desarrollar polítcias pro-crecimiento pobl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sanchez</cp:lastModifiedBy>
  <dcterms:modified xsi:type="dcterms:W3CDTF">2009-08-20T14:52:38Z</dcterms:modified>
  <cp:revision>41</cp:revision>
  <dc:subject/>
  <dc:title>Leopoldo María Panero: biografía</dc:title>
</cp:coreProperties>
</file>