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7FE-917E-427E-9955-A616DA47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C97-0DFA-4EBD-B1A0-7939DC4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AE4-94F5-43A8-A764-E2D1DC6C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D70-4507-4FEA-A4E6-CF07F415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C82A-AE20-490E-8593-1D82ABF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03D4-3106-4EA6-ADF9-A8BFCFB1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A184-C85B-457B-B76B-6EFA1CED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0D3-1E09-4E2B-B238-1F4E8D88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E57B-6F80-481E-962C-189161AE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46A7-21B1-4136-9B00-B23187B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9B4-E0E7-467E-A607-9C9EA4F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A11-8140-4A05-83B6-0697BA3A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B5D0-53C2-4282-8280-426D02F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215-F58F-473A-861A-733B319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EA5-9F5B-424E-A675-3A9D025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6A76-4A54-4C96-941A-C60E047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229-C203-4D74-ADB3-BB3091AA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003-15EC-45FD-BE41-4ED0872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3C8-18E1-486B-8AF0-D3FD1F57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837-6900-4B31-9058-0722139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6ED-73E8-43E7-8FE5-15BB795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231-C938-4DCD-B77E-8954DBB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8BC-2E4D-4609-A050-2E09F778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DE6-8504-4AF3-9F6E-9EDEC3B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7B0-0B24-4B68-B525-2FE479A8C9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4B1-91C6-4F32-82DA-DD99D9A4595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MENINGEO Y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IS CARTIER ROVI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OR TITULAR DE NEUR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 DE CIENCIAS NEUR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CUELA DE MEDICINA 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 manifestaciones que se originan por la irritación de la leptomeninge, que funcionalmente es una serosa que recubre el SN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inflamación puede tener un carácter agudo ó crónico que varían el modo de expresión de los sínt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SAS   (bacteriana, viral, micótica y parasit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    (hemorragia subaracnoide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UN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 AGU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inten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ndrome febr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seas Vóm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idez de nu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meníngeos (Brudzinski, Kerning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nción lum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R:    claro –turbio -xantocróm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conjunto de síntomas y signos originados en la perturbación del SNC, por un conflicto de espacio en la cavidad inextensible del cráne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habla de hipertensión cuando el aumento de la presión intracraneana está sobre 200mm de agua. (normal 160-18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UM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AMAT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fluctuante, cefalea nocturna y con Valsal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ómitos explosiv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ación de abomb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ón bor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ema de papi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neurológico f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sub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nancia Magné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5:06:50Z</dcterms:created>
  <dc:creator>Luis Cartier</dc:creator>
  <dc:description/>
  <dc:language>en-US</dc:language>
  <cp:lastModifiedBy>Usuario</cp:lastModifiedBy>
  <dcterms:modified xsi:type="dcterms:W3CDTF">2009-06-18T14:24:43Z</dcterms:modified>
  <cp:revision>4</cp:revision>
  <dc:subject/>
  <dc:title>SINDROME MENINGEO</dc:title>
</cp:coreProperties>
</file>