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8C30-935C-4331-86ED-D89AF2C6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95AB-EF45-4F45-8F50-07309FEE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2C44-F4CC-48B4-8687-7F697E90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5C2-2916-4BA5-92CB-C971F673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A2C8-28A4-4FB7-A003-BE28A2DC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BC69-1DCB-4A41-8265-AC9CA68E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650E-2020-405E-B5BB-0A4C2C2B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F515-BAC0-48C6-903A-9DE54E2EC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F4D27-7FEF-45B4-9DDA-46263B718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C1F48-FBC2-43D7-A1F2-3A856612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D789-261F-4A10-9D99-CC386298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3C0-420A-4001-8F77-1FDD5FD7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A8B8-13DD-4981-9078-47B6F96F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4FB3-1367-453A-868E-0CAF36BA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90B5-A31B-4573-A5E6-46EB9CA8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D61E8-0D38-453E-94AC-E8D95B62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49FF2-B4DC-4019-9400-26B72032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C24-C849-4290-A232-AD51203F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337B-EBBE-438D-BE70-D6BA4B28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E955-31F2-4F7B-80CA-83EEC661E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F248-5ABB-424B-95B9-0E2761BF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9018-C4AF-4B5B-BE15-CEF710A3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EC73-9547-4C60-9E36-9EF36D764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912-910A-4B2F-A4AD-6A3EBB0F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F0D7-25BE-42B2-A378-C894C64A86B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9E432-16AD-4887-8758-7D0265A3F7F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SINDROME MENINGEO Y DE HIPERTENSIÓN ENDOCRANEAN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UIS CARTIER ROVI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FESOR TITULAR DE NEUROLOGÍ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PARTAMENTO DE CIENCIAS NEUROLÓGIC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SCUELA DE MEDICINA UNIVERSIDAD DE CH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INDROME MENINGE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n manifestaciones que se originan por la irritación de la leptomeninge, que funcionalmente es una serosa que recubre el SN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inflamación puede tener un carácter agudo ó crónico que varían el modo de expresión de los síntom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INDROME MENINGE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ECCIOSAS   (bacteriana, viral, micótica y parasitari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SCULARES    (hemorragia subaracnoide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MORALES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MUNOLÓG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SINDROME MENINGEO AGUDO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alea inten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índrome febril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auseas Vómi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gidez de nu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os meníngeos (Brudzinski, Kerning)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omiso de conciencia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ación agu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……………………………………………………………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unción lumb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CR:    claro –turbio -xantocrómic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SINDROME DE HIPERTENSIÓN ENDOCRANEANA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 un conjunto de síntomas y signos originados en la perturbación del SNC, por un conflicto de espacio en la cavidad inextensible del cráne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 habla de hipertensión cuando el aumento de la presión intracraneana está sobre 200mm de agua. (normal 160-18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SINDROME DE HIPERTENSIÓN ENDOCRANEAN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USA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UMO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RAUMÁ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FLAMATOR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ASCUL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SINDROME DE HIPERTENSIÓN ENDOCRANEANA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falea fluctuante, cefalea nocturna y con Valsal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ómitos explosivo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nsación de abomb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isión borr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dema de papi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gnos neurológico foc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omiso de conci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stalación subagu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………………………………………………………………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onancia Magné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15:06:50Z</dcterms:created>
  <dc:creator>Luis Cartier</dc:creator>
  <dc:description/>
  <dc:language>en-US</dc:language>
  <cp:lastModifiedBy>Usuario</cp:lastModifiedBy>
  <dcterms:modified xsi:type="dcterms:W3CDTF">2009-06-18T14:24:43Z</dcterms:modified>
  <cp:revision>4</cp:revision>
  <dc:subject/>
  <dc:title>SINDROME MENINGEO</dc:title>
</cp:coreProperties>
</file>