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3FF-9130-481E-991D-9D45C8D0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7F2-E4AC-424E-AF32-65D29B81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1E8-42AA-4BDE-8A91-3CB559DE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999-F2B9-4CD0-980C-3DBCF42F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C69A-72F0-4EAB-AD24-059C6C8D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CEB1-2547-4806-843A-0B0837F2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B264-9795-4E0F-BE73-BE9B2D98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F69B-920A-438E-A719-55A37793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270C-5114-434E-BC2F-8CA1E0AE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B12B-481C-43D5-AF85-8DD3D66C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848A-A935-4526-B2C6-B93C4289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764C-2F36-4A59-97A1-115EC902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D307-894D-4FBB-9A64-163AD71F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650E-4DFA-4CAA-B6F7-AAD657C0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1BD9-4320-4161-B63A-0E6D16FA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05B6-2FA2-44FD-9B14-CD034A50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52DB-F69B-41B7-8BF9-184B3DBC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7F15-5CCB-4B47-AEF3-7D3D817D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2FA-97DB-4CDA-A2B0-3085BE82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C63-3F09-45F9-861D-5C11638B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26C-AF79-41C5-AE7A-62008079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C70-2B97-4A69-87CB-B6F6D72A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36F-C2B1-4350-8E38-F05E2921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2EB-7EB4-403A-B261-A0509F3C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944D-7CD0-42E1-A926-335365E26E8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560F-1D0D-4EBF-AEB5-307E02647B4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SINDROME MENINGEO Y DE HIPERTENSIÓN ENDOCRANEAN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IS CARTIER ROVI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FESOR TITULAR DE NEUROLOG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ARTAMENTO DE CIENCIAS NEUROLÓG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CUELA DE MEDICINA UNIVERSIDAD DE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INDROME MENINGE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n manifestaciones que se originan por la irritación de la leptomeninge, que funcionalmente es una serosa que recubre el SN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inflamación puede tener un carácter agudo ó crónico que varían el modo de expresión de los sínto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INDROME MENINGE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CIOSAS   (bacteriana, viral, micótica y parasitari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SCULARES    (hemorragia subaracnoide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MORALES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UNOLÓG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INDROME MENINGEO AGUD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alea inten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índrome febri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useas Vómi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gidez de nu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os meníngeos (Brudzinski, Kerning)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omiso de concienc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ación agu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……………………………………………………………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nción lumb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CR:    claro –turbio -xantocrómic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INDROME DE HIPERTENSIÓN ENDOCRANEA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 un conjunto de síntomas y signos originados en la perturbación del SNC, por un conflicto de espacio en la cavidad inextensible del cráne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habla de hipertensión cuando el aumento de la presión intracraneana está sobre 200mm de agua. (normal 160-18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SINDROME DE HIPERTENSIÓN ENDOCRANEAN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MO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UMÁ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LAMATO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SCUL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SINDROME DE HIPERTENSIÓN ENDOCRANEAN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alea fluctuante, cefalea nocturna y con Valsal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ómitos explosiv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sación de abomb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ión bor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ema de papi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os neurológico foc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omiso de conci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ación subagu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……………………………………………………………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onancia Magné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5:06:50Z</dcterms:created>
  <dc:creator>Luis Cartier</dc:creator>
  <dc:description/>
  <dc:language>en-US</dc:language>
  <cp:lastModifiedBy>Usuario</cp:lastModifiedBy>
  <dcterms:modified xsi:type="dcterms:W3CDTF">2009-06-18T14:24:43Z</dcterms:modified>
  <cp:revision>4</cp:revision>
  <dc:subject/>
  <dc:title>SINDROME MENINGEO</dc:title>
</cp:coreProperties>
</file>