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B25-7824-4DBE-967D-8119CE52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652-45AF-4734-A0BE-1C7195AA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2B1-BC7A-44E1-BE4D-D00E97AC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689-0A1B-4C9A-A975-7D6BE2E9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6EF3-92DD-478D-9CA1-BD6B1083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06DE-897B-4903-A0D1-9078DDC9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A4F1-65C4-434E-AC16-7A68D359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F6D5-5D05-40DD-BC15-38830A76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DCE7-3F05-43CA-93D1-5548D55C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0D14-2435-446E-B662-67CB72F9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5C61-4123-4D6B-90A0-6952C42E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3F7-98D6-4C02-AC0D-D2E788F2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60D9-D607-4B53-A302-F4F0DF5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B401-01FB-4417-9139-41C33E76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EB87-8AF0-40DD-81FE-C5167B67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0658-3FC8-4989-822F-90220933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1102-59D2-42B6-85E5-D4638BB1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0C6-66A3-4B0C-8699-5A44DB02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F3A-4906-4646-A812-66704067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22F-54BF-4537-B167-4BEED227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409-D4F6-4A03-B36C-521E3929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1C8-B528-46C5-9861-EC28D98B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E18-3068-4DF9-BB0A-A7D74AF7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004-6529-43B1-9EA0-BDB061A7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37C4-CAEC-405A-B1D5-88E17A5692ED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C7C4-2E38-4B18-A154-E5CAA20B025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99900"/>
                </a:solidFill>
                <a:latin typeface="Garamond"/>
              </a:rPr>
              <a:t>Semiología trastornos sensitivos.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L Casti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12600"/>
            <a:ext cx="63356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767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9080"/>
            <a:ext cx="7920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342440"/>
            <a:ext cx="88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l Sistema sen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de un punto de vista clínico la sensibilidad se divid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tacto, dolor y temper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pi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relacionadas con los músculos, articulaciones o la pos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visce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cepción a distanci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de olfato, sonido, vista y gu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0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stereogno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Consiste en la capacidad de identificar objetos por palp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Identificación de textura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Se da al paciente un trozo de papel, de tela, de madera o de metal y se le pide que identifique el tipo de materi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Grafeste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ta prueba mide la capacidad de reconocer números trazados por un objeto sobre la palma de la ma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xtinción sensitiv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 una prueba que mide la percepción de dos estímulos a la vez en localización simétrica a ambos lados del cuer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4276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86040" cy="503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4140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96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7:35:19Z</dcterms:created>
  <dc:creator>José Luis Castillo</dc:creator>
  <dc:description/>
  <dc:language>en-US</dc:language>
  <cp:lastModifiedBy>Fac. de Medicina</cp:lastModifiedBy>
  <dcterms:modified xsi:type="dcterms:W3CDTF">2009-06-15T06:07:06Z</dcterms:modified>
  <cp:revision>15</cp:revision>
  <dc:subject/>
  <dc:title>Diapositiva 1</dc:title>
</cp:coreProperties>
</file>