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C57-0F22-479C-BE16-AC75B3F8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73A-AA38-4136-A78D-EFE74B7F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23C-97FA-475A-A447-F1A0179F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125-7ABC-42A1-A6B1-DF181BDE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70BB-CDD0-48AD-9AA1-34ED1833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CF97-07EF-4777-B69E-8370D8E6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190C-3874-4E7B-B5AD-53FEA0EE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74ED-54E5-4F00-8536-A6DAE3F8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10F0-88FA-4398-99DC-E6C2767C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9F17-9E62-4819-AC0D-ECD3D3AB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1FA6-6203-4360-9CE2-E815B153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9E5-1B6F-44F0-9BBE-8FDBD6F5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9AC8-E8E8-4018-B77F-4DFCC5F1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9600-BCFB-48C9-A44D-5A0BFF02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39A0-9C5E-4B3D-9AF0-C98A498B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35FE-A917-445D-9D83-7E22B104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9E9A-7264-4399-9394-C410682E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37E-7562-4565-BD87-BE560385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126-5BEA-4078-8BC7-4796D7A4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29C-FCBF-4785-A717-821B5649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F0E-B065-4258-AF52-55FA3915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0FF-12AB-433E-A268-C8DD6DA0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3EE-9506-4705-B7D9-7AEFF934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D40-F4AF-4347-AB1F-92D98DEB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4DAD-939E-4FAB-A39C-08F36FD57AD4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FF3E-1FA0-4C85-A0C2-D9DE8BF80CC5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999900"/>
                </a:solidFill>
                <a:latin typeface="Garamond"/>
              </a:rPr>
              <a:t>Semiología trastornos sensitivos.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L Castil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12600"/>
            <a:ext cx="63356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19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6767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9080"/>
            <a:ext cx="7920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342440"/>
            <a:ext cx="88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l Sistema sen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de un punto de vista clínico la sensibilidad se divide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ter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tacto, dolor y tempera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pi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relacionadas con los músculos, articulaciones o la posi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ter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visce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cepción a distanci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de olfato, sonido, vista y gu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70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stereognosi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Consiste en la capacidad de identificar objetos por palpac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Identificación de textura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Se da al paciente un trozo de papel, de tela, de madera o de metal y se le pide que identifique el tipo de materi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Grafestesi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Esta prueba mide la capacidad de reconocer números trazados por un objeto sobre la palma de la ma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xtinción sensitiv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Es una prueba que mide la percepción de dos estímulos a la vez en localización simétrica a ambos lados del cuerp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249800" cy="309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4276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2472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86040" cy="5038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4140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3960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7:35:19Z</dcterms:created>
  <dc:creator>José Luis Castillo</dc:creator>
  <dc:description/>
  <dc:language>en-US</dc:language>
  <cp:lastModifiedBy>Fac. de Medicina</cp:lastModifiedBy>
  <dcterms:modified xsi:type="dcterms:W3CDTF">2009-06-15T06:07:06Z</dcterms:modified>
  <cp:revision>15</cp:revision>
  <dc:subject/>
  <dc:title>Diapositiva 1</dc:title>
</cp:coreProperties>
</file>