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F26-2936-45BA-8319-C6D6F2D2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025C-E7AB-4CEC-8F42-C823E4DD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58CB-A127-4AFF-ABE8-6F0385CE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33FC-7FF6-4436-AD06-90E1CE7D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04EE-5C64-434F-8EEC-A1FBD1F8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2689-90D7-4B0E-ABAB-B233F860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6FC1-C56D-460E-B877-48EAC9C3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8F73-1AFB-46D0-8436-2E79E051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76DE-E69C-4B65-A391-1C299A13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1096-07DC-4F14-8408-7ABA2A9A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60AC-D482-4022-9F5D-6AD82B26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6658-EC8C-40F8-B155-4B5CB67B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BB01-491E-454E-84FE-77913644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E12F-AD16-45E0-98AE-D805FD5B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D7F2-9DF1-41E9-A342-64FEAF14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AC23-206B-4573-9FAA-3B495012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EA2A-D2D3-4E99-B1BD-1EBA23CF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0660-2CEB-44F4-B223-0F7F20A6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37AE-AB0E-451A-969D-F890D18F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1445-D4AC-4DAB-BA95-55F44D1A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7874-184D-4F01-90C3-D650C50C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4D26-07A7-4F49-AD53-1C7581D0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C63A-6A59-4079-8979-CCB9C245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323-B266-4BE1-B6B2-3448CD83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02CA-D8C3-4610-8FB4-D31CA2D1E0DE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EB71-43C2-43E1-82D3-DF31CB4B7F53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999900"/>
                </a:solidFill>
                <a:latin typeface="Garamond"/>
              </a:rPr>
              <a:t>Semiología trastornos sensitivos.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L Castill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32000" y="12600"/>
            <a:ext cx="63356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193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8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6767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19080"/>
            <a:ext cx="7920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342440"/>
            <a:ext cx="88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l Sistema sens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de un punto de vista clínico la sensibilidad se divide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xterocepció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tacto, dolor y tempera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opiocepció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sensaciones relacionadas con los músculos, articulaciones o la posi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nterocepció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sensaciones viscer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Recepción a distanci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sensaciones de olfato, sonido, vista y gu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70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5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Estereognosi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Consiste en la capacidad de identificar objetos por palpació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Identificación de textura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Se da al paciente un trozo de papel, de tela, de madera o de metal y se le pide que identifique el tipo de materia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Grafestesi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Esta prueba mide la capacidad de reconocer números trazados por un objeto sobre la palma de la ma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Extinción sensitiv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Es una prueba que mide la percepción de dos estímulos a la vez en localización simétrica a ambos lados del cuerp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4249800" cy="3095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44276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42472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86040" cy="5038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41403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27280" y="549360"/>
            <a:ext cx="3960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8T17:35:19Z</dcterms:created>
  <dc:creator>José Luis Castillo</dc:creator>
  <dc:description/>
  <dc:language>en-US</dc:language>
  <cp:lastModifiedBy>Fac. de Medicina</cp:lastModifiedBy>
  <dcterms:modified xsi:type="dcterms:W3CDTF">2009-06-15T06:07:06Z</dcterms:modified>
  <cp:revision>15</cp:revision>
  <dc:subject/>
  <dc:title>Diapositiva 1</dc:title>
</cp:coreProperties>
</file>