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699EA-BBA2-42A2-97DA-34A0AB959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44457-C039-44CC-B6BF-3E591E885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D80EB-1639-4841-9F8B-B8939FEBC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D80AA-D241-4714-A40F-6427EE4EE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44578-E28F-4320-8632-9267C12F4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F50CD-0CD0-4F95-9B13-2AE30FA89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F963E-9BAB-409B-99C9-F6E87BC48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ADE40-54D7-44C3-90D5-7DFC0E21B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71BE9-7530-470A-B4C5-BB47A9726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FD114-AD08-468D-8EAE-CCE148655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5505E-FCB4-4F92-97F2-A95016389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93AC3-2930-442A-824E-BAFE9604F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0D69D-E352-4837-9EF3-E05D74A50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29984-7581-4C37-A1D8-2A7EDA0E5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42A4D-B205-4BC4-8AD4-F18AC177C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8841B-19AD-45AE-944B-7C815CD3B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2A2AA-1362-4543-9751-1A4E15EA8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23CA9-8516-42E4-A22D-6AA180EC0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9CE33-1713-4308-80F2-F8440F037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F42B3-D92D-49A2-B6F3-40BC6079C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AD4D1-8A19-491D-A537-578B11891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71407-C134-4A09-AC63-FC69858EF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943C5-7EC8-4073-B3CD-D66D6374B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24D0E-43A0-4AD0-8132-48437E558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08B9A-F55F-4162-8D4E-25B8D25B9FF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672D7-10E8-4994-9E46-275180467C1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640" y="62064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Gestión en Salud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899640" y="2491920"/>
            <a:ext cx="755964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l </a:t>
            </a:r>
            <a:r>
              <a:rPr b="1" i="1" lang="en-US" sz="1800" spc="-1" strike="noStrike">
                <a:solidFill>
                  <a:srgbClr val="ff0066"/>
                </a:solidFill>
                <a:latin typeface="Arial"/>
              </a:rPr>
              <a:t>latín</a:t>
            </a:r>
            <a:r>
              <a:rPr b="1" i="1" lang="en-US" sz="1800" spc="-1" strike="noStrike">
                <a:solidFill>
                  <a:srgbClr val="ff0066"/>
                </a:solidFill>
                <a:latin typeface="Arial"/>
              </a:rPr>
              <a:t>   </a:t>
            </a:r>
            <a:r>
              <a:rPr b="1" i="1" lang="en-US" sz="1800" spc="-1" strike="noStrike">
                <a:solidFill>
                  <a:srgbClr val="ff0066"/>
                </a:solidFill>
                <a:latin typeface="Arial"/>
              </a:rPr>
              <a:t>gesti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Acción o efecto de gestion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estionar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ción o efecto de administr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Hacer diligencias conducentes al logro de un negocio o de u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deseo   cualquier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        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RA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802920" y="6127920"/>
            <a:ext cx="21405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PROF JAIME MUÑOZ 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U DE CHIL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FAC DE MEDICIN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807840" y="542880"/>
            <a:ext cx="251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GANIZACIO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049640" y="281160"/>
            <a:ext cx="500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IVERSIDADES, EMPRESAS, HOSPITA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PEC, CLUB DEL BARRIO, COLEGI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900000" y="2060640"/>
            <a:ext cx="7704360" cy="792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016280" y="2224080"/>
            <a:ext cx="58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ATISFACCIONES     –     COSTOS   &gt; 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966760" y="3448080"/>
            <a:ext cx="5531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A  ORGANIZACION  EXISTE EN LA MEDIDA QU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ATISFACE  NECESIDAD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IALES                            MATERIA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86520" y="4869000"/>
            <a:ext cx="332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LACIONES VOLUNTARI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 OTR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78520" y="4869000"/>
            <a:ext cx="4041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UMENTAR SUS CAPACIDADES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DUCIR TIEMPOS, APROVECH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OCIMIENTO ACUMLA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520200" y="566640"/>
            <a:ext cx="32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ECTO SINERGIC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835280" y="1484280"/>
            <a:ext cx="1368360" cy="1295280"/>
          </a:xfrm>
          <a:custGeom>
            <a:avLst/>
            <a:gdLst>
              <a:gd name="textAreaLeft" fmla="*/ 183240 w 1368360"/>
              <a:gd name="textAreaRight" fmla="*/ 1185120 w 1368360"/>
              <a:gd name="textAreaTop" fmla="*/ 226440 h 1295280"/>
              <a:gd name="textAreaBottom" fmla="*/ 93924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219640" y="1557360"/>
            <a:ext cx="1308240" cy="1297080"/>
          </a:xfrm>
          <a:custGeom>
            <a:avLst/>
            <a:gdLst>
              <a:gd name="textAreaLeft" fmla="*/ 174960 w 1308240"/>
              <a:gd name="textAreaRight" fmla="*/ 1133280 w 1308240"/>
              <a:gd name="textAreaTop" fmla="*/ 226800 h 1297080"/>
              <a:gd name="textAreaBottom" fmla="*/ 940320 h 1297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0160" y="2060640"/>
            <a:ext cx="181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REAR VAL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239840" y="3376440"/>
            <a:ext cx="76014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S LA INTERACCION O INTERRELACION DE ELEMENTOS QU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FIGURAN UNA TOTALIDAD: LOS ELEMENTOS DE UN PUZZ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OS INTEGRANTES DE UN CORO, LOS INTEGRANTES DE U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QUIPO DE SALUD),  CONSTITUYEN UNO DE LOS PRINCIPI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ASICOS DE LA TEORIA DE SISTEMAS, QUE ES EL DE SINERGIA 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UE SUELE EXPRESARSE COMO QUE </a:t>
            </a:r>
            <a:r>
              <a:rPr b="1" i="1" lang="en-US" sz="1800" spc="-1" strike="noStrike">
                <a:solidFill>
                  <a:srgbClr val="ff0066"/>
                </a:solidFill>
                <a:latin typeface="Arial"/>
              </a:rPr>
              <a:t>EL TODO ES DIFEREN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66"/>
                </a:solidFill>
                <a:latin typeface="Arial"/>
              </a:rPr>
              <a:t>(EN GENERAL, MAS) QUE LA SUMA DE LAS PART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O MAS SUTI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 ESCUETAMEN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           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  +  2  = 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Arial"/>
              </a:rPr>
              <a:t>Teorías Administrativas y sus enfoques</a:t>
            </a: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26920" y="2349360"/>
            <a:ext cx="83124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ff00"/>
              </a:buClr>
              <a:buFont typeface="Arial"/>
              <a:buAutoNum type="arabicPlain" startAt="189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ff00"/>
                </a:solidFill>
                <a:latin typeface="Arial"/>
              </a:rPr>
              <a:t>     </a:t>
            </a:r>
            <a:r>
              <a:rPr b="0" lang="es-ES" sz="1800" spc="-1" strike="noStrike">
                <a:solidFill>
                  <a:srgbClr val="00ff00"/>
                </a:solidFill>
                <a:latin typeface="Arial"/>
              </a:rPr>
              <a:t>1900      1910       1920     1940      1950       1960  1970    1980      199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Escasez 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Mano de obr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Escuela Admin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Cientific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789280" y="1557360"/>
            <a:ext cx="2575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Primera Guerra                2ª Guerr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Mundial                             Mundi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5506920" y="1700280"/>
            <a:ext cx="5050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017760" y="1504800"/>
            <a:ext cx="1581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imera Conferenci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 Calidad  Japó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116000" y="2781360"/>
            <a:ext cx="0" cy="503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042920" y="4076640"/>
            <a:ext cx="0" cy="647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908000" y="2781360"/>
            <a:ext cx="0" cy="503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835280" y="4076640"/>
            <a:ext cx="0" cy="647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132000" y="2060640"/>
            <a:ext cx="0" cy="21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059280" y="2781360"/>
            <a:ext cx="0" cy="2519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559600" y="5465880"/>
            <a:ext cx="225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scuela Conductist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132000" y="2781360"/>
            <a:ext cx="935280" cy="1295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142880" y="4100400"/>
            <a:ext cx="350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Arial"/>
              </a:rPr>
              <a:t>Teoría Moderna de la Administració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508720" y="2781360"/>
            <a:ext cx="0" cy="1224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508720" y="4508640"/>
            <a:ext cx="0" cy="93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562720" y="5465880"/>
            <a:ext cx="231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nfoque de sistem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164360" y="2781360"/>
            <a:ext cx="0" cy="1224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093080" y="4508640"/>
            <a:ext cx="0" cy="865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093080" y="5877000"/>
            <a:ext cx="0" cy="21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072200" y="6137280"/>
            <a:ext cx="1468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nfoque d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ontingencia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98800" y="6380280"/>
            <a:ext cx="190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00"/>
                </a:solidFill>
                <a:latin typeface="Arial"/>
              </a:rPr>
              <a:t>21 de Marzo de 200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35120" y="928800"/>
            <a:ext cx="8070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LA EVOLUCION DE LAS TEORIAS DE LA ADMINISTRACION Y EL TIP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DE ORGANIZACIONES, RESPONDE Y SON PRODUCTO DEL CONTEX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HISTORICO Y SOCIAL  EN  EL CUAL  SE  DESARROLLAR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921960" y="3089160"/>
            <a:ext cx="763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UN GERENTE QUE PRETENDE CAMBIAR UNA ORGANIZAC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ESTABLECIDA, DEBE CONSERVAR, CUANDO MENOS, LA SOMBR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DE LAS COSTUMBRES ANTIGU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3" name=""/>
          <p:cNvGraphicFramePr/>
          <p:nvPr/>
        </p:nvGraphicFramePr>
        <p:xfrm>
          <a:off x="900000" y="981000"/>
          <a:ext cx="7416720" cy="4984560"/>
        </p:xfrm>
        <a:graphic>
          <a:graphicData uri="http://schemas.openxmlformats.org/drawingml/2006/table">
            <a:tbl>
              <a:tblPr/>
              <a:tblGrid>
                <a:gridCol w="1854360"/>
                <a:gridCol w="1854000"/>
                <a:gridCol w="1854000"/>
                <a:gridCol w="1854360"/>
              </a:tblGrid>
              <a:tr h="498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 TAYLO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 GILBRETH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 GRANT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ncapié en l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dición de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abaj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 Fayo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 We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rganizació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mo un tod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rarquía Poder, regla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 Deming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Énfasis en el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lujo d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formació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ministración de Operacion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. Münsterber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. May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iencias de la Conduct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l grupo de trabajo y la person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121040" y="209520"/>
            <a:ext cx="1602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MINISTRACION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IENTIFIC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882880" y="163440"/>
            <a:ext cx="1669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ESCUEL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ESTRUCTURALIST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796280" y="138240"/>
            <a:ext cx="1271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ISTEMAS DE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INFORMAC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799680" y="138240"/>
            <a:ext cx="1258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ERSPECTIV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HUMANIST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05280" y="2320920"/>
            <a:ext cx="349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Q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095480" y="12160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900000" y="980640"/>
            <a:ext cx="7344000" cy="496908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8534520" y="2224080"/>
            <a:ext cx="371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20920" y="352440"/>
            <a:ext cx="87274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0066"/>
                </a:solidFill>
                <a:latin typeface="Arial"/>
              </a:rPr>
              <a:t>RESUMEN DE PERSPECTIVAS DE LA ADMINISTRAC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00"/>
                </a:solidFill>
                <a:latin typeface="Arial"/>
              </a:rPr>
              <a:t>Administración Científica</a:t>
            </a: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 (F TAYLOR), se caracteriza por la atenc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en las operaciones organizadas, en la atención Hombre Maquina, proceso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 u="sng">
                <a:solidFill>
                  <a:srgbClr val="ffffff"/>
                </a:solidFill>
                <a:uFillTx/>
                <a:latin typeface="Arial"/>
              </a:rPr>
              <a:t>Tarea</a:t>
            </a: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. Se establecen </a:t>
            </a:r>
            <a:r>
              <a:rPr b="1" i="1" lang="es-ES" sz="1800" spc="-1" strike="noStrike" u="sng">
                <a:solidFill>
                  <a:srgbClr val="ffffff"/>
                </a:solidFill>
                <a:uFillTx/>
                <a:latin typeface="Arial"/>
              </a:rPr>
              <a:t>controles cuantitativ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 u="sng">
                <a:solidFill>
                  <a:srgbClr val="ffff00"/>
                </a:solidFill>
                <a:uFillTx/>
                <a:latin typeface="Arial"/>
              </a:rPr>
              <a:t>Escuela Estructuralista</a:t>
            </a:r>
            <a:r>
              <a:rPr b="1" i="1" lang="es-ES" sz="1800" spc="-1" strike="noStrike" u="sng">
                <a:solidFill>
                  <a:srgbClr val="ffffff"/>
                </a:solidFill>
                <a:uFillTx/>
                <a:latin typeface="Arial"/>
              </a:rPr>
              <a:t>:</a:t>
            </a: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 Analiza la organización como un todo. Se enfatiz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la funcíon de dirigir, se distingue la estructura, la jerarquía, los proceso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de trabajo, la autoridad, los procedimientos, las reglas, las política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00"/>
                </a:solidFill>
                <a:latin typeface="Arial"/>
              </a:rPr>
              <a:t>Sistemas de Información</a:t>
            </a: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: el aporte del enfoque sistémico a la administrac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Es poder determinar con mayor claridad los aspectos críticos y sus relacion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E impactos en otros sistemas. Da énfasis a los flujos de trabajo y los fluj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de información, entregando antecedentes para la toma de decisió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00"/>
                </a:solidFill>
                <a:latin typeface="Arial"/>
              </a:rPr>
              <a:t>Perspectiva Humanista:</a:t>
            </a: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 se aplica reconociendo a la persona y su grupo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de trabajo, sus deseos y sentimientos, su entorno en el cual labora. Énfas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en las acciones que se emprenden planificando su cambio, reconoce 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aporte de los grupos de trabajo a la eficiencia y eficacia del proces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592200" y="547560"/>
            <a:ext cx="451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NFOQUE SITUACIONAL DE LA ADMINISTRAC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47840" y="1360440"/>
            <a:ext cx="24192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MINISTRAC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IENTIFIC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SCUEL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STRUCTURALIST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STEMAS 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FORMAC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ERSPECTIV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UMANIST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564000" y="3213000"/>
            <a:ext cx="153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oría 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stem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700360" y="1413000"/>
            <a:ext cx="4608360" cy="863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627280" y="2852640"/>
            <a:ext cx="4681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2556000" y="3357720"/>
            <a:ext cx="4752720" cy="1295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2627280" y="3644640"/>
            <a:ext cx="5113440" cy="2592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275440" y="1144440"/>
            <a:ext cx="152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are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cnológic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202720" y="2081160"/>
            <a:ext cx="111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stem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ia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203800" y="2873520"/>
            <a:ext cx="152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bjetiv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rganizac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274720" y="3808440"/>
            <a:ext cx="114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dio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mbien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274000" y="5032440"/>
            <a:ext cx="1221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structur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m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form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381080" y="2205000"/>
            <a:ext cx="1630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00"/>
                </a:solidFill>
                <a:latin typeface="Arial"/>
              </a:rPr>
              <a:t>Enfoqu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00"/>
                </a:solidFill>
                <a:latin typeface="Arial"/>
              </a:rPr>
              <a:t>Situacional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00"/>
                </a:solidFill>
                <a:latin typeface="Arial"/>
              </a:rPr>
              <a:t>o 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00"/>
                </a:solidFill>
                <a:latin typeface="Arial"/>
              </a:rPr>
              <a:t>Contingenc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308720" y="2060640"/>
            <a:ext cx="1835280" cy="1584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557640" y="687240"/>
            <a:ext cx="7741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 eficacia organizacional no se alcanza siguiendo un Modelo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ganizacional único y exclusiv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43760" y="2081160"/>
            <a:ext cx="7967880" cy="42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ecesidad de la Teoría Administrativ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Los principios y técnicas de la administración </a:t>
            </a:r>
            <a:r>
              <a:rPr b="0" i="1" lang="en-US" sz="2000" spc="-1" strike="noStrike">
                <a:solidFill>
                  <a:srgbClr val="00ff00"/>
                </a:solidFill>
                <a:latin typeface="Arial"/>
              </a:rPr>
              <a:t>(CIENCIA)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son important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en la realidad práctica, su desarrollo y uso genera mejoras en la efectivida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Administrativ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in embargo, la experiencia es la mejor enseñanza </a:t>
            </a:r>
            <a:r>
              <a:rPr b="0" i="1" lang="en-US" sz="1800" spc="-1" strike="noStrike">
                <a:solidFill>
                  <a:srgbClr val="ff0066"/>
                </a:solidFill>
                <a:latin typeface="Arial"/>
              </a:rPr>
              <a:t>(ARTE)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de los principi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e la administrac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i el Administrador reconoce adecuadamente las causas de un problem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(AMBIENTE) y a plica los conceptos, principios y técnicas de l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administración, podrá resolver problemas actuales y futur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a adecuada utilización de los principios de la administración ejercerá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influencias en mejorar el nivel de eficacia y eficiencia de las organizacion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664920" y="568440"/>
            <a:ext cx="435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UNCIONES DE  LA ADMINISTRAC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PROCES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193280" y="2081160"/>
            <a:ext cx="3639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PLANIFICAC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ORGANIZAC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INTEGRACION DE PERSON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DIRECC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NTR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48440" y="4221000"/>
            <a:ext cx="744732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CESO ADMINISTRATIV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LA  ADMINISTRACION SE ACOSTUMBRA A DEFINIRL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EN TERMINOS DE CUATRO FUNCION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Es un proceso, es una forma sistemática de hacer las cos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464760" y="1484280"/>
            <a:ext cx="826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La administración es el proceso de Planificar, Organizar, Dirigir, Control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Y Evaluar  las actividades de los miembros de la Organización y el emple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De todos los recursos para el logro de los Objetivos Organizaciona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07080" y="2997360"/>
            <a:ext cx="8846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Las funciones administrativas son esencialmente las mismas para tod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tipo de organizacio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706320" y="784080"/>
            <a:ext cx="80902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RGANIZAC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ACE DE LA NECESIDAD HUMANA DE COOPER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isten limitantes:  físic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iológic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cológic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ia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 se dispone de una estructura organizacional la cooperación suele ser ma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ductiva y menos costosa”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ualquier organización funciona si se dispone de buen person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838160" y="476280"/>
            <a:ext cx="554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Funciones de los Administrado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186360" y="1720800"/>
            <a:ext cx="197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PLANIFICAC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850000" y="3305160"/>
            <a:ext cx="197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ORGANIZAC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627520" y="4600440"/>
            <a:ext cx="222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INTEGRACION D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PERSON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456200" y="4692600"/>
            <a:ext cx="161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DIRECC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36560" y="3376440"/>
            <a:ext cx="131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CONTR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700360" y="2997360"/>
            <a:ext cx="2521080" cy="107928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946960" y="3349800"/>
            <a:ext cx="19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ORDINAC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4000" y="5681520"/>
            <a:ext cx="447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00"/>
                </a:solidFill>
                <a:latin typeface="Arial"/>
              </a:rPr>
              <a:t>Esencia del  Trabajo del Administrador</a:t>
            </a:r>
            <a:r>
              <a:rPr b="0" lang="en-US" sz="1800" spc="-1" strike="noStrike">
                <a:solidFill>
                  <a:srgbClr val="00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276720" y="4869000"/>
            <a:ext cx="165564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067280" y="4292640"/>
            <a:ext cx="0" cy="108108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547640" y="4005360"/>
            <a:ext cx="503280" cy="5032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1692360" y="2276640"/>
            <a:ext cx="934920" cy="7207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35640" y="2205000"/>
            <a:ext cx="865080" cy="6476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H="1">
            <a:off x="6227280" y="3860640"/>
            <a:ext cx="289080" cy="57636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980280" y="620640"/>
            <a:ext cx="7723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a estructura organizacional debe estar diseñada de manera tal qu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a perfectamente claro para todos quien debe realizar determinada tare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uien es responsable por determinados resultad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usencia de imprecisión en la asignación de responsabilidad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 buen sistema de comunicación y toma de decisiones que reflej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 promueve los objetivos de la organizac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59800" y="3716280"/>
            <a:ext cx="8576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lementos de la organizac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visión del trabajo, para lograrlo se deben seguir etapa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 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erarquizac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partamentalización, divide y agrupa funciones en unidad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 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ordinación, sincronización de recursos y esfuerzo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ADMINISTRACION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BJETIV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grar un conocimiento  científico de la administració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dentificar  Conceptos / Método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render las fases de la administració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licar principios y conceptos a situaciones rea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aluar los resultados obtenidos de la aplicación realizad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Administración, Ciencia &amp; Arte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iencia, conocimiento organizad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te: el conocimiento de la ciencia de la administración como expresión practica de su aplicació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ministración, su enfoque científico tiene conceptos, principios y técnic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729360" y="784080"/>
            <a:ext cx="8357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conomía                                                    Organiza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blema Económico”                   “Por qué nos agrupamos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340000" y="2205000"/>
            <a:ext cx="1368360" cy="1368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5219280" y="1989000"/>
            <a:ext cx="1081080" cy="1584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922480" y="3645000"/>
            <a:ext cx="329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DMINISTRAC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744200" y="4600440"/>
            <a:ext cx="568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ORDINACIÓN DE ACCIONES Y DE ESFUERZ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DIVIDUA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951840" y="712800"/>
            <a:ext cx="78526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RGANIZACION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ERSONAS JURIDICAS QUE PERMITEN QUE L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OCIEDAD ALCANCE LOGROS QUE NO PODRIAN OBTENER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ACTUANDO EN FORMA INDEPENDIEN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RTAMIENTO DE UNA ORGANIZAC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               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AMPO DE ESTUDIO QUE PARTE DE PRINCIPIO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EORICOS, METODOS Y PRINCIPOS  DE  DISTINTAS DISCIPLIN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ARA ESTUDIAR LAS PERCEPCIONES, VALORES, POSIBILIDADES 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INSTRUCCIÓN Y ACCIONES PERSONALES QUE ACTUAN EN GRUPO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ENTRO DE UNA ORGANIZACIÓN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ANALIZA ADEMAS, LOS EFECTOS QU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RODUCE  EL ENTORNO EXTERNO SOBRE LAS ORGANIZACIONES 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US RECURSOS HUMANOS, MISION, OBJETIVOS Y ESTRATEGI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807840" y="568440"/>
            <a:ext cx="818892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LAS ORGANIZACIONE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SATISFACEN NECESIDAD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INFLUYEN DE MANERA IMPORTANTE EN NUESTRAS VID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DE TIEMPOS ANCESTRALES EXISTEN LOS PRIMEROS ESFUERZ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ORGANIZACIONALES DEL HOMBR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UNA PERSONA SE UNE O FORMA UNA ORGANIZACIÓN PARA LOGR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SATISFACER LAS NECESIDAD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DEBEMOS ANALIZAR COMO UNA ORGANIZACIÓN NOS SERVIRÁ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MAS EFICIENTEMEN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LOS COSTOS DE PERTENECER A UNA ORGANIZACIÓN SON VARIADAS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DINERO,TIEMPO,TRABAJO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240920" y="712800"/>
            <a:ext cx="385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USTED Y LAS ORGANIZACION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84360" y="1628640"/>
            <a:ext cx="80323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 LA INTERACCION DE ESTOS 2 MARCOS CONCEPTUA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UE CORRESPONDEN A UNA MISMA REALIDAD Y COMO RESPUEST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ERTA Y EFICAZ TENEMOS QUE LA </a:t>
            </a:r>
            <a:r>
              <a:rPr b="0" i="1" lang="en-US" sz="1800" spc="-1" strike="noStrike">
                <a:solidFill>
                  <a:srgbClr val="ff0066"/>
                </a:solidFill>
                <a:latin typeface="Arial"/>
              </a:rPr>
              <a:t>ADMINISTRACIO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ES L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PRESION FUNCIONAL Y OPERATIVA PARA APLICAR EN LA GES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 LAS EMPRESAS, ORGANIZACIONES PUBLICAS Y PRIVADAS Y D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DO CONJUNTO DE ACTIVIDADES QUE RELACIO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MBIEN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CURS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STRUCTUR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CNOLOG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ERSON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ARE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CES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SULTAD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4T00:27:52Z</dcterms:created>
  <dc:creator>Jaime Muñoz G</dc:creator>
  <dc:description/>
  <dc:language>en-US</dc:language>
  <cp:lastModifiedBy>Jaime Muñoz G</cp:lastModifiedBy>
  <dcterms:modified xsi:type="dcterms:W3CDTF">2006-03-21T03:45:16Z</dcterms:modified>
  <cp:revision>6</cp:revision>
  <dc:subject/>
  <dc:title>Gestion en Salud</dc:title>
</cp:coreProperties>
</file>