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D59-B3F6-476C-B4E3-EC8E0A16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2AF-808E-4349-9ABA-0B79400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60B-88AF-4B52-A33B-B94B0D31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246-2392-4D84-A23A-5F702C6B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797-4974-4155-AB91-EB167456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F740-7831-4A0E-8A1A-7220BD9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A31-79E5-40F9-8096-4E64FAF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40F0-19DE-4C95-831A-86E4F15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B8B7-2FEB-43BB-8A08-D37F266A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27D-C4E0-43E9-93CD-C2BA5FF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42FA-D586-4468-866C-C5D83AA5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7B4-8686-4097-83B1-AE625DE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FF9-8BCB-467F-AA97-5AE417D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9979-15C8-42AE-8C59-44E2B8F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670-7981-4FD1-AAA3-638EEA4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9E7C-7B02-47DF-85A0-56DC7A06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243B-8350-41E8-B0F9-3FF8219A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E75-F162-44FD-BA3E-4205A47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A86-A4BA-46F1-A7D9-914B9DF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810-8858-48C8-B484-EC19A67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D1B-DA54-4A15-836A-426181E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3BB-EBBA-4438-A03C-3E753D8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44D-F907-4A81-9FB5-5FA16AD5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4C2-2A48-476B-925F-B98CA02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EA41A9-C359-4E90-A2C6-D7DD63B9ABF0}" type="slidenum"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683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144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689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4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37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6017BA-6BE5-4CE8-9B5E-31A6D7469BD1}" type="slidenum"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683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144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Verdana"/>
              </a:rPr>
              <a:t>Niveles de Análisis de las Teorías de                    Lideraz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81760" y="5084640"/>
            <a:ext cx="455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Curso Liderazgo y Trabajo en Equip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Programa Complementario de Licenciatur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Facultad de Medic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Academico: Jaime Muñoz 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2000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de Rasgo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Pensamiento Clave: </a:t>
            </a: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“Los lideres nacen, no se hacen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Esta teoría intenta determinar características distintivas que expliquen la eficacia del liderazgo analizando </a:t>
            </a: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rasgos físicos y psicológicos o cualidades, como altos niveles de energía, apariencia, agresividad, independencia, poder de persuasión y domini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La lista de rasgos debía emplearse como requisito para promover a candidatos a posiciones de lideraz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1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a3d7a"/>
                </a:solidFill>
                <a:latin typeface="Verdana"/>
              </a:rPr>
              <a:t>Paradigma de la Teoría del Comportamiento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Trata de explicar ya sea los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estilos distintivos de los lideres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o bien de definir la naturaleza de su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as 10 Funciones administrativas de Mintzberg, por ejemplo, buscan formas de clasificar el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mportamiento del lider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ara facilitar nuestra comprensión del liderazg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intento identificar las diferencias entre el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roceder 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de los buenos líderes y el de los ineficac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1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radigma del Liderazgo por Contingenci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Al igual que a la de comportamiento, a la de contingencia, se le llama </a:t>
            </a:r>
            <a:r>
              <a:rPr b="0" i="1" lang="en-GB" sz="2000" spc="-1" strike="noStrike">
                <a:solidFill>
                  <a:srgbClr val="1f4081"/>
                </a:solidFill>
                <a:latin typeface="Verdana"/>
              </a:rPr>
              <a:t>teorías universales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, ya que aplican para todas las situaciones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Trata de explicar la efectividad de un estilo de liderazgo en función del líder, los seguidores y la situació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Destaca la importancia de factores situacional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407960" indent="-49356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jemplos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Ambiente extern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Trabajo Realiza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Características de los seguido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7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67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Integral del Liderazg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Tratan de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mbinar las teorías de rasgos, del comportamiento y de contingencias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ara explicar por que son fructíferas ciertas relaciones de influencia entre líder y seguidore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busca explicar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or que los seguidores de algunos líderes se muestran dispuestos a trabajar arduamente y a hacer sacrificios para lograr objetivos de grupo y la organizació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5000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67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del Liderazgo Carismátic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a teoría dice que los seguidores atribuyen al líder un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apacidad sobrehumana o extraordinaria cuando observa ciertas conduct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Características centrales de los líderes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Autoconfianza, Capacidad para articular los sueños, Clara convicción del sueño, Conducta fuera de lo normal y sensibles al entorno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3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ESTILOS DE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2101680"/>
            <a:ext cx="7772400" cy="41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e tipo de líder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ordena y espera obedienci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, no toma en cuenta al personal, lo cual hace que la antipatía se haga latente, dando lugar a la resistenci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leva un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ntrol exhaustivo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de las acciones de cada trabajador. </a:t>
            </a:r>
            <a:br>
              <a:rPr sz="2400"/>
            </a:b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os empleados se pueden sentir desvalorados ya que sus conocimientos o habilidades no son tomados en cuenta y su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espontaneidad/creatividad no es fomentad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99072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Autocrátic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3000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Verdana"/>
              </a:rPr>
              <a:t>DEMOCRÁTICO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e enfoque implic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oca supervisión y delegación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de Funciones (responsabilidades)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crea un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ambiente de participación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or parte de la gerencia para que las personas subordinadas puedan no sólo contribuir al proceso de la toma de decisiones, sino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nfiar también en su propia capacidad de trabaj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9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TERNALIST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l líder paternalist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opta por la superprotecció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La iniciativa no se valor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, puesto que el líder quiere hacer todo él sol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e gusta que el personal recurra a él para solucionar los problemas, lo que trae como consecuenci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unos trabajadores inmaduros, indecisos e inseguros</a:t>
            </a:r>
            <a:r>
              <a:rPr b="0" lang="en-GB" sz="2400" spc="-1" strike="noStrike">
                <a:solidFill>
                  <a:srgbClr val="5b524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7000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Lasseiz-Faire”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ste término francés puede traducirse como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"dejar hacer"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 o "dejar que las cosas sigan su cauce"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Más que "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máxima libertad personal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", se refleja como una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 falta de liderazgo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, ya que nadie parece estar al cargo,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nadie dirige ni exige nada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stos lideres son suaves e indulgent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Permiten que sus seguidores hagan prácticamente lo que quieren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Los empleados pueden demostrar sus conocimientos sin ningún tipo de presión,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pero la desorganización está asegurada, dado el vacío de poder directiv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1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7800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Verdana"/>
              </a:rPr>
              <a:t>Una forma de clasificar la teoría y las investigaciones del liderazgo es mediante niveles de análisis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f4081"/>
                </a:solidFill>
                <a:latin typeface="Verdana"/>
              </a:rPr>
              <a:t>Los tres niveles de análisis so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97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a3d7a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7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Muchos piensan que si alguien no es un ejecutivo, un general o un presidente, no puede ser un buen líder. Esto es fals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Un líder es todo aquel que dirige un equipo, aunque esté compuesto por pocas personas</a:t>
            </a: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A pesar de considerarse un asunto místico poco asociado con otras habilidades, el liderazgo es, en realidad, la capacidad de sacar mayor partido de un equipo en cualquier circunstancia</a:t>
            </a:r>
            <a:r>
              <a:rPr b="1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5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Individ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El nivel de análisis se concentra en el líder y su relación con cada uno de sus seguidore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Times New Roman"/>
              </a:rPr>
              <a:t>Se le llama tambien “proceso didactico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5440" y="380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Grup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concentra en la relación entre el líder y sus seguidores en conju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También se le llama “proceso de grupo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Organizacio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concentra en la organ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le conoce como “Proceso Organizacional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810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¿Cómo se interrelacionan  los Niveles de Análisis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1219320"/>
            <a:ext cx="381456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En la base del triangulo se encuentra el nivel individual, ya que ambos, el grupo y organización están basados en el individuo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La interacción de estas variables llegan a fundamentar de una manera más completa las teorías sobre liderazgo.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773360"/>
            <a:ext cx="3433680" cy="2800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 rot="18360000">
            <a:off x="63360" y="2595600"/>
            <a:ext cx="1898640" cy="56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3480000">
            <a:off x="1973160" y="2925720"/>
            <a:ext cx="2884320" cy="680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ganizaciones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4724280"/>
            <a:ext cx="259272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dividuo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radigmas de la teoría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del   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1f4081"/>
                </a:solidFill>
                <a:latin typeface="Times New Roman"/>
              </a:rPr>
              <a:t>Planteamiento compartido que  representa una forma fundamental de pensar, percibir, estudiar, investigar y entender el liderazg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6880" y="11685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Verdana"/>
              </a:rPr>
              <a:t>PARADIGMA del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6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NACIO</dc:creator>
  <dc:description/>
  <dc:language>en-US</dc:language>
  <cp:lastModifiedBy>Jaime Muñoz</cp:lastModifiedBy>
  <cp:revision>0</cp:revision>
  <dc:subject/>
  <dc:title>Niveles de Análisis de las Teorías de                    Liderazgo</dc:title>
</cp:coreProperties>
</file>