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8CD-3423-4CCD-9FAE-ABAEB096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660-79DD-491C-8F54-47D416F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366-2A4A-4178-8EF2-66FCEDA3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5F7-DA11-44AD-BAE9-709375C1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E375-59DF-4A6B-A0A7-742406C1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389B-C54A-4673-996F-B6553E0B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7EF-24D8-4EFD-BFF5-2079AD36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5294-F5F9-44B6-B816-F85AA2A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2C49-6CF7-482B-8C28-AEE82558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CAFE-DFE8-4510-BEDB-F082F8C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0E23-9968-41B8-9250-A6C3F19D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D45-E78F-49D0-A430-9C453556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77DD-4F82-4119-9885-B27876B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DDD0-DABB-4CEE-9F48-52EB67C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7E0D-CEF7-48CC-BC77-883DAC7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D610-5E5D-4457-929C-39A9D1EE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4AF-CEE1-4569-B43C-651AC66D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236-2A89-4E69-9BB5-6F8DD223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88F-A4A0-4741-9B83-C5B17145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EA5-E2BA-4A1A-B326-B5AA96A4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AFF-37FD-4BF1-8392-D376132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A6C-A080-4553-8047-C8DA4EE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43E-D1D1-4E97-AD8C-658341A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6D2-6266-484F-900C-07B61C2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C8BB-FA1E-4BA1-A598-4FD307D5C2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82AD-E036-4F63-A9ED-EB5B25C0B9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teso.mx/~gerardpv/inv1/baro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Pod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sicología social y del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 terapia ocupacional al igual que otros saberes disciplinares opera sobre el cuerpo, como señalan (Tirado y Doménech 2001), de la siguiente forma 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- distribuyendo a los individuos en el espacio a partir de la clausura, para esto define lugares para habitar, clasificaciones para asignar y crea seri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- gestionando la actividad de los individuos pautando estrictamente el empleo del tiemp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3.-organizando globalmente la temporalidad, se genera un tiempo lineal, orientando hacia una meta y un futuro 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4.- componiendo fuerzas en totalidades, de modo que el individuo comprenda que es parte de un engranaje y que su acción se inscribe en un proyecto globa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 (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énech, 200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Honderich, T. (2001) Enciclopedia Oxford de filosofía. Oxford University Pr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Vidarte, F.; Ramperéz, J.F. (2005). Filosofías del siglo XX. Editorial sint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enech (2001).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xtituciones: del poder y sus anatomías. Política y Sociedad, 36, 191-20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Medrado, B. (2002). </a:t>
            </a:r>
            <a:r>
              <a:rPr b="0" i="1" lang="es-CL" sz="2100" spc="-1" strike="noStrike">
                <a:solidFill>
                  <a:srgbClr val="000000"/>
                </a:solidFill>
                <a:latin typeface="Verdana"/>
              </a:rPr>
              <a:t>Tempo ao Tempo. A gestao da vida em idad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Tese doutorado. Sao Paulo: Pontificia Universidade Católica de Sao Paulo. (PUC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vila- Fuenmayor, F. (2007) El concepto de poder en Michel Foucault. A parte Rei 53 1- 16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udios sobre la paz y los conflictos. En: </a:t>
            </a:r>
            <a:r>
              <a:rPr b="0" lang="es-CL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iteso.mx/~gerardpv/inv1/baro.htm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consultada el 2 de junio del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cepto central en filosofía política y en otros ámbitos de investig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es una noción causal: produce 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s poder es aditivo (“reunanse unas cuantas migajas de poder y se obtendrá una buena porción de el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ip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intercambio: recursos físicos y de organización que aporta una econom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coordinación: recurso que aportan los individuos coordin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homas Hobb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puso que un poder soberano revestido de todos los poderes produciría un orden tal que mejoraría la vida de todos los ciudadan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Mar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de una clase dirigente tiene que ser explicado por las relaciones de pro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Basado en el poder de coordinación de grandes grupos revolucion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Ideas generales en poder han sido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lguien o algún grupo tiene el poder y lo usa para algún f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ucault no parte de este presupu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ichel Foucau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 interés en el poder, era la manera en que produce su propio 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se canaliza, mediante diversas tecnologías, circula y se distribuy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produce verdad y mantiene un relación con el sa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- saber (tecnología de pod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rtín-Bar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real se manifiesta: como autoridad legal, modelo moral, poseedor de recursos, poseedor de mecanismos coercitiv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se da e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dos los ámbitos de la vida cotidian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o sólo en lo polít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mite a quien lo posee imponer su voluntad pasando por encima de las motivaciones personales y de las razones social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ísticas del poder es que se da en las relaciones sociales, se basa en la posesión de recursos y produce un efecto en las mismas relaciones soci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han ido instaurando saberes/poderes disciplinares en torno al cuidado de los cuerpos[1], las mentes y las almas</a:t>
            </a: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[2]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. Estos saberes se han desarrollado precisamente para un mejor gobierno de esos cuerpos y esas subjetividades (Medrado, 2002). </a:t>
            </a:r>
            <a:br>
              <a:rPr sz="3000"/>
            </a:br>
            <a:r>
              <a:rPr b="0" lang="es-ES" sz="1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médicos, esteticistas, entrenadores deportivo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[2]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educadores, trabajadores sociales y todos los profesionales “psi”, T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5:14:29Z</dcterms:created>
  <dc:creator>Fac. de Medicina</dc:creator>
  <dc:description/>
  <dc:language>en-US</dc:language>
  <cp:lastModifiedBy>Fac. de Medicina</cp:lastModifiedBy>
  <dcterms:modified xsi:type="dcterms:W3CDTF">2009-06-02T16:10:30Z</dcterms:modified>
  <cp:revision>6</cp:revision>
  <dc:subject/>
  <dc:title>Poder</dc:title>
</cp:coreProperties>
</file>