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63C-2B1A-4A4B-8877-9C4C73BA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77F-36E7-4806-AFCF-A181A72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AED-6416-4391-8432-2D637E10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80C-EF9D-4B9B-81BA-11647BB7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2943-34AC-4A00-9A92-33892083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EB01-53C0-4391-8627-A04CED6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61D4-1DEA-4E9E-9989-8715897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800-C9C6-4BDA-B203-C7B348E1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26E8-CDB1-4C45-A327-A9E1C11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E3F0-7B50-415D-AC1B-0B0C5DE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2366-7FCC-4BB6-AE31-7CA2693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A53-8483-44BC-BC7D-8775A02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E44A-DF4F-4303-BCFC-A01E386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73D7-1810-4765-867B-F3F7BD2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F3D-3528-4E33-81DC-C771723B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3DEA-DCD1-4127-9C26-F357F631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93FF-AF3A-49BC-872E-129B2AD9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669-D843-440B-B8E6-123BCAB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A74-83A0-45D0-8FC3-89D338B8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DEC-896F-4A08-A95C-6C9F35F2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6D5-1191-4507-B167-AB6296D5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EF1-028C-42E3-BFC8-CFAE2CF4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7A2-7D61-41EA-A2B5-6E03BEA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400-A1B2-4B69-9F49-31ED608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CB72-5505-4E85-B1DB-0BB7DA64F8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F40D-ECB2-402C-84C2-7CE9822063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o.mx/~gerardpv/inv1/baro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Pod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sicología social y del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 terapia ocupacional al igual que otros saberes disciplinares opera sobre el cuerpo, como señalan (Tirado y Doménech 2001), de la siguiente forma 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- distribuyendo a los individuos en el espacio a partir de la clausura, para esto define lugares para habitar, clasificaciones para asignar y crea seri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- gestionando la actividad de los individuos pautando estrictamente el empleo del tiemp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3.-organizando globalmente la temporalidad, se genera un tiempo lineal, orientando hacia una meta y un futuro 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4.- componiendo fuerzas en totalidades, de modo que el individuo comprenda que es parte de un engranaje y que su acción se inscribe en un proyecto globa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 (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énech, 200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Honderich, T. (2001) Enciclopedia Oxford de filosofía. Oxford University Pr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idarte, F.; Ramperéz, J.F. (2005). Filosofías del siglo XX. Editorial sint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enech (2001).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xtituciones: del poder y sus anatomías. Política y Sociedad, 36, 191-20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Medrado, B. (2002). </a:t>
            </a:r>
            <a:r>
              <a:rPr b="0" i="1" lang="es-CL" sz="2100" spc="-1" strike="noStrike">
                <a:solidFill>
                  <a:srgbClr val="000000"/>
                </a:solidFill>
                <a:latin typeface="Verdana"/>
              </a:rPr>
              <a:t>Tempo ao Tempo. A gestao da vida em idad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Tese doutorado. Sao Paulo: Pontificia Universidade Católica de Sao Paulo. (PUC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vila- Fuenmayor, F. (2007) El concepto de poder en Michel Foucault. A parte Rei 53 1- 16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udios sobre la paz y los conflictos. En: </a:t>
            </a:r>
            <a:r>
              <a:rPr b="0" lang="es-CL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iteso.mx/~gerardpv/inv1/baro.htm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consultada el 2 de junio del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cepto central en filosofía política y en otros ámbitos de investig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es una noción causal: produce 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s poder es aditivo (“reunanse unas cuantas migajas de poder y se obtendrá una buena porción de el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ip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intercambio: recursos físicos y de organización que aporta una econom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coordinación: recurso que aportan los individuos coordin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homas Hobb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puso que un poder soberano revestido de todos los poderes produciría un orden tal que mejoraría la vida de todos los ciudada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de una clase dirigente tiene que ser explicado por las relaciones de pro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Basado en el poder de coordinación de grandes grupos revolucion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Ideas generales en poder han sido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lguien o algún grupo tiene el poder y lo usa para algún f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ucault no parte de este presupu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ichel Fouca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 interés en el poder, era la manera en que produce su propio 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se canaliza, mediante diversas tecnologías, circula y se distribuy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produce verdad y mantiene un relación con el sa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- saber (tecnología de pod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rtín-Bar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real se manifiesta: como autoridad legal, modelo moral, poseedor de recursos, poseedor de mecanismos coercitiv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se da e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dos los ámbitos de la vida cotidian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o sólo en lo polít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a quien lo posee imponer su voluntad pasando por encima de las motivaciones personales y de las razones social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ísticas del poder es que se da en las relaciones sociales, se basa en la posesión de recursos y produce un efecto en las mismas relaciones soci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han ido instaurando saberes/poderes disciplinares en torno al cuidado de los cuerpos[1], las mentes y las almas</a:t>
            </a: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. Estos saberes se han desarrollado precisamente para un mejor gobierno de esos cuerpos y esas subjetividades (Medrado, 2002). </a:t>
            </a:r>
            <a:br>
              <a:rPr sz="3000"/>
            </a:br>
            <a:r>
              <a:rPr b="0" lang="es-ES" sz="1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médicos, esteticistas, entrenadores deportivo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[2]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educadores, trabajadores sociales y todos los profesionales “psi”, 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4:29Z</dcterms:created>
  <dc:creator>Fac. de Medicina</dc:creator>
  <dc:description/>
  <dc:language>en-US</dc:language>
  <cp:lastModifiedBy>Fac. de Medicina</cp:lastModifiedBy>
  <dcterms:modified xsi:type="dcterms:W3CDTF">2009-06-02T16:10:30Z</dcterms:modified>
  <cp:revision>6</cp:revision>
  <dc:subject/>
  <dc:title>Poder</dc:title>
</cp:coreProperties>
</file>