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B5C-D612-4ED5-865E-E6C42891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49C-2A90-4E97-A6CE-6371C92E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52C-37CF-48A1-B6C6-FC9CD099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43B-1A21-4E4B-92C7-CFF88B4F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717F-FCA7-4421-83DF-D5E53AC5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777E-C301-491F-A908-50D0FA37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7925-7CC6-40F0-9140-A4CBDFB7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CB0D-1AF7-4C58-B777-4021EF85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ED38-F67B-4300-A5A8-C3537EF8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074C-1F31-410C-A1A0-99E024A0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7F65-3CC3-42DD-89D7-404BEC97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387-F4C7-45F8-B088-D39E95E6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658A-8500-48D7-B7DC-A47948C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6539-FF9D-4CBE-B974-949CD26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8948-E0D2-43E7-A358-C05EA5E5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713-1F58-4F60-90B0-CEF2F59D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D430-71B5-42B8-AEBC-E4A51ABB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A9F-BA04-4A6C-A853-7F5F3CEA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81D-FC75-4869-8DDD-2CA5298D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5A4-86B6-4770-B4A2-8035C30E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61B-350D-4EF0-B47A-6028947A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EC2-9D0C-41D3-AD0C-277DF7B7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8FC-3FBA-4E29-B060-1A7BED32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F9B-4FEC-43B5-BBBB-65B3BB45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044A-0B4F-49B4-BE79-9E43D0CFD0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CEAA-2ACC-460D-9D5C-C85AF1B802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teso.mx/~gerardpv/inv1/baro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Pod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sicología social y del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 terapia ocupacional al igual que otros saberes disciplinares opera sobre el cuerpo, como señalan (Tirado y Doménech 2001), de la siguiente forma 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- distribuyendo a los individuos en el espacio a partir de la clausura, para esto define lugares para habitar, clasificaciones para asignar y crea seri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- gestionando la actividad de los individuos pautando estrictamente el empleo del tiemp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3.-organizando globalmente la temporalidad, se genera un tiempo lineal, orientando hacia una meta y un futuro 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4.- componiendo fuerzas en totalidades, de modo que el individuo comprenda que es parte de un engranaje y que su acción se inscribe en un proyecto globa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 (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énech, 200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Honderich, T. (2001) Enciclopedia Oxford de filosofía. Oxford University Pr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Vidarte, F.; Ramperéz, J.F. (2005). Filosofías del siglo XX. Editorial sint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enech (2001).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xtituciones: del poder y sus anatomías. Política y Sociedad, 36, 191-20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Medrado, B. (2002). </a:t>
            </a:r>
            <a:r>
              <a:rPr b="0" i="1" lang="es-CL" sz="2100" spc="-1" strike="noStrike">
                <a:solidFill>
                  <a:srgbClr val="000000"/>
                </a:solidFill>
                <a:latin typeface="Verdana"/>
              </a:rPr>
              <a:t>Tempo ao Tempo. A gestao da vida em idad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Tese doutorado. Sao Paulo: Pontificia Universidade Católica de Sao Paulo. (PUC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vila- Fuenmayor, F. (2007) El concepto de poder en Michel Foucault. A parte Rei 53 1- 16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udios sobre la paz y los conflictos. En: </a:t>
            </a:r>
            <a:r>
              <a:rPr b="0" lang="es-CL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iteso.mx/~gerardpv/inv1/baro.htm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consultada el 2 de junio del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cepto central en filosofía política y en otros ámbitos de investig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es una noción causal: produce result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s poder es aditivo (“reunanse unas cuantas migajas de poder y se obtendrá una buena porción de el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ip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intercambio: recursos físicos y de organización que aporta una econom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coordinación: recurso que aportan los individuos coordin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homas Hobb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puso que un poder soberano revestido de todos los poderes produciría un orden tal que mejoraría la vida de todos los ciudadan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Mar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de una clase dirigente tiene que ser explicado por las relaciones de pro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Basado en el poder de coordinación de grandes grupos revolucion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Ideas generales en poder han sido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lguien o algún grupo tiene el poder y lo usa para algún f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ucault no parte de este presupu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ichel Foucaul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 interés en el poder, era la manera en que produce su propio 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se canaliza, mediante diversas tecnologías, circula y se distribuy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produce verdad y mantiene un relación con el sa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- saber (tecnología de pod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rtín-Bar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real se manifiesta: como autoridad legal, modelo moral, poseedor de recursos, poseedor de mecanismos coercitiv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se da e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odos los ámbitos de la vida cotidian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o sólo en lo polític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mite a quien lo posee imponer su voluntad pasando por encima de las motivaciones personales y de las razones social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ísticas del poder es que se da en las relaciones sociales, se basa en la posesión de recursos y produce un efecto en las mismas relaciones socia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han ido instaurando saberes/poderes disciplinares en torno al cuidado de los cuerpos[1], las mentes y las almas</a:t>
            </a: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[2]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. Estos saberes se han desarrollado precisamente para un mejor gobierno de esos cuerpos y esas subjetividades (Medrado, 2002). </a:t>
            </a:r>
            <a:br>
              <a:rPr sz="3000"/>
            </a:br>
            <a:r>
              <a:rPr b="0" lang="es-ES" sz="1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médicos, esteticistas, entrenadores deportivo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[2]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educadores, trabajadores sociales y todos los profesionales “psi”, T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5:14:29Z</dcterms:created>
  <dc:creator>Fac. de Medicina</dc:creator>
  <dc:description/>
  <dc:language>en-US</dc:language>
  <cp:lastModifiedBy>Fac. de Medicina</cp:lastModifiedBy>
  <dcterms:modified xsi:type="dcterms:W3CDTF">2009-06-02T16:10:30Z</dcterms:modified>
  <cp:revision>6</cp:revision>
  <dc:subject/>
  <dc:title>Poder</dc:title>
</cp:coreProperties>
</file>