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751-58B8-45C5-833D-E5F4DAE1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612-40A6-4051-9491-2B46E86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9CA-7D57-4C37-8560-4EF1F648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E4E-DBDC-4EA2-8455-A43D8E60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B533-839B-42BC-AE00-9BBC0805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C85C-6804-4AE1-8BD5-C3FB4E1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EBE-775B-41EA-AF63-4391BC26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5367-9FB7-41AE-B3CC-A63D305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6D9-AD58-4942-BB61-4539B3D3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51AB-7D59-4B11-9DB6-CF1A6648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EC48-17F5-4990-961C-0138F1B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464-6978-4ED5-BBE0-C3058FE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41EB-09B0-4963-9273-6DF2640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4655-ABD2-449C-9E8E-E5B8FCF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05D0-8F1B-4A8B-A3A9-781118D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D446-3529-4A24-B23A-E91804B2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94D3-55A2-4FCE-BB30-EECEE968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0E3-EF1E-4433-83B5-17006CA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EDF-7CE5-42CD-9565-3CE7FEB6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2E5-F7CE-48BA-97A4-C14C8F3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5BF-FA8A-4A74-9806-438DED05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812-4A7C-44B1-B60B-DE267EE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B17-DC4B-4340-82C2-FC0A3AB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0ED-D6A6-43DE-A3B9-47CC885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9AA-476F-4CE4-B4AF-78B27A83DC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06A7-A4E3-4C27-92D1-51BCD729E6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o.mx/~gerardpv/inv1/baro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Pod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sicología social y del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 terapia ocupacional al igual que otros saberes disciplinares opera sobre el cuerpo, como señalan (Tirado y Doménech 2001), de la siguiente forma 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- distribuyendo a los individuos en el espacio a partir de la clausura, para esto define lugares para habitar, clasificaciones para asignar y crea seri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- gestionando la actividad de los individuos pautando estrictamente el empleo del tiemp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3.-organizando globalmente la temporalidad, se genera un tiempo lineal, orientando hacia una meta y un futuro 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4.- componiendo fuerzas en totalidades, de modo que el individuo comprenda que es parte de un engranaje y que su acción se inscribe en un proyecto globa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 (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énech, 200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Honderich, T. (2001) Enciclopedia Oxford de filosofía. Oxford University Pr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idarte, F.; Ramperéz, J.F. (2005). Filosofías del siglo XX. Editorial sint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enech (2001).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xtituciones: del poder y sus anatomías. Política y Sociedad, 36, 191-20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Medrado, B. (2002). </a:t>
            </a:r>
            <a:r>
              <a:rPr b="0" i="1" lang="es-CL" sz="2100" spc="-1" strike="noStrike">
                <a:solidFill>
                  <a:srgbClr val="000000"/>
                </a:solidFill>
                <a:latin typeface="Verdana"/>
              </a:rPr>
              <a:t>Tempo ao Tempo. A gestao da vida em idad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Tese doutorado. Sao Paulo: Pontificia Universidade Católica de Sao Paulo. (PUC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vila- Fuenmayor, F. (2007) El concepto de poder en Michel Foucault. A parte Rei 53 1- 16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udios sobre la paz y los conflictos. En: </a:t>
            </a:r>
            <a:r>
              <a:rPr b="0" lang="es-CL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iteso.mx/~gerardpv/inv1/baro.htm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consultada el 2 de junio del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cepto central en filosofía política y en otros ámbitos de investig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es una noción causal: produce 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s poder es aditivo (“reunanse unas cuantas migajas de poder y se obtendrá una buena porción de el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ip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intercambio: recursos físicos y de organización que aporta una econom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coordinación: recurso que aportan los individuos coordin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homas Hobb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puso que un poder soberano revestido de todos los poderes produciría un orden tal que mejoraría la vida de todos los ciudada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de una clase dirigente tiene que ser explicado por las relaciones de pro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Basado en el poder de coordinación de grandes grupos revolucion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Ideas generales en poder han sido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lguien o algún grupo tiene el poder y lo usa para algún f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ucault no parte de este presupu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ichel Fouca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 interés en el poder, era la manera en que produce su propio 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se canaliza, mediante diversas tecnologías, circula y se distribuy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produce verdad y mantiene un relación con el sa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- saber (tecnología de pod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rtín-Bar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real se manifiesta: como autoridad legal, modelo moral, poseedor de recursos, poseedor de mecanismos coercitiv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se da e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dos los ámbitos de la vida cotidian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o sólo en lo polít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a quien lo posee imponer su voluntad pasando por encima de las motivaciones personales y de las razones social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ísticas del poder es que se da en las relaciones sociales, se basa en la posesión de recursos y produce un efecto en las mismas relaciones soci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han ido instaurando saberes/poderes disciplinares en torno al cuidado de los cuerpos[1], las mentes y las almas</a:t>
            </a: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. Estos saberes se han desarrollado precisamente para un mejor gobierno de esos cuerpos y esas subjetividades (Medrado, 2002). </a:t>
            </a:r>
            <a:br>
              <a:rPr sz="3000"/>
            </a:br>
            <a:r>
              <a:rPr b="0" lang="es-ES" sz="1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médicos, esteticistas, entrenadores deportivo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[2]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educadores, trabajadores sociales y todos los profesionales “psi”, 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4:29Z</dcterms:created>
  <dc:creator>Fac. de Medicina</dc:creator>
  <dc:description/>
  <dc:language>en-US</dc:language>
  <cp:lastModifiedBy>Fac. de Medicina</cp:lastModifiedBy>
  <dcterms:modified xsi:type="dcterms:W3CDTF">2009-06-02T16:10:30Z</dcterms:modified>
  <cp:revision>6</cp:revision>
  <dc:subject/>
  <dc:title>Poder</dc:title>
</cp:coreProperties>
</file>