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827B-F876-444D-A29D-4502AD7BE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0542-F517-46E8-BA5C-3EB72B5B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4326-0C4B-42CE-9976-0D9E21693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4EC1-9C32-453A-95E2-96B399773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7B59A-8BAD-4A97-9A4A-C6750A2B1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E035-F88E-4421-AF58-13DF131B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77EB-1805-4DA8-83EB-CB927FD2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C1A7-C079-49A9-92AC-B9440096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EEE3-5698-4CF9-9CE4-FE42AF64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85D3-57A8-4F86-9B74-F7311917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5586-9669-4E38-85D2-F4E02291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375C-4DC4-4585-B6B5-44114832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FC6C-7919-4FBA-BC46-7006BD03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664A-E461-4E7B-ABA2-220F6947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BF220-132C-46CE-BC66-6564A917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7455-E7EE-45E6-8573-401C3E891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386B-286C-4563-B50F-0AA5943D4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C9AE-584B-47E4-834A-77BC6209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CA7F-E77E-4B7F-A8E9-D8ED0337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7CC8-DE7B-4463-89BA-6B125D21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EA77-25E9-48E0-BB40-B9A12103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C6C3-D0D8-4DF8-9640-FED18F38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72CB-E0EB-4248-BDAA-0D9D72AD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D17B-621B-4967-AD3F-6F9D1AF5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1666-3129-4712-AFA3-17DFA661751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650C-F484-406F-AFE7-A520ABB5B46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teso.mx/~gerardpv/inv1/baro.html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Verdana"/>
              </a:rPr>
              <a:t>Pode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Psicología social y del trabaj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TO /Disciplina / Pod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a terapia ocupacional al igual que otros saberes disciplinares opera sobre el cuerpo, como señalan (Tirado y Doménech 2001), de la siguiente forma 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1.- distribuyendo a los individuos en el espacio a partir de la clausura, para esto define lugares para habitar, clasificaciones para asignar y crea series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2.- gestionando la actividad de los individuos pautando estrictamente el empleo del tiempo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3.-organizando globalmente la temporalidad, se genera un tiempo lineal, orientando hacia una meta y un futuro y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4.- componiendo fuerzas en totalidades, de modo que el individuo comprenda que es parte de un engranaje y que su acción se inscribe en un proyecto global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 (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Tirado y Doménech, 2001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Referencias Bibliográfic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Honderich, T. (2001) Enciclopedia Oxford de filosofía. Oxford University Pres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Vidarte, F.; Ramperéz, J.F. (2005). Filosofías del siglo XX. Editorial sintesi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Tirado y Domenech (2001). 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Extituciones: del poder y sus anatomías. Política y Sociedad, 36, 191-204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Medrado, B. (2002). </a:t>
            </a:r>
            <a:r>
              <a:rPr b="0" i="1" lang="es-CL" sz="2100" spc="-1" strike="noStrike">
                <a:solidFill>
                  <a:srgbClr val="000000"/>
                </a:solidFill>
                <a:latin typeface="Verdana"/>
              </a:rPr>
              <a:t>Tempo ao Tempo. A gestao da vida em idade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. Tese doutorado. Sao Paulo: Pontificia Universidade Católica de Sao Paulo. (PUC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Avila- Fuenmayor, F. (2007) El concepto de poder en Michel Foucault. A parte Rei 53 1- 16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Estudios sobre la paz y los conflictos. En: </a:t>
            </a:r>
            <a:r>
              <a:rPr b="0" lang="es-CL" sz="21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iteso.mx/~gerardpv/inv1/baro.html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, consultada el 2 de junio del 2009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Defini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Concepto central en filosofía política y en otros ámbitos de investig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El poder es una noción causal: produce resulta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Es poder es aditivo (“reunanse unas cuantas migajas de poder y se obtendrá una buena porción de el”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Tip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Poder de intercambio: recursos físicos y de organización que aporta una economí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Poder de coordinación: recurso que aportan los individuos coordina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Thomas Hobb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Supuso que un poder soberano revestido de todos los poderes produciría un orden tal que mejoraría la vida de todos los ciudadan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Karl Marx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El poder de una clase dirigente tiene que ser explicado por las relaciones de produc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Basado en el poder de coordinación de grandes grupos revolucionar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Verdana"/>
              </a:rPr>
              <a:t>Ideas generales en poder han sido: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Alguien o algún grupo tiene el poder y lo usa para algún fi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Foucault no parte de este presupues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Michel Foucaul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Su interés en el poder, era la manera en que produce su propio suje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El poder se canaliza, mediante diversas tecnologías, circula y se distribuy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El poder produce verdad y mantiene un relación con el sab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Poder- saber (tecnología de pode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Martín-Baró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l poder real se manifiesta: como autoridad legal, modelo moral, poseedor de recursos, poseedor de mecanismos coercitivo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l poder se da en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todos los ámbitos de la vida cotidiana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, no sólo en lo polític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ermite a quien lo posee imponer su voluntad pasando por encima de las motivaciones personales y de las razones sociales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aracterísticas del poder es que se da en las relaciones sociales, se basa en la posesión de recursos y produce un efecto en las mismas relaciones social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TO /Disciplina / Pod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se han ido instaurando saberes/poderes disciplinares en torno al cuidado de los cuerpos[1], las mentes y las almas</a:t>
            </a:r>
            <a:r>
              <a:rPr b="0" lang="es-MX" sz="30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[2]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. Estos saberes se han desarrollado precisamente para un mejor gobierno de esos cuerpos y esas subjetividades (Medrado, 2002). </a:t>
            </a:r>
            <a:br>
              <a:rPr sz="3000"/>
            </a:br>
            <a:r>
              <a:rPr b="0" lang="es-ES" sz="1400" spc="-1" strike="noStrike" u="sng">
                <a:solidFill>
                  <a:srgbClr val="336699"/>
                </a:solidFill>
                <a:uFillTx/>
                <a:latin typeface="Verdana"/>
                <a:hlinkClick r:id="rId3" action="ppaction://hlinksldjump"/>
              </a:rPr>
              <a:t>[1]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(médicos, esteticistas, entrenadores deportivos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[2] 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(educadores, trabajadores sociales y todos los profesionales “psi”, TO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5:14:29Z</dcterms:created>
  <dc:creator>Fac. de Medicina</dc:creator>
  <dc:description/>
  <dc:language>en-US</dc:language>
  <cp:lastModifiedBy>Fac. de Medicina</cp:lastModifiedBy>
  <dcterms:modified xsi:type="dcterms:W3CDTF">2009-06-02T16:10:30Z</dcterms:modified>
  <cp:revision>6</cp:revision>
  <dc:subject/>
  <dc:title>Poder</dc:title>
</cp:coreProperties>
</file>