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62D18A-FEAC-4963-A576-1F1B0A3DD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ECB62F-B0DD-4FF5-8F32-59ED1D7B3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C5A8CA-C6F4-4FCB-9823-5A46B6E6B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C7D978-D33E-416E-ACC3-3CD9B94E0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2B86E-1F66-4A97-86F2-EA2C0D8D1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DCA35-924C-4F72-9572-5445AD216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89589-CA0E-41AF-9DC2-33205D65C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570F7-50EE-4127-B642-940B4C318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D8B24-54C4-4E6C-BB0C-CFF478728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716EE-2D14-43E4-B6E9-975C293AA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AE7E5-5F15-4A84-B426-26AC6CCDD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8B0286-930F-470A-8464-BD7A3E0F2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4E71F-EEED-486B-8730-C91334CFB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85448-99F2-47DA-8304-E78440D70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96429-6531-4E55-A689-9A213EA9D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093E6-DD81-47C6-9166-FD2B06B94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18453-74C5-4B52-87BA-AA023F63F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A21BCE-6EF7-4808-BCBB-81AC93543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EC5B5D-4D63-4B8F-B2B0-A6E46F648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0A4A1E-0136-4EE5-A4FC-183CB83D6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8F077A-FC88-49AB-B3A6-5134646FB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351CE0-9DFA-4295-817D-DDECF815B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22964C-CCA5-45A6-9B31-99DD808CE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C192C0-1F77-4399-ABA6-867396546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5E99F-C954-4AAB-8811-A2D6A9000C8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849F0-607D-434D-A69B-61DFBE8B843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ffffff"/>
                </a:solidFill>
                <a:latin typeface="Arial"/>
              </a:rPr>
              <a:t>Grupos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Psicología Social y del Trabaj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T.O. Pamela Gutiérrez Monclu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2009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Porque nos agrupam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Atracción hacia los miembros del grup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Proximidad, contacto, interac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Atracción fís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semejan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908000" y="4292640"/>
            <a:ext cx="1656000" cy="165564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3851280" y="5229360"/>
            <a:ext cx="1944720" cy="12967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5867280" y="4292640"/>
            <a:ext cx="1727280" cy="129708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4"/>
          <a:stretch/>
        </p:blipFill>
        <p:spPr>
          <a:xfrm>
            <a:off x="6732720" y="2852640"/>
            <a:ext cx="1114200" cy="116208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5"/>
          <a:stretch/>
        </p:blipFill>
        <p:spPr>
          <a:xfrm>
            <a:off x="324000" y="4653000"/>
            <a:ext cx="1511280" cy="15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Porque nos agrupam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Atracción hacia las actividades del grup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Su objetivos o met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2050920" y="4724280"/>
            <a:ext cx="1727280" cy="172728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3924360" y="3933720"/>
            <a:ext cx="2081160" cy="15573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6156360" y="4508640"/>
            <a:ext cx="1824120" cy="14335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4"/>
          <a:stretch/>
        </p:blipFill>
        <p:spPr>
          <a:xfrm>
            <a:off x="7380360" y="2565360"/>
            <a:ext cx="1382760" cy="183204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5"/>
          <a:stretch/>
        </p:blipFill>
        <p:spPr>
          <a:xfrm>
            <a:off x="250920" y="3284640"/>
            <a:ext cx="1800000" cy="18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Porque nos agrupam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La sola pertenencia a un grupo puede ser satisfactoria en sí mimo y/o facilita la obtención de una serie de recompensas y benefic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5076720" y="3860640"/>
            <a:ext cx="3054600" cy="23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Funciones del grup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Facilita la formación y conformación del y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Apoyo soc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Da inform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s un marco evaluativo y comprensivo de las actitudes, conductas y valo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La estructura grup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 u="sng">
                <a:solidFill>
                  <a:srgbClr val="000000"/>
                </a:solidFill>
                <a:uFillTx/>
                <a:latin typeface="Arial"/>
              </a:rPr>
              <a:t>Normas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: conjunto de reglas, procedimientos y pautas que regulan el comportamiento de los miembros del grupo (explicita o implicita /prescribe proscribe), base para predec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 u="sng">
                <a:solidFill>
                  <a:srgbClr val="000000"/>
                </a:solidFill>
                <a:uFillTx/>
                <a:latin typeface="Arial"/>
              </a:rPr>
              <a:t>Roles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: posición formal ocupada en un grup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Grupos terapéutic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Terapia multifamiliar en dependenci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http://www.multifamiliarnacional.cl/index.ht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Terapia Ocupacional y Grup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Herramienta terapéut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Posibilidad de aprendizaje colecti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TO como dinamizadores y moduladores de las dinámicas grup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Ro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Nor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royectos personales en el grup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onsejería individual y grup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sesoría a agrupacion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Aula digital proximamente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Postc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Apuntes de cl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sto es material que se evaluará en la próxima prueb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Trabajo en parej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¿a qué grupos pertenec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¿qué entendemos por grup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¿cómo se forma un grupo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¿cuáles son las funciones de un grup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Vis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mente grupal independiente” (Le Bon, Durkheim, Mc Dougall, Freud) 1850 +- / 1949+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Actúa por encima de los miembros del grup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Influencia negativa de las mas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7236000" y="692280"/>
            <a:ext cx="1161720" cy="121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Vis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Allport (1924). No hay nada en un grupo diferente  o por encima de las acciones individu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Asch, Kurt Lewin, y Sherif… tomando las ideas de Mead y el interaccionismo simbólico, desarrollaron ideas que vinculaban la interdependencia al concepto de grup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6659640" y="692280"/>
            <a:ext cx="1209600" cy="90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Concepto de grup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Conjunto de elementos, una categoría de seres u obje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Lo constituyen 2 o + individuos interdependientes que se influyen mutuamente a través de la interacción grup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Definiciones basadas 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Interdependencia de sus miembros (motivación u objetiv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Interacción de sus miembros y la estructura so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Identidad o consideración de aspectos perceptivos-cognit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7020000" y="836640"/>
            <a:ext cx="1247760" cy="90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Concepto de grup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Grupo como un todo dinámico, poseedora de realidad propia, producto de la interacción de sus partes componentes y que no se puede considerar simplemente equivalente a la suma de ellas (Morales 1996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Característic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Los miembros comparten valo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Los miembros adquieren recursos y habilidades para particip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Las personas comparten normas, definen roles y logran cohes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Poseen meta/s y liderazgos para la consecución de est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6227640" y="333360"/>
            <a:ext cx="2432160" cy="14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Formación de los grup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Un fenómeno discontinu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Que implica la transformación de un no-grupo a un grup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La perspectiva funcionalis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Indica que la tendencia a agruparse obedece a la posibilidad de satisfacer una necesid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8T19:23:32Z</dcterms:created>
  <dc:creator>Fac. de Medicina</dc:creator>
  <dc:description/>
  <dc:language>en-US</dc:language>
  <cp:lastModifiedBy>Fac. de Medicina</cp:lastModifiedBy>
  <dcterms:modified xsi:type="dcterms:W3CDTF">2009-05-13T14:46:38Z</dcterms:modified>
  <cp:revision>7</cp:revision>
  <dc:subject/>
  <dc:title>Grupos</dc:title>
</cp:coreProperties>
</file>