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8F0-9301-440E-8A63-B0486AD0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9E2-32ED-4DC2-A1F5-D5936EA7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BD0-16AD-4DDC-8FD7-060CAD65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89F-E6FA-4F20-BAAC-4852A210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2B5B-1B3F-46DE-8269-7661C563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AD79-E858-4603-B87F-E8785ABC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DBAB-A6BA-4794-8968-FCDFCD30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F4C4-BED3-4215-8C4C-DB4CB904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FCA7-ED49-4824-A2C4-9C98B9C5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7898-1EE7-43F1-8486-BAB37E5B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281A-7BF6-42DB-8DFA-11793552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5E88-67C5-47A3-9143-7643D814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6BD7-3658-4ED1-933A-9826404E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20F3-E20E-4C6D-B240-7FFCDC89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BF3E-5F1B-4AD8-BD3A-459D5304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3261-9444-43FC-8D00-DB24BF0A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BD3B-E2AC-481B-AFDB-6883504C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B23-9E0A-4E6D-B0E1-AA982993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868-EB8D-4EBF-A38A-B2251356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58E-1B5D-4F0F-88EF-7EE4C58D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049-7CBE-4DCD-BFAA-0A350134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918-1575-4848-8387-0FC4B0ED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878-73B2-43D4-B3DA-3695828E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6EE-CE02-4EB0-B1B7-CA536093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D931-DE3A-432C-AFBD-F1F0A89D6E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459B-8748-4201-A80D-56410890F2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sicologiasocial.uab.es/athenea/index.php/atheneaDigital/index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 y Psicología Soc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sicología social y del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jemp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rvicios sociales y mujeres migr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iempo libre en espacios educa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mprensiones del desarrollo en cooperantes inter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utonomía personal y sus formas de expresión en la cultura chil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ovimiento sociales de discapacidad en ch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psicologiasocial.uab.es/athenea/index.php/atheneaDigital/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junto de medios tanto teoréticos, conceptuales, como técnicos que articula una disciplina para alcanzar sus 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junto de procedimientos utilizados para fundamentar la aceptabilidad científica de los conocimientos elaborados en la discipl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na metodología utilizará técnicas concreta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todología no se debe equiparar a técn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ta del modo en que enfocamos los problemas y buscamos las respues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istóricamente han existido dos maneras de desarrollar investigación en ciencias sociales (la investigación cualitativa y la investigación cuantita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forma dependerá de los objetivos propues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Metod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radicionalmente la racionalidad científica a guiado la metodología en ps. 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Ha utilizado diversos métodos, que responden a supuestos teór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ndencia experimental, debido a la validación de resultados “estadísticamente significativo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de los 80’, apertura metodológica (construcción social de significados, intersubjetividad, y agenc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versas perspectivas como un aporte al conocimiento de “lo socia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Investigación indv- socied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realidad social no puede entenderse con independencia de las actividades tangibles y concretas de los individuos en sus quehacer cotidianos (si no pierde inteligibilida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mirada centrada en el individuo pero equipada (conceptual y metodológicamente) para ver la dimensión que la instituy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tencial emancipador, ya que promueve una mayor comprensión y dilucidación de los proces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Investigación cualita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 basa en métodos de recolección de datos sin medición numérica (describe, obser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emplo: narrativas, observación particip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 propósito es construir la realidad, tal y como la observan los actores en un sistema so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Holí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Investigación cualitati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duc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uiadas por áreas o temas significa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mite la “dispersión y expansión” de los d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investigador forma parte del proceso de investigación (directamente involucra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sarrolla empat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flexividad tanto de los sujetos como de la investigad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be manejar incertidumbre, dilemas ético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uestionamientos a la I. C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cuestiona desde algunas posturas la objetividad v/s objetividad encarn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ificultad de acceder a lo social por sus múltiples factores, por su variación en el tiempo y espa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Que no se puede generalizar (si profundiz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 cuenta con métodos preci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7:30Z</dcterms:created>
  <dc:creator>Fac. de Medicina</dc:creator>
  <dc:description/>
  <dc:language>en-US</dc:language>
  <cp:lastModifiedBy>Fac. de Medicina</cp:lastModifiedBy>
  <dcterms:modified xsi:type="dcterms:W3CDTF">2009-04-07T19:22:16Z</dcterms:modified>
  <cp:revision>3</cp:revision>
  <dc:subject/>
  <dc:title>Metodología y Psicología Social</dc:title>
</cp:coreProperties>
</file>