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1D1-09EE-4FDF-8EE1-AC60384C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9127-99FF-43DE-8879-39E87055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375B-3DD6-4D5F-B696-D9EE7691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DDD-82ED-48FE-88C5-27231416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4B0D-5BE1-4901-8B05-F7D6FCFA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4283-A305-47A8-A216-13C426D3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6965-0228-4B8E-AD82-B2DA65DB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A048-A470-46E8-B0C8-CBB2630A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6965-D146-4EB8-8E1B-991BF381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E510-55E0-4ECA-8C75-514C97D2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7F94-3F39-44FA-8061-6C21A1F1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210D-311C-40A8-8DF9-A9CBCDA1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A5F2-9A93-4F4B-A594-859DF373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EF12-51B3-4FF7-B127-AFAAEA48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3719-B60E-48EE-99BF-0EA4ECEF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79A7-3484-45A4-B040-E3E8EE90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1F8E-76D9-4D46-856B-A1276239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33A1-D504-49D8-983F-4E1D683B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446-E0BD-4606-A1B8-BB35550D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DB49-C667-4402-AAF9-D5966412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4C6-EF96-41E7-ABA4-1853E262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01C7-8CA0-4EDA-BEE1-EFEAAD1D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8CD-1F79-4C0A-A504-90422FFE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072-68CE-4C9E-8018-2066DC23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65A4-F4A7-423F-A9BD-4EA05BA958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B290-F636-4176-917F-0EB0743A54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sicologiasocial.uab.es/athenea/index.php/atheneaDigital/index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etodología y Psicología Soc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sicología social y del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rvicios sociales y mujeres migr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 libre en espacios educa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mprensiones del desarrollo en cooperantes intern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utonomía personal y sus formas de expresión en la cultura chil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ovimiento sociales de discapacidad en ch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psicologiasocial.uab.es/athenea/index.php/atheneaDigital/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etod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junto de medios tanto teoréticos, conceptuales, como técnicos que articula una disciplina para alcanzar sus 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junto de procedimientos utilizados para fundamentar la aceptabilidad científica de los conocimientos elaborados en la discipl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na metodología utilizará técnicas concreta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todología no se debe equiparar a técn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etod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rata del modo en que enfocamos los problemas y buscamos las respues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Históricamente han existido dos maneras de desarrollar investigación en ciencias sociales (la investigación cualitativa y la investigación cuantitati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forma dependerá de los objetivos propue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etod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radicionalmente la racionalidad científica a guiado la metodología en ps. 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Ha utilizado diversos métodos, que responden a supuestos teór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Histo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ndencia experimental, debido a la validación de resultados “estadísticamente significativo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sde los 80’, apertura metodológica (construcción social de significados, intersubjetividad, y agenc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versas perspectivas como un aporte al conocimiento de “lo socia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Investigación indv- socie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realidad social no puede entenderse con independencia de las actividades tangibles y concretas de los individuos en sus quehacer cotidianos (si no pierde inteligibilida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mirada centrada en el individuo pero equipada (conceptual y metodológicamente) para ver la dimensión que la instituy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tencial emancipador, ya que promueve una mayor comprensión y dilucidación de los proce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Investigación cualita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 basa en métodos de recolección de datos sin medición numérica (describe, obser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jemplo: narrativas, observación particip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 propósito es construir la realidad, tal y como la observan los actores en un sistema so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Holí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Investigación cualita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duc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uiadas por áreas o temas significa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mite la “dispersión y expansión” de los da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 investigador forma parte del proceso de investigación (directamente involucrad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sarrolla empat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flexividad tanto de los sujetos como de la investigad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be manejar incertidumbre, dilemas ético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uestionamientos a la I. C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cuestiona desde algunas posturas la objetividad v/s objetividad encarn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ficultad de acceder a lo social por sus múltiples factores, por su variación en el tiempo y espa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Que no se puede generalizar (si profundiz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 cuenta con métodos preci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57:30Z</dcterms:created>
  <dc:creator>Fac. de Medicina</dc:creator>
  <dc:description/>
  <dc:language>en-US</dc:language>
  <cp:lastModifiedBy>Fac. de Medicina</cp:lastModifiedBy>
  <dcterms:modified xsi:type="dcterms:W3CDTF">2009-04-07T19:22:16Z</dcterms:modified>
  <cp:revision>3</cp:revision>
  <dc:subject/>
  <dc:title>Metodología y Psicología Social</dc:title>
</cp:coreProperties>
</file>