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DBD5-CB73-40E7-BC27-E0B150FF5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841E-1E55-478A-940F-EC7AC11A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E9C9-52D2-46F7-82AB-297916008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228F-1243-4304-8D83-CB5AC9D23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A278-0AFB-4CFE-872D-EBC2B39F4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05FB-2063-4EAA-B4C6-14BA17DB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D7B2-C2DD-4B4D-915C-85EA4A79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E112-FE2E-4565-90C1-9356047A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F1498-58AB-4C1B-A03C-B25FB9FE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1D75-7303-4EA7-84C6-714B0F1D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0205-79EB-46C5-9093-D4FFFBEC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27C7-E0B6-456E-A509-FE47CBC6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347C-D6CF-426E-BDA1-88D1EE75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16C9-9584-4DF0-B3B3-0FB2EB59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C4F4-E8E6-450C-B2DC-E96F3743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D35A-998D-4206-BE43-9ED2A8FCB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D7DFD-C936-4D47-AADE-08A3BC245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EC50-B401-461A-889F-2B1FA4E1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0DB3-D215-4295-8710-EB09E44B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8CA0-B887-4BF3-AFE8-2F32786D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BB12-47F0-4980-9293-8850F7B2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AEDF-F4D4-4F2C-8055-C380930F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E0FF-65EB-40A8-872E-AF9A8F01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9B87-AF61-4BB5-B460-F516B6BE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874C-ADD6-4723-BA5B-2FE1E74980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3F08-7D36-4336-8812-DB127C47F51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psicologiasocial.uab.es/athenea/index.php/atheneaDigital/index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Metodología y Psicología Soc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sicología social y del trabaj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Ejemp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ervicios sociales y mujeres migra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iempo libre en espacios educativ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mprensiones del desarrollo en cooperantes internacion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utonomía personal y sus formas de expresión en la cultura chile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Movimiento sociales de discapacidad en ch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psicologiasocial.uab.es/athenea/index.php/atheneaDigital/ind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Metodologí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njunto de medios tanto teoréticos, conceptuales, como técnicos que articula una disciplina para alcanzar sus 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njunto de procedimientos utilizados para fundamentar la aceptabilidad científica de los conocimientos elaborados en la discipli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Una metodología utilizará técnicas concreta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Metodología no se debe equiparar a técnic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Metodologí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rata del modo en que enfocamos los problemas y buscamos las respuest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Históricamente han existido dos maneras de desarrollar investigación en ciencias sociales (la investigación cualitativa y la investigación cuantitativ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a forma dependerá de los objetivos propues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Metodologí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Tradicionalmente la racionalidad científica a guiado la metodología en ps. So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Ha utilizado diversos métodos, que responden a supuestos teór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Histor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Tendencia experimental, debido a la validación de resultados “estadísticamente significativo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esde los 80’, apertura metodológica (construcción social de significados, intersubjetividad, y agenci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iversas perspectivas como un aporte al conocimiento de “lo social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Investigación indv- socied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a realidad social no puede entenderse con independencia de las actividades tangibles y concretas de los individuos en sus quehacer cotidianos (si no pierde inteligibilida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a mirada centrada en el individuo pero equipada (conceptual y metodológicamente) para ver la dimensión que la instituy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otencial emancipador, ya que promueve una mayor comprensión y dilucidación de los proces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Investigación cualitati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e basa en métodos de recolección de datos sin medición numérica (describe, observ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jemplo: narrativas, observación participa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u propósito es construir la realidad, tal y como la observan los actores en un sistema soc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Holíst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Investigación cualitati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nduct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Guiadas por áreas o temas significativ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ermite la “dispersión y expansión” de los da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l investigador forma parte del proceso de investigación (directamente involucrad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esarrolla empat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eflexividad tanto de los sujetos como de la investigado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ebe manejar incertidumbre, dilemas éticos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Cuestionamientos a la I. C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e cuestiona desde algunas posturas la objetividad v/s objetividad encarna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ificultad de acceder a lo social por sus múltiples factores, por su variación en el tiempo y espac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Que no se puede generalizar (si profundiza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No cuenta con métodos precis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6:57:30Z</dcterms:created>
  <dc:creator>Fac. de Medicina</dc:creator>
  <dc:description/>
  <dc:language>en-US</dc:language>
  <cp:lastModifiedBy>Fac. de Medicina</cp:lastModifiedBy>
  <dcterms:modified xsi:type="dcterms:W3CDTF">2009-04-07T19:22:16Z</dcterms:modified>
  <cp:revision>3</cp:revision>
  <dc:subject/>
  <dc:title>Metodología y Psicología Social</dc:title>
</cp:coreProperties>
</file>