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DD3-9054-4FF0-B9AA-18B57619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51D-62A1-43E9-AF1B-5D0FFED8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3AC-D34A-46D0-A511-3276215B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0E7-3E1B-4F42-B0B9-AD098F28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B8D2-E108-408D-B1C0-238AB1C3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4D8-271A-4244-BEFB-7E54A7BE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2978-97DA-48E7-90D1-57C7B0C4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F5FE-9558-430C-B97F-51B56520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8C14-FBEF-4BDD-999C-F37444FE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B5AA-3B29-4775-92C9-4AFF6812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7EDF-35FF-44FF-BB64-FC03BF79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CD64-1276-4E6A-9FED-9527BDAA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3681-4E28-4322-8E99-57FBDA4A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3BD0-FF7A-406E-9C45-CA494A2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AB14-46D4-408B-A077-36E0CBFC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4216-F74F-44BD-A563-E1AFBA10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612E-201F-4561-911B-11D32AA1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198-5357-48FC-8CF2-81C7506C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A5B-4E00-4429-8479-CA43DA70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C79-0ECD-496B-9641-1E8FC59F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3CA-5F30-431C-9E9A-6076FDEC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109-D329-434F-9BD2-78EBC20C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A79-D7AD-4858-A7A1-E389DC30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BD3-B740-466F-A3B8-EF58D2EF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4FB8-C7C4-460C-92B8-A6379CE137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BA0D-E393-47AB-8094-56E143444D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sicologiasocial.uab.es/athenea/index.php/atheneaDigital/index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 y Psicología Soc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sicología social y del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cios sociales y mujeres mig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 libre en espacios educ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ensiones del desarrollo en cooperantes inter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utonomía personal y sus formas de expresión en la cultura chil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ovimiento sociales de discapacidad en ch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psicologiasocial.uab.es/athenea/index.php/atheneaDigital/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junto de medios tanto teoréticos, conceptuales, como técnicos que articula una disciplina para alcanzar sus 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junto de procedimientos utilizados para fundamentar la aceptabilidad científica de los conocimientos elaborados en la discipl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na metodología utilizará técnicas concret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todología no se debe equiparar a técn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ta del modo en que enfocamos los problemas y buscamos las respue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istóricamente han existido dos maneras de desarrollar investigación en ciencias sociales (la investigación cualitativa y la investigación cuantita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forma dependerá de los objetivos pro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dicionalmente la racionalidad científica a guiado la metodología en ps.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Ha utilizado diversos métodos, que responden a supuestos teór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ndencia experimental, debido a la validación de resultados “estadísticamente significativo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de los 80’, apertura metodológica (construcción social de significados, intersubjetividad, y age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versas perspectivas como un aporte al conocimiento de “lo socia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indv- socie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realidad social no puede entenderse con independencia de las actividades tangibles y concretas de los individuos en sus quehacer cotidianos (si no pierde inteligibilida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mirada centrada en el individuo pero equipada (conceptual y metodológicamente) para ver la dimensión que la institu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tencial emancipador, ya que promueve una mayor comprensión y dilucidación de los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cualit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 basa en métodos de recolección de datos sin medición numérica (describe, obser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narrativas, observación particip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 propósito es construir la realidad, tal y como la observan los actores en un sistema 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olí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cualit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du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uiadas por áreas o temas signific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mite la “dispersión y expansión” de los d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investigador forma parte del proceso de investigación (directamente involucra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sarrolla empat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flexividad tanto de los sujetos como de la investigad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 manejar incertidumbre, dilemas ético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uestionamientos a la I. C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cuestiona desde algunas posturas la objetividad v/s objetividad encarn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ficultad de acceder a lo social por sus múltiples factores, por su variación en el tiempo y espa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e no se puede generalizar (si profundiz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 cuenta con métodos preci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30Z</dcterms:created>
  <dc:creator>Fac. de Medicina</dc:creator>
  <dc:description/>
  <dc:language>en-US</dc:language>
  <cp:lastModifiedBy>Fac. de Medicina</cp:lastModifiedBy>
  <dcterms:modified xsi:type="dcterms:W3CDTF">2009-04-07T19:22:16Z</dcterms:modified>
  <cp:revision>3</cp:revision>
  <dc:subject/>
  <dc:title>Metodología y Psicología Social</dc:title>
</cp:coreProperties>
</file>