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C848-BFC3-46DC-BF08-E8F787BA1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BF74-84B3-470E-A314-A1FAE1C9C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C7C2-B6DC-4D5D-BA00-D551AE2DE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A84C-7E1C-4E03-9029-395B6D217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39965-8DD7-4EC2-A7D4-0D1E17FDA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08259-19D3-4B88-AC53-B340CAF45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BE780-104A-4E16-8E7E-8CD3A065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48930-0B5C-4387-96B4-E87BDB3C9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CB9D6-C5D3-4607-9FF3-4EA6B34B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B3D41-0ED0-4ED8-AA34-C2A5E68E2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6557A-70EC-44CE-B333-FDB4C513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710F-B86D-4EDC-9D40-C76B32192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CAF65-2D16-4746-A729-D49876ED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D293A-7EB3-4FE5-80DF-2FD67DF1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8FBF0-664D-41FC-B0E8-05ABCFEEF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D8AC6-149B-4A1D-B42A-88A925741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32BE9-073A-442E-B193-606F2C593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70D5-318B-4CBF-BECC-5264F4E49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B7D1-0B64-4E04-A843-BA77CFFE9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B32F-7A5C-4766-87F3-FC81B63F9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C482-77CE-45FB-94D5-D98BBC071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8123-8522-4D38-AF95-B43FDF68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5641-F079-4D2C-B7CE-B0AD530A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08E1-3B84-4A68-B013-6B1EF88E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51869-1795-439C-9B8C-43797853624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BAF31-ED72-4612-9370-BE4ADA554CF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psicologiasocial.uab.es/athenea/index.php/atheneaDigital/index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Metodología y Psicología Soc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sicología social y del trabaj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Ejemp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Servicios sociales y mujeres migran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Tiempo libre en espacios educativ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omprensiones del desarrollo en cooperantes internacion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Autonomía personal y sus formas de expresión en la cultura chile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Movimiento sociales de discapacidad en ch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psicologiasocial.uab.es/athenea/index.php/atheneaDigital/ind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Metodologí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onjunto de medios tanto teoréticos, conceptuales, como técnicos que articula una disciplina para alcanzar sus 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onjunto de procedimientos utilizados para fundamentar la aceptabilidad científica de los conocimientos elaborados en la discipli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Una metodología utilizará técnicas concretas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Metodología no se debe equiparar a técnic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Metodologí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Trata del modo en que enfocamos los problemas y buscamos las respuest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Históricamente han existido dos maneras de desarrollar investigación en ciencias sociales (la investigación cualitativa y la investigación cuantitativ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La forma dependerá de los objetivos propues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Metodologí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Tradicionalmente la racionalidad científica a guiado la metodología en ps. Soc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Ha utilizado diversos métodos, que responden a supuestos teóric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Histor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Tendencia experimental, debido a la validación de resultados “estadísticamente significativo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Desde los 80’, apertura metodológica (construcción social de significados, intersubjetividad, y agenci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Diversas perspectivas como un aporte al conocimiento de “lo social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Investigación indv- socieda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La realidad social no puede entenderse con independencia de las actividades tangibles y concretas de los individuos en sus quehacer cotidianos (si no pierde inteligibilida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La mirada centrada en el individuo pero equipada (conceptual y metodológicamente) para ver la dimensión que la instituy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otencial emancipador, ya que promueve una mayor comprensión y dilucidación de los proces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Investigación cualitati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Se basa en métodos de recolección de datos sin medición numérica (describe, observ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jemplo: narrativas, observación participa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Su propósito es construir la realidad, tal y como la observan los actores en un sistema soc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Holíst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Investigación cualitati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Induct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Guiadas por áreas o temas significativ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ermite la “dispersión y expansión” de los dat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l investigador forma parte del proceso de investigación (directamente involucrad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Desarrolla empatí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Reflexividad tanto de los sujetos como de la investigado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Debe manejar incertidumbre, dilemas éticos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Cuestionamientos a la I. C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Se cuestiona desde algunas posturas la objetividad v/s objetividad encarna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Dificultad de acceder a lo social por sus múltiples factores, por su variación en el tiempo y espac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Que no se puede generalizar (si profundiza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No cuenta con métodos precis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16:57:30Z</dcterms:created>
  <dc:creator>Fac. de Medicina</dc:creator>
  <dc:description/>
  <dc:language>en-US</dc:language>
  <cp:lastModifiedBy>Fac. de Medicina</cp:lastModifiedBy>
  <dcterms:modified xsi:type="dcterms:W3CDTF">2009-04-07T19:22:16Z</dcterms:modified>
  <cp:revision>3</cp:revision>
  <dc:subject/>
  <dc:title>Metodología y Psicología Social</dc:title>
</cp:coreProperties>
</file>