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AF7-5C6D-48BC-B9E6-9260B00917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AD7-105A-42B8-98B4-A495674FD6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C8D-D670-48FC-B536-235AB883A5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A01-AAFB-4F7A-B96B-E27B2AA1C0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145C-F2FC-4AFB-A9EB-337CCE8AEC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0D7-C759-4FE9-B051-956ABF8D9B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BC8-12B2-408A-BF77-84404ECB25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A2F-2D1D-4653-87F6-D92B4DA36D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5B6-184D-471C-9CE1-14694008BF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DC6-C528-4C16-94BC-FE3F103B65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AA6-BE2D-4BCD-ABA1-BB2D42A15C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67FA-70F6-4D10-AA57-82985DBD37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158-A30B-4E60-929E-A993EF96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D3F-BFE5-42ED-8C24-F0C16A5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3FC-A144-448E-8823-16E6EC85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BC1-5E73-491B-AC38-ACEF61E0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762E-32A7-4FBE-9972-A6DF1637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FE5-CC82-4E38-A7AA-7E1BDE7B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343-7D3D-46FA-B905-2C1BDFA6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DF6B-EE49-49DB-BB80-F42C8F9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089E-880D-4783-B1D2-AB3429D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2DF7-859E-4D28-80D2-EF9A577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308F-4F22-4476-A1DD-FCF3A8C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B02-DC8A-456B-9A95-B1A8E0E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10CA-6107-46C4-B176-BA22FA81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C34A-CAA1-4E1C-AE89-5F895E9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F29-3A8F-47B4-B68F-101F1AF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561D-91BF-4292-9215-827669FD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682-9136-42DA-9AB3-52155056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5AAB-951C-4C7B-8311-BEA309D6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E3DA-C98C-45B8-9F5C-605CDE7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83C6-11C1-4C7B-9CD9-720A6AB6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914C-4790-4592-AFD3-773793F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4065-4908-4C5C-A434-7307C5B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205-6B1D-4E76-A19A-BC48E74C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6DC3-B0A6-451B-AF4A-F61DB93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D741-591A-43E7-A9BA-FD1DF7D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2505-DC74-4D6C-8D74-EEA2225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D673-9B41-4B20-AD8D-B7B6167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1A26-AA16-4EE8-BC85-949DEBC4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4822-421D-4F6A-A5DC-0F0B760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2480-CF80-46F4-8EC4-6BE8457A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9275-6F3C-496A-BC3C-3723D601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5857D-09F5-412F-9D25-E17665B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3496-3773-49A2-A5EB-EE7DA81A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C84-8BA1-4EAA-BFCD-A5CA6C00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3D26-185E-45DB-8E9E-E507789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2583-FE8F-4804-A2B6-8AB0295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6A3A-D597-4A89-8252-9A854520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50A4-314F-4A7C-8DAD-6005A76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19B3-AF60-4ADC-A56B-282B26EC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1AE1-2452-4304-B0AD-0713105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1150-7592-46C3-9DED-2F0E3EBD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0CFD-0CA0-4EA4-BD8F-612C85ED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C15B-07B9-421D-9AA9-C1E9D08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649-2F20-4FB2-ADA1-E5F9612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119-B179-4124-B75C-3A7CCEAE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4AC-A035-439D-98A4-8F64BDB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9DD-BC4A-411A-87B1-23BF400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127-E997-4A94-B502-089382A4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39C-39A4-43C8-BDDB-B845C5E2A8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EBA-7537-46C9-82D5-E1A305A8D0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B9A-E47C-484D-9732-9F0BBC180E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850-C210-4DE9-97E0-E5ECB2DFC3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706320" y="1957320"/>
            <a:ext cx="8388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otenciar las virtudes de nuestros pueblo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timular los factores (solidaridad, esperanza, tenacidad) que les permite sobrellevar la opresión de la que son obj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rí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está promoviendo el statu-quo de la sociedad en la cual se está realizando l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promueve la injusticia o justicia social con esta intervención/investiga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conciencia de las repercusiones sociales de las prácticas y teorías del camp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declaración explícita de los valores que se asumen al realizar un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Cuáles son los compromisos culturales, morales o de valores y cómo afectan ellos a las críticas que se hace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rítica a la psicología social latinoamericana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realizado un aporte muy escaso, a diferencia de otras disciplinas como la sociología (teoría de la dependenci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permanecido ajena a las necesidades de las perso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fortalecido el psicologicismo perpetuador de intereses domin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 miseria de la psicología social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dependencia tiene tres oríge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Mimetismo cientista:</a:t>
            </a:r>
            <a:r>
              <a:rPr b="0" lang="es-ES" sz="26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pia acrítica de los plantemientos provenientes de EEU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eptación acrítica de teorías y modelos es precisamente la negación de los fundamentos de la misma ci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Carencia de una epistemología adecu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don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Visión homeost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historic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Dogmatismo provincia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debate temáticas relevantes a otras realidades y no las que son atingentes a nuestro contex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 transformación neces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3212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sicología latinoamericana requiere replantearse su bagaje teórico y práctico desde los propios pueblos latinoamericanos, sus luchas y dol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 requiere una Psicología que libere a los pueb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es de la teología de la liber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rincipal tarea de un cristiano es </a:t>
            </a: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omover la vi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generar las condiciones materiales que liberen a las mayoría de su opresión (muer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imacía de la verdad práctica por sobre la verdad teóric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Las acciones son más importantes que las afirm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Opción preferencial por los pobr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areas urgentes de la psicología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2643120"/>
            <a:ext cx="82296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Recuperación de la memoria histórica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“Descubrir los elementos del pasado que sirvieron para defender los intereses de clas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upera el sentido de la propia identidad y la espera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Desideologizar la experiencia cotidiana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uchar contra los discursos dominantes que obscurecen la realidad y mantienen la subord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 devolver a los grupos marginados sus propias experiencias, no “lo que los dominadores dicen que ellos son y sient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4:42:56Z</dcterms:created>
  <dc:creator>Los Pulul</dc:creator>
  <dc:description/>
  <dc:language>en-US</dc:language>
  <cp:lastModifiedBy>Fac. de Medicina</cp:lastModifiedBy>
  <dcterms:modified xsi:type="dcterms:W3CDTF">2009-04-08T18:04:09Z</dcterms:modified>
  <cp:revision>25</cp:revision>
  <dc:subject/>
  <dc:title>Psicología social crítica</dc:title>
</cp:coreProperties>
</file>