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BFC3-95F4-4A02-9CCC-7037284BA4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D4B2-E704-4EB4-801F-5A8518BC40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3DB-8D73-44F9-A395-9B86D4A4BC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A9C2-5A63-4493-BC07-63334514B6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DB44-EB91-4F4A-8379-9DE8C477B2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F7D4-6B83-4810-B9F7-F6E84DB5CD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81ED-30B3-4AB3-BA3E-1DE46033A7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6467-D6EF-4663-AC59-8753969B3E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D8E3-48B2-4975-A5C9-424D78C56E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F4BF-0812-4D23-BDEA-3C9385191C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F13-7A0A-4AE3-86E7-42D7E1517C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BD2-5C49-41B8-BD0A-8FE25F4E42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242-B60F-4740-8361-D466AA27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C8D-F479-4B7B-8FE4-EC985738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EFF-5829-43CA-A9CE-29415386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EA2-21A0-4AFD-8B90-299B1440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0751-8BBC-4040-8827-A73F0B73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114-3C62-42EE-AF16-9C84C73A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FC46-E3D4-4564-8BB7-35A7EB8B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B5A-7035-4715-A464-041A218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5A6D-F40B-4D7C-A462-B2259119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0285-F224-4848-8D4A-A196EC2C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1069-B246-463D-B253-FFDD285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4E5-B0CF-4101-9D0E-E5D5EDF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796-1C0C-495D-A014-1AF57E5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9B9-C849-4F1D-86F7-755B4B7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554-DDB1-43F4-A7CE-CD12700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CB11-E14E-4DC5-82E4-55A835B0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6254-9682-4E4A-857A-CCA8AB27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E309-0D2B-4FA3-88F4-0FEE3861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FC74-F2E4-408C-8EC2-D171A6A4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12AF-6788-4CB5-9895-8ABEB72C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8618-EA4E-4A2B-8B88-3E23C65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CA86-BDE3-4F92-909F-00F56CAD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90C-72B6-48F9-8E37-3D627C4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9229-6096-40C0-B72F-651DCA3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1D87-C247-4948-8714-E8B4858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E201-622D-4EF4-BE31-D7EC6DC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5CD1-3829-481E-86FA-F1DEE0C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1CD1-A48F-49F5-9D86-8FC4205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2CE7-2CA3-4194-B3D3-2119BFF8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2192-EF93-4E57-A3CC-D833294E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BB91-80A9-4587-A646-31EF2D74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F698-3696-4E7E-BBE4-9406F1CD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26B78-1B0C-4A1B-95C5-53E481A5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734-FD60-42A6-A3B3-3E6CE51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5897-2024-43E3-A79E-7A54B648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D021-EF5C-42CC-8B2D-4A72E407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4DE9-2472-4E2E-9719-CF2DE0E8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7252-09BF-482D-8903-7593AEF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476A-CCC6-4930-B7B6-0C4B8FA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C58A-0538-4D49-AEAD-3EC0E26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83F7-EE89-4259-B5F8-4D4A75FC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4580-951E-45BC-9042-09C0DC33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807B-3313-4FDD-A546-298235A0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100-635B-4B32-A937-16041AC3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488-1930-4B09-887B-ED05916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26A-76AC-4EE4-85AA-553BB43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C40-99A1-4390-93C7-4838222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165-82B5-409C-AFA7-EDAD634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275C-D47D-4F9F-AAC1-643F71183A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0D0-490C-4FA9-8B47-3B67263BB5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FFE-A4D5-4F37-8274-9F465B89B8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7EC4-B693-4DEB-ABDA-944BA0ECC1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706320" y="1957320"/>
            <a:ext cx="8388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otenciar las virtudes de nuestros pueblo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timular los factores (solidaridad, esperanza, tenacidad) que les permite sobrellevar la opresión de la que son obje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rí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Se está promoviendo el statu-quo de la sociedad en la cual se está realizando la investigación o interven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Se promueve la injusticia o justicia social con esta intervención/investiga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Hay conciencia de las repercusiones sociales de las prácticas y teorías del camp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Hay declaración explícita de los valores que se asumen al realizar una investigación o interven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Cuáles son los compromisos culturales, morales o de valores y cómo afectan ellos a las críticas que se hace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rítica a la psicología social latinoamericana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realizado un aporte muy escaso, a diferencia de otras disciplinas como la sociología (teoría de la dependenci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permanecido ajena a las necesidades de las perso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fortalecido el psicologicismo perpetuador de intereses domin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a miseria de la psicología social latinoameric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dependencia tiene tres oríge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Mimetismo cientista:</a:t>
            </a:r>
            <a:r>
              <a:rPr b="0" lang="es-ES" sz="26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pia acrítica de los plantemientos provenientes de EEU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eptación acrítica de teorías y modelos es precisamente la negación de los fundamentos de la misma cienc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Carencia de una epistemología adecu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edon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Visión homeost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historic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Dogmatismo provincian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 debate temáticas relevantes a otras realidades y no las que son atingentes a nuestro contex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 transformación necesa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3212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Psicología latinoamericana requiere replantearse su bagaje teórico y práctico desde los propios pueblos latinoamericanos, sus luchas y dol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 requiere una Psicología que libere a los puebl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ses de la teología de la liber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principal tarea de un cristiano es </a:t>
            </a: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romover la vid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generar las condiciones materiales que liberen a las mayoría de su opresión (muer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rimacía de la verdad práctica por sobre la verdad teóric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Las acciones son más importantes que las afirm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Opción preferencial por los pobr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areas urgentes de la psicología latinoameric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2643120"/>
            <a:ext cx="8229600" cy="28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Recuperación de la memoria histórica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“Descubrir los elementos del pasado que sirvieron para defender los intereses de clase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upera el sentido de la propia identidad y la espera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Desideologizar la experiencia cotidiana.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uchar contra los discursos dominantes que obscurecen la realidad y mantienen la subord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lica devolver a los grupos marginados sus propias experiencias, no “lo que los dominadores dicen que ellos son y sient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4:42:56Z</dcterms:created>
  <dc:creator>Los Pulul</dc:creator>
  <dc:description/>
  <dc:language>en-US</dc:language>
  <cp:lastModifiedBy>Fac. de Medicina</cp:lastModifiedBy>
  <dcterms:modified xsi:type="dcterms:W3CDTF">2009-04-08T18:04:09Z</dcterms:modified>
  <cp:revision>25</cp:revision>
  <dc:subject/>
  <dc:title>Psicología social crítica</dc:title>
</cp:coreProperties>
</file>