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64600-A7CE-4E54-BDE0-6CF19EDDC52D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344C3-70AF-4028-B2B9-A8743B3466BC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BA37C-9CD5-4B81-B80A-CDEB6DD6944C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0BD52-0437-4F56-8014-BE6E5C0153E1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B7612-A4C2-431E-8EE3-1D1243B74498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A2D16-6A69-450F-92B7-93D2EE5389AE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7DDD3-5847-4940-8BB6-094E6CE100BE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3341B-D3F5-4C7B-AB35-8263E2EA6158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3684C-FA83-4757-8555-16D7D15D038C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BCB31-9EDB-4BB1-A884-174670EE0B72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C6701-0F89-44E6-AD68-7B387744DD9A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EFDBD-8EB4-4335-B078-5D8FAA87DA40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25FB5-C417-4F53-83CD-92C382D11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5942D-FEC4-465E-A464-7AF36BB4D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75C37-1102-4C98-9806-8E7D7C40C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18A35-281A-403D-A951-7D0FAC942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6200F-BD98-4C41-9C2C-9015C8CD0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CABD7-D69B-433A-8D8D-81A5DA525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51229-FA8B-48FC-9F65-56D0A8211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FFF07-E7BD-490A-8AB2-7E5B6C648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B6246-621E-4D8B-853B-D7E4A2168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7471F-D746-45DE-8607-A9F185DAC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71444-20CA-423C-91AC-74D8E6E79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F9C48-B6D0-4791-A43F-94A4D6E3E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D751E-B8CE-4D0D-BC32-AA6A6EB74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C0F36-07A9-4BFC-AE87-34DE3B52C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443A0-5530-4F33-9086-B00AD11A5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7B6E1-5FD7-4CEA-84C3-4BF7ED12D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577C5-8E9B-4AC6-AD1D-79BA94E86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10349D-521D-4AF8-936B-882DA417D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3D4D62-D7FE-4B05-AEB9-DF1CDB84F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7E73E0-19DC-48F0-871A-C57D83640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275C88-14D5-4F5F-81B1-902A3FFD8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09D0EB-18D0-41C3-ABC5-B4777C112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5228A-EC24-49B2-86FC-490B06E78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89798E-0B94-44F4-BF74-DB13A72A2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E34F0D-4C43-41DC-98E9-8EC7900AB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94540D-727E-459A-96D3-BBE620E19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5C4388-52FD-49BD-893D-B7C1C5C0F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E7BF02-ED26-4C91-91F0-255CD417A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5779A5-CFBA-4494-BBC8-02B273F6D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AE22F4-BF73-4AEA-90BC-FBED9CD4A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1C5455-BEE4-4B11-8374-21662F0A8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1DCC9B-BA48-4934-A400-A9F7A211E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170FD5-6738-4D3D-9E39-351A0E419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E5375-EB2F-4BAE-81F9-2B1AB6465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4DFE9B-8D1D-4218-904A-F77B81817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457BA6-A17F-4605-874C-D6603DAF1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E9C026-7AEC-4244-BC82-FCCDEB324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E629D1-19D9-4B75-B74A-B56A0FBE0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FDF264-7C3A-4AC2-931E-9B06BC493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AA8726-D6D1-426F-9FE2-BFE82D99A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10498A-8467-42DA-A261-3FD9B3592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F57BDD-8C3D-4DA8-BC73-506FC692F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0BF706-6C7A-413E-80A6-989F26169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5FD3D-DD3F-4490-8D26-089F6BBC0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ACF3F-404F-446C-BE59-1315B3963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D56F2-8B87-4151-9927-0C1561E3B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6ED11-4BA6-4F48-A814-67D4230A7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AA3D0-6BB5-4A82-97AF-F9A980CF6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5CE00-8BFD-4B14-9270-F95D4827C85A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1" name="12 Forma libre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2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6" name="12 Forma libre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4897D-51AB-4ED2-8AE3-70972177404D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6" name="12 Forma libre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EC916-17F1-4618-B9D7-D65043EB6CAD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13 Recortar y redondear rectángulo de esquina sencilla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14 Triángulo rectángulo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15 Forma libre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16 Forma libre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91842-9B59-4C1F-B867-1409484AA404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Rectangle 2" descr=""/>
          <p:cNvPicPr/>
          <p:nvPr/>
        </p:nvPicPr>
        <p:blipFill>
          <a:blip r:embed="rId2"/>
          <a:stretch/>
        </p:blipFill>
        <p:spPr>
          <a:xfrm>
            <a:off x="706320" y="1957320"/>
            <a:ext cx="8388360" cy="201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457200" y="2707920"/>
            <a:ext cx="8229600" cy="361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699ff"/>
                </a:solidFill>
                <a:latin typeface="Constantia"/>
              </a:rPr>
              <a:t>Potenciar las virtudes de nuestros pueblos.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Estimular los factores (solidaridad, esperanza, tenacidad) que les permite sobrellevar la opresión de la que son objeto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3964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0" spc="-1" strike="noStrike">
                <a:solidFill>
                  <a:srgbClr val="04617b"/>
                </a:solidFill>
                <a:latin typeface="Calibri"/>
              </a:rPr>
              <a:t>Crític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68360" y="177300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240120" indent="-240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Constantia"/>
              </a:rPr>
              <a:t>¿Se está promoviendo el statu-quo de la sociedad en la cual se está realizando la investigación o intervención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0120" indent="-240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Constantia"/>
              </a:rPr>
              <a:t>¿Se promueve la injusticia o justicia social con esta intervención/investigación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0120" indent="-240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Constantia"/>
              </a:rPr>
              <a:t>¿Hay conciencia de las repercusiones sociales de las prácticas y teorías del campo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0120" indent="-240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Constantia"/>
              </a:rPr>
              <a:t>¿Hay declaración explícita de los valores que se asumen al realizar una investigación o intervención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0120" indent="-240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Constantia"/>
              </a:rPr>
              <a:t>¿Cuáles son los compromisos culturales, morales o de valores y cómo afectan ellos a las críticas que se hacen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Calibri"/>
              </a:rPr>
              <a:t>Crítica a la psicología social latinoamericana</a:t>
            </a:r>
            <a:r>
              <a:rPr b="0" lang="en-US" sz="3600" spc="-1" strike="noStrike">
                <a:solidFill>
                  <a:srgbClr val="04617b"/>
                </a:solidFill>
                <a:latin typeface="Calibri"/>
              </a:rPr>
              <a:t>	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2565360"/>
            <a:ext cx="8229600" cy="35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Ha realizado un aporte muy escaso, a diferencia de otras disciplinas como la sociología (teoría de la dependencia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Ha permanecido ajena a las necesidades de las persona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Ha fortalecido el psicologicismo perpetuador de intereses dominante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Calibri"/>
              </a:rPr>
              <a:t>La miseria de la psicología social latinoamericana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La dependencia tiene tres orígenes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6699ff"/>
                </a:solidFill>
                <a:latin typeface="Constantia"/>
              </a:rPr>
              <a:t>Mimetismo cientista:</a:t>
            </a:r>
            <a:r>
              <a:rPr b="0" lang="es-ES" sz="2600" spc="-1" strike="noStrike">
                <a:solidFill>
                  <a:srgbClr val="0066ff"/>
                </a:solidFill>
                <a:latin typeface="Constantia"/>
              </a:rPr>
              <a:t> 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copia acrítica de los plantemientos provenientes de EEUU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“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a aceptación acrítica de teorías y modelos es precisamente la negación de los fundamentos de la misma ciencia”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457200" y="1125360"/>
            <a:ext cx="8229600" cy="50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6699ff"/>
                </a:solidFill>
                <a:latin typeface="Constantia"/>
              </a:rPr>
              <a:t>Carencia de una epistemología adecuada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Positivism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Individualism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Hedonism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Visión homeostátic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Ahistoricism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457200" y="1125360"/>
            <a:ext cx="8229600" cy="50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699ff"/>
                </a:solidFill>
                <a:latin typeface="Constantia"/>
              </a:rPr>
              <a:t>Dogmatismo provinciano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En debate temáticas relevantes a otras realidades y no las que son atingentes a nuestro contexto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La transformación necesari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68360" y="3212640"/>
            <a:ext cx="822960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La Psicología latinoamericana requiere replantearse su bagaje teórico y práctico desde los propios pueblos latinoamericanos, sus luchas y dolore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 requiere una Psicología que libere a los pueblo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Calibri"/>
              </a:rPr>
              <a:t>Bases de la teología de la liberación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La principal tarea de un cristiano es </a:t>
            </a:r>
            <a:r>
              <a:rPr b="0" lang="en-US" sz="2600" spc="-1" strike="noStrike">
                <a:solidFill>
                  <a:srgbClr val="6699ff"/>
                </a:solidFill>
                <a:latin typeface="Constantia"/>
              </a:rPr>
              <a:t>promover la vida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: generar las condiciones materiales que liberen a las mayoría de su opresión (muerte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699ff"/>
                </a:solidFill>
                <a:latin typeface="Constantia"/>
              </a:rPr>
              <a:t>Primacía de la verdad práctica por sobre la verdad teórica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. Las acciones son más importantes que las afirmacion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699ff"/>
                </a:solidFill>
                <a:latin typeface="Constantia"/>
              </a:rPr>
              <a:t>Opción preferencial por los pobres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Calibri"/>
              </a:rPr>
              <a:t>Tareas urgentes de la psicología latinoamericana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68360" y="2643120"/>
            <a:ext cx="8229600" cy="28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699ff"/>
                </a:solidFill>
                <a:latin typeface="Constantia"/>
              </a:rPr>
              <a:t>Recuperación de la memoria histórica.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“Descubrir los elementos del pasado que sirvieron para defender los intereses de clase”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Recupera el sentido de la propia identidad y la esperanz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468360" y="2421000"/>
            <a:ext cx="82296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6699ff"/>
                </a:solidFill>
                <a:latin typeface="Constantia"/>
              </a:rPr>
              <a:t>Desideologizar la experiencia cotidiana.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 Luchar contra los discursos dominantes que obscurecen la realidad y mantienen la subordinación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Implica devolver a los grupos marginados sus propias experiencias, no “lo que los dominadores dicen que ellos son y sienten”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1T04:42:56Z</dcterms:created>
  <dc:creator>Los Pulul</dc:creator>
  <dc:description/>
  <dc:language>en-US</dc:language>
  <cp:lastModifiedBy>Fac. de Medicina</cp:lastModifiedBy>
  <dcterms:modified xsi:type="dcterms:W3CDTF">2009-04-08T18:04:09Z</dcterms:modified>
  <cp:revision>25</cp:revision>
  <dc:subject/>
  <dc:title>Psicología social crítica</dc:title>
</cp:coreProperties>
</file>