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79742-0549-4C84-A038-BC0283D0C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FD6D4-C0BA-4C8A-8960-B6772CD65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94409-224F-4980-81E6-006F0ECA8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76E84-F28A-48FA-8A77-C43554FDD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71B9A4-03FD-4108-9A4C-256BCC4CE3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B8A3E-734A-4799-9B2D-1E2A63F72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53676-3C98-411A-B1DE-912572CBE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E9941-7865-4380-8158-A97F44F2F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DC228-81AE-423D-9E86-C815CB96B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9E9A1-2B4A-4E99-95E0-FCD4C269B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01A2D-84D3-44CF-86BC-A02250B2C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3BFF1-32ED-4677-BB83-B03A2F390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E86D3-0AD8-4619-92FE-DAFC278A8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FEA79-DC60-456B-88FC-EB99C96F8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0CECCF-42EB-40BF-A181-E3D4016F2E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D888DE-86A1-4BAF-883C-AE03FB63AB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3871D1-461A-476B-8B24-594255F882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428A5-FE3D-40A6-8125-E051F1D3F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7E7CC-31B4-45C2-990A-AC0E4D7E7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D10FB-40F3-4E7D-A584-CD2119C62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EEA21-005A-4D7B-BB63-05C9F4D31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FAA26-8E4C-4560-B651-04D95B179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8DC0D-A8AA-4185-A9A4-4071C711D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F585E-8A8D-4232-917A-0C05F751D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1D815-E7E7-48C7-AFDE-24E0D226D3B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EF4B0-147D-42E7-82B9-73562364472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youtube.com/watch?v=uMwOexrV6f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cipales perspectivas teóricas</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ignatura: Psicología Social y del Trabaj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Orientaciones tradicionales en psicología Social (Ibañez)</a:t>
            </a:r>
            <a:endParaRPr b="0" lang="en-US" sz="3400" spc="-1" strike="noStrike">
              <a:solidFill>
                <a:srgbClr val="000000"/>
              </a:solidFill>
              <a:latin typeface="Arial"/>
            </a:endParaRPr>
          </a:p>
        </p:txBody>
      </p:sp>
      <p:sp>
        <p:nvSpPr>
          <p:cNvPr id="116" name="PlaceHolder 2"/>
          <p:cNvSpPr>
            <a:spLocks noGrp="1"/>
          </p:cNvSpPr>
          <p:nvPr>
            <p:ph/>
          </p:nvPr>
        </p:nvSpPr>
        <p:spPr>
          <a:xfrm>
            <a:off x="539280" y="1773360"/>
            <a:ext cx="7355160" cy="453528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Interaccionismo simbólico</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Lo propio del SH radica en actuar en relación con los objetos a partir del significado que estos representan para ellos… para entender la conducta es necesario conocer ¿cuál es la definición subjetiva/fenomenológica que le da el individuo?</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El significado de los objetos emerge de la interacción social (interpersonal- intrapsíquico):</a:t>
            </a:r>
            <a:endParaRPr b="0" lang="en-US" sz="20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como aprendizaje, ni traspaso sino como construcción en la interacción.</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Reflexividad</a:t>
            </a:r>
            <a:r>
              <a:rPr b="0" lang="es-ES_tradnl" sz="1800" spc="-1" strike="noStrike">
                <a:solidFill>
                  <a:srgbClr val="000000"/>
                </a:solidFill>
                <a:latin typeface="Arial"/>
              </a:rPr>
              <a:t>: articular con los demás implica situarse en posición del otro y verse a uno mismo como objeto de los demás, para actuar y generar efectos deseados</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Actividad en la construcción de sentidos: </a:t>
            </a:r>
            <a:r>
              <a:rPr b="0" lang="es-ES_tradnl" sz="1800" spc="-1" strike="noStrike">
                <a:solidFill>
                  <a:srgbClr val="000000"/>
                </a:solidFill>
                <a:latin typeface="Arial"/>
              </a:rPr>
              <a:t>conocimiento por medio de la interacción  (Piaget- vigotsky), se aleja se ideas cognitivis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Orientaciones Tradicionales en Psicología Social (Ibañez)</a:t>
            </a:r>
            <a:endParaRPr b="0" lang="en-US" sz="3400" spc="-1" strike="noStrike">
              <a:solidFill>
                <a:srgbClr val="000000"/>
              </a:solidFill>
              <a:latin typeface="Arial"/>
            </a:endParaRPr>
          </a:p>
        </p:txBody>
      </p:sp>
      <p:sp>
        <p:nvSpPr>
          <p:cNvPr id="118" name="PlaceHolder 2"/>
          <p:cNvSpPr>
            <a:spLocks noGrp="1"/>
          </p:cNvSpPr>
          <p:nvPr>
            <p:ph/>
          </p:nvPr>
        </p:nvSpPr>
        <p:spPr>
          <a:xfrm>
            <a:off x="539280" y="1773360"/>
            <a:ext cx="7355160" cy="453528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Interaccionismo simbólico</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 Carácter activo del ser humano, en la negociación interpersonal, genera significados compartidos de las situaciones (negociación interpersonal /significados/negociación activa)</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emas: identidad, roles, lenguaje, comunic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jercicio práctic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eamos la peli pequeña miss sunshine 2’ al 27’</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dentifique el significado de los integrantes de la familia en torno a la belleza y éxit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e significados se elaboran en conjunto.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Núcleos temáticos en psicología social actual</a:t>
            </a:r>
            <a:endParaRPr b="0" lang="en-US" sz="3400" spc="-1" strike="noStrike">
              <a:solidFill>
                <a:srgbClr val="000000"/>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Actitudes o cambio de actitudes (influencia social</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Psicología de los grupo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nguaje y comunicació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Percepción social</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Liderazgo</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otivación social</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ocializació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Cultura y Personal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Núcleos temáticos en psicología social actual</a:t>
            </a:r>
            <a:endParaRPr b="0" lang="en-US" sz="34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cializació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ducta colectiv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Arial"/>
              </a:rPr>
              <a:t>Self (personalidad e interacción so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risis de la Psicología Social</a:t>
            </a: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ítica contra la falta de interés de los resultados alcanzado</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tra la inoperancia social de los planteamiento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estionamiento a la validez y objetividad de sus resultado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tores internos: “una identidad compleja, conflictiva y heterogénea y relativamente imprecisa de la ps. social, con sus permanentes y múltiples tensiones constitutivas, contribuyó a que los ps. sociales tuvieran que estar más atentos que los miembros de otras disciplinas antes los problemas meta teóricos relacionados con la propia definición de la disciplina y con la fundamentación del conocimiento científico” (Ibañez: 145)</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tores externos: mayo del 6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contemporánea (70+)</a:t>
            </a:r>
            <a:endParaRPr b="0" lang="en-US" sz="3800" spc="-1" strike="noStrike">
              <a:solidFill>
                <a:srgbClr val="000000"/>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gnición social</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iro cognitivista de la disciplina, pasa de ser un área (motivación, aprendizaje, etc) a un enfoque teórico (psicoanálisis, conductismo). Antecedentes favorable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sona como procesador de información (computadora),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quemas cognitivos, como guías de conducta (casino, restaurant)</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ferencias sociales, para predecir el comportamiento en sociedad</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oría de la atribución (cognición sobre emoción o motivació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contemporánea</a:t>
            </a:r>
            <a:endParaRPr b="0" lang="en-US" sz="38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Interaccionismo simbólico, etnometodología y self</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yor presencia del IS por la crisis y auge del cognitivismo</a:t>
            </a:r>
            <a:endParaRPr b="0" lang="en-US" sz="32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Rol de los investigadores en lo experimental</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Significado atribuido a la situación</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Dudas acerca de la validez experimental</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Reduccionismo</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Relevancia social</a:t>
            </a:r>
            <a:endParaRPr b="0" lang="en-US" sz="27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contemporánea</a:t>
            </a: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Etnometodología:</a:t>
            </a:r>
            <a:endParaRPr b="0" lang="en-US" sz="24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hechos sociales no determinan la conducta humana, sino que estos son el resultado de la una conducta humana que los produce continuamente por medio de su actividad práctica.</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contrario a ideas de interiorización de cultura (determinismo social), sino el SH como agente activo que construye a partir de su experiencia subjetiva.</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lo tanto, se interesa en conocer las estructuras subjetivas de la experiencia, que las personas elaboran por medio de su razonamiento práctico, para dar significado a su existencia social</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cal, contingente (ir directamente a los hechos, lo cotidianio)</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dexicabilidad (contexto, yo, tu), intersubjetividad (significados compartidos), reflexividad (acción estratégica y persona como agente frente al determinismo) y acountability (dar cuenta, como la realidad de la person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8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Como son la mermeladas?,</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9 Roberto: </a:t>
            </a:r>
            <a:r>
              <a:rPr b="0" lang="es-MX" sz="1400" spc="-1" strike="noStrike">
                <a:solidFill>
                  <a:srgbClr val="000000"/>
                </a:solidFill>
                <a:latin typeface="Arial"/>
              </a:rPr>
              <a:t>	</a:t>
            </a:r>
            <a:r>
              <a:rPr b="0" lang="es-MX" sz="1400" spc="-1" strike="noStrike">
                <a:solidFill>
                  <a:srgbClr val="000000"/>
                </a:solidFill>
                <a:latin typeface="Arial"/>
              </a:rPr>
              <a:t>Mas o menos </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0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Oye que son malas las mermeladas acá en españa</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1 Carmen: </a:t>
            </a:r>
            <a:r>
              <a:rPr b="0" lang="es-MX" sz="1400" spc="-1" strike="noStrike">
                <a:solidFill>
                  <a:srgbClr val="000000"/>
                </a:solidFill>
                <a:latin typeface="Arial"/>
              </a:rPr>
              <a:t>	</a:t>
            </a:r>
            <a:r>
              <a:rPr b="0" lang="es-MX" sz="1400" spc="-1" strike="noStrike">
                <a:solidFill>
                  <a:srgbClr val="000000"/>
                </a:solidFill>
                <a:latin typeface="Arial"/>
              </a:rPr>
              <a:t>(ja, ja, ja, ) es que tiene  [tos]n como una gelatina </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rriba. Hay que revolverla</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2 Carmen: </a:t>
            </a:r>
            <a:r>
              <a:rPr b="0" lang="es-MX" sz="1400" spc="-1" strike="noStrike">
                <a:solidFill>
                  <a:srgbClr val="000000"/>
                </a:solidFill>
                <a:latin typeface="Arial"/>
              </a:rPr>
              <a:t>	</a:t>
            </a:r>
            <a:r>
              <a:rPr b="0" lang="es-MX" sz="1400" spc="-1" strike="noStrike">
                <a:solidFill>
                  <a:srgbClr val="000000"/>
                </a:solidFill>
                <a:latin typeface="Arial"/>
              </a:rPr>
              <a:t>Es como el preservante, o algo así</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3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Allá en Chile ahí unas mermeladas espectaculares</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4 Carmen: </a:t>
            </a:r>
            <a:r>
              <a:rPr b="0" lang="es-MX" sz="1400" spc="-1" strike="noStrike">
                <a:solidFill>
                  <a:srgbClr val="000000"/>
                </a:solidFill>
                <a:latin typeface="Arial"/>
              </a:rPr>
              <a:t>	</a:t>
            </a:r>
            <a:r>
              <a:rPr b="0" lang="es-MX" sz="1400" spc="-1" strike="noStrike">
                <a:solidFill>
                  <a:srgbClr val="000000"/>
                </a:solidFill>
                <a:latin typeface="Arial"/>
              </a:rPr>
              <a:t>ja, ja,ja que es gueon este (9)</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5 Paulina: </a:t>
            </a:r>
            <a:r>
              <a:rPr b="0" lang="es-MX" sz="1400" spc="-1" strike="noStrike">
                <a:solidFill>
                  <a:srgbClr val="000000"/>
                </a:solidFill>
                <a:latin typeface="Arial"/>
              </a:rPr>
              <a:t>	</a:t>
            </a:r>
            <a:r>
              <a:rPr b="0" lang="es-MX" sz="1400" spc="-1" strike="noStrike">
                <a:solidFill>
                  <a:srgbClr val="000000"/>
                </a:solidFill>
                <a:latin typeface="Arial"/>
              </a:rPr>
              <a:t>¿Ahora encontrai en Chile las mermeladas espectaculares?</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6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pero es que aquí son muy malas</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7 Paulina: </a:t>
            </a:r>
            <a:r>
              <a:rPr b="0" lang="es-MX" sz="1400" spc="-1" strike="noStrike">
                <a:solidFill>
                  <a:srgbClr val="000000"/>
                </a:solidFill>
                <a:latin typeface="Arial"/>
              </a:rPr>
              <a:t>	</a:t>
            </a:r>
            <a:r>
              <a:rPr b="0" lang="es-MX" sz="1400" spc="-1" strike="noStrike">
                <a:solidFill>
                  <a:srgbClr val="000000"/>
                </a:solidFill>
                <a:latin typeface="Arial"/>
              </a:rPr>
              <a:t>¿Y donde están que no te las trajiste? Aa</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8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Trajimos una.</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9 Carmen: </a:t>
            </a:r>
            <a:r>
              <a:rPr b="0" lang="es-MX" sz="1400" spc="-1" strike="noStrike">
                <a:solidFill>
                  <a:srgbClr val="000000"/>
                </a:solidFill>
                <a:latin typeface="Arial"/>
              </a:rPr>
              <a:t>	</a:t>
            </a:r>
            <a:r>
              <a:rPr b="0" lang="es-MX" sz="1400" spc="-1" strike="noStrike">
                <a:solidFill>
                  <a:srgbClr val="000000"/>
                </a:solidFill>
                <a:latin typeface="Arial"/>
              </a:rPr>
              <a:t>&amp; [no se entiende, hablan a la vez]</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0 Paulina: </a:t>
            </a:r>
            <a:r>
              <a:rPr b="0" lang="es-MX" sz="1400" spc="-1" strike="noStrike">
                <a:solidFill>
                  <a:srgbClr val="000000"/>
                </a:solidFill>
                <a:latin typeface="Arial"/>
              </a:rPr>
              <a:t>	</a:t>
            </a:r>
            <a:r>
              <a:rPr b="0" lang="es-MX" sz="1400" spc="-1" strike="noStrike">
                <a:solidFill>
                  <a:srgbClr val="000000"/>
                </a:solidFill>
                <a:latin typeface="Arial"/>
              </a:rPr>
              <a:t>&amp;aa, Pero no queriai traer ninguna</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1 Carlos:</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pero que esta hecha en casa</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2 Carmen: </a:t>
            </a:r>
            <a:r>
              <a:rPr b="0" lang="es-MX" sz="1400" spc="-1" strike="noStrike">
                <a:solidFill>
                  <a:srgbClr val="000000"/>
                </a:solidFill>
                <a:latin typeface="Arial"/>
              </a:rPr>
              <a:t>	</a:t>
            </a:r>
            <a:r>
              <a:rPr b="0" lang="es-MX" sz="1400" spc="-1" strike="noStrike">
                <a:solidFill>
                  <a:srgbClr val="000000"/>
                </a:solidFill>
                <a:latin typeface="Arial"/>
              </a:rPr>
              <a:t>./Oye pero como es la otra biblioteca, que onda que </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iene</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3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Lo mismo que(3) que  todas po</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4 Carmen: </a:t>
            </a:r>
            <a:r>
              <a:rPr b="0" lang="es-MX" sz="1400" spc="-1" strike="noStrike">
                <a:solidFill>
                  <a:srgbClr val="000000"/>
                </a:solidFill>
                <a:latin typeface="Arial"/>
              </a:rPr>
              <a:t>	</a:t>
            </a:r>
            <a:r>
              <a:rPr b="0" lang="es-MX" sz="1400" spc="-1" strike="noStrike">
                <a:solidFill>
                  <a:srgbClr val="000000"/>
                </a:solidFill>
                <a:latin typeface="Arial"/>
              </a:rPr>
              <a:t>Y tiene cd y todo</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5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También</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6 Paulina: </a:t>
            </a:r>
            <a:r>
              <a:rPr b="0" lang="es-MX" sz="1400" spc="-1" strike="noStrike">
                <a:solidFill>
                  <a:srgbClr val="000000"/>
                </a:solidFill>
                <a:latin typeface="Arial"/>
              </a:rPr>
              <a:t>	</a:t>
            </a:r>
            <a:r>
              <a:rPr b="0" lang="es-MX" sz="1400" spc="-1" strike="noStrike">
                <a:solidFill>
                  <a:srgbClr val="000000"/>
                </a:solidFill>
                <a:latin typeface="Arial"/>
              </a:rPr>
              <a:t>¿aa También tiene?</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7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si, Pero es más chica, porque,  no tiene piso, osea(2)</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8 Carmen: </a:t>
            </a:r>
            <a:r>
              <a:rPr b="0" lang="es-MX" sz="1400" spc="-1" strike="noStrike">
                <a:solidFill>
                  <a:srgbClr val="000000"/>
                </a:solidFill>
                <a:latin typeface="Arial"/>
              </a:rPr>
              <a:t>	</a:t>
            </a:r>
            <a:r>
              <a:rPr b="0" lang="es-MX" sz="1400" spc="-1" strike="noStrike">
                <a:solidFill>
                  <a:srgbClr val="000000"/>
                </a:solidFill>
                <a:latin typeface="Arial"/>
              </a:rPr>
              <a:t>es de un piso</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59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De un piso</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60 Carmen: </a:t>
            </a:r>
            <a:r>
              <a:rPr b="0" lang="es-MX" sz="1400" spc="-1" strike="noStrike">
                <a:solidFill>
                  <a:srgbClr val="000000"/>
                </a:solidFill>
                <a:latin typeface="Arial"/>
              </a:rPr>
              <a:t>	</a:t>
            </a:r>
            <a:r>
              <a:rPr b="0" lang="es-MX" sz="1400" spc="-1" strike="noStrike">
                <a:solidFill>
                  <a:srgbClr val="000000"/>
                </a:solidFill>
                <a:latin typeface="Arial"/>
              </a:rPr>
              <a:t>Y cuanto libros tiene, o sea ¿tiene hartos libros?</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61 Carlos: </a:t>
            </a: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No los conte (ja,ja,j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Tres Etapas (Martín Baró, 1983)</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é nos mantiene unidos en el orden establecid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é nos integra al orden establecid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é nos libera del desorden establecido?".</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contemporánea</a:t>
            </a:r>
            <a:endParaRPr b="0" lang="en-US" sz="3800" spc="-1" strike="noStrike">
              <a:solidFill>
                <a:srgbClr val="000000"/>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Self e identidad</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 situada y cambia según las situaciones (múltipl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 es emergente al proceso social de las interacciones concretas y locale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 es recíproca a las respuestas que sobre nosotros nos dan los demá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 es negociada, en los ajustes intersubjetivo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 causa y resultado de la interacción soci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contemporanea</a:t>
            </a:r>
            <a:endParaRPr b="0" lang="en-US" sz="3800" spc="-1" strike="noStrike">
              <a:solidFill>
                <a:srgbClr val="000000"/>
              </a:solidFill>
              <a:latin typeface="Arial"/>
            </a:endParaRPr>
          </a:p>
        </p:txBody>
      </p:sp>
      <p:sp>
        <p:nvSpPr>
          <p:cNvPr id="13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Ps. Social Europea</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ocupada por las implicancias ideológicas y la dimensión social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gnición social</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tegorización y relaciones de grupos</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fluencia minoritaria y teoría de la conversión</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mociones y conductas no verbales</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tr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contemporanea</a:t>
            </a:r>
            <a:endParaRPr b="0" lang="en-US" sz="3800" spc="-1" strike="noStrike">
              <a:solidFill>
                <a:srgbClr val="000000"/>
              </a:solidFill>
              <a:latin typeface="Arial"/>
            </a:endParaRPr>
          </a:p>
        </p:txBody>
      </p:sp>
      <p:sp>
        <p:nvSpPr>
          <p:cNvPr id="13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Ps. Social Europea</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presentaciones sociales (Moscovici) </a:t>
            </a:r>
            <a:endParaRPr b="0" lang="en-US" sz="24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uando las personas hacen referencia a los objetos sociales, los clasifican, los explican y, además, los evalúan, es porque tienen una representación social de ese objeto. Esto significa, como bien lo señala Jodelet (1984), que representar es hacer un equivalente, pero no en el sentido de una equivalencia fotográfica sino que, un objeto se representa cuando está mediado por una figura. Y es solo en esta condición que emerge la representación y el contenido correspondiente.</a:t>
            </a:r>
            <a:endParaRPr b="0" lang="en-US" sz="16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or qué las personas no usan preservativo, a pesar de las evidencias de su carácter preventivo del VIH/SIDA y otras enfermedades de transmisión sexual? ¿Por qué las mujeres víctimas de violencia doméstica, esperan — algunas, dolorosamente, hasta su muerte— la </a:t>
            </a:r>
            <a:r>
              <a:rPr b="0" i="1" lang="es-ES_tradnl" sz="1600" spc="-1" strike="noStrike">
                <a:solidFill>
                  <a:srgbClr val="000000"/>
                </a:solidFill>
                <a:latin typeface="Arial"/>
              </a:rPr>
              <a:t>conversión </a:t>
            </a:r>
            <a:r>
              <a:rPr b="0" lang="es-ES_tradnl" sz="1600" spc="-1" strike="noStrike">
                <a:solidFill>
                  <a:srgbClr val="000000"/>
                </a:solidFill>
                <a:latin typeface="Arial"/>
              </a:rPr>
              <a:t>del agresor? ¿Cuál es la representación social de “amor”, “cuerpo” “violencia” o “sexo” que está acompañando estas prácticas? Emprender estudios acerca de la representación de un objeto social —VIH/SIDA; relaciones entre mujeres y hombres, por ejemplo— permite reconocer los modos y procesos de constitución del pensamiento social, por medio del cual las personas construyen y son construidas por la realidad social. Pero además, nos aproxima a la “visión de mundo” que las personas o grupos tienen, pues el conocimiento del sentido común es el que la gente utiliza para actuar o tomar posición ante los distintos objetos social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contemporánea</a:t>
            </a:r>
            <a:endParaRPr b="0" lang="en-US" sz="3800" spc="-1" strike="noStrike">
              <a:solidFill>
                <a:srgbClr val="000000"/>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Corrientes alternativa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eoría de la acció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rientación dialéctic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rientación hermenéutic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rientación construccionist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Latinoamericana</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rtín Baró</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s. de la liberació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s. Social Comunitari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s crít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s. Social Post-contruccionista***</a:t>
            </a:r>
            <a:endParaRPr b="0" lang="en-US" sz="3800" spc="-1" strike="noStrike">
              <a:solidFill>
                <a:srgbClr val="000000"/>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eflexivida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eoría del actor re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osicionamientos y epistemologías feminista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erformatividad</a:t>
            </a:r>
            <a:endParaRPr b="0" lang="en-US" sz="3200" spc="-1" strike="noStrike">
              <a:solidFill>
                <a:srgbClr val="000000"/>
              </a:solidFill>
              <a:latin typeface="Arial"/>
            </a:endParaRPr>
          </a:p>
          <a:p>
            <a:pPr marL="343080" indent="-343080">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ttp://psicologiasocial.uab.es/athenea/index.php/atheneaDigital/article/view/235/23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Guía para el control de lectura</a:t>
            </a:r>
            <a:endParaRPr b="0" lang="en-US" sz="3800" spc="-1" strike="noStrike">
              <a:solidFill>
                <a:srgbClr val="000000"/>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ién es Martín Baró *</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é es la teología de la liberación *</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ríticas a la psicología tradicional</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ales son los aportes de la ps social latinoamericana</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ación con la TO</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esto no lo define el texto pero es necesario para su comprensión, consultar wikipedia o bibliografía complementa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8360" y="1483920"/>
            <a:ext cx="4906800" cy="475308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imponen las tesis de Allport desembocando en una </a:t>
            </a:r>
            <a:r>
              <a:rPr b="0" lang="es-ES_tradnl" sz="2400" spc="-1" strike="noStrike" u="sng">
                <a:solidFill>
                  <a:srgbClr val="000000"/>
                </a:solidFill>
                <a:uFillTx/>
                <a:latin typeface="Arial"/>
              </a:rPr>
              <a:t>“individualización de lo social y una desocialización del individuo”</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930, se acentúan las bases para el desarrollo de una disciplina de corte empírico- positivista, enmarcado en un fuerte </a:t>
            </a:r>
            <a:r>
              <a:rPr b="1" lang="es-ES_tradnl" sz="2400" spc="-1" strike="noStrike">
                <a:solidFill>
                  <a:srgbClr val="000000"/>
                </a:solidFill>
                <a:latin typeface="Arial"/>
              </a:rPr>
              <a:t>reduccionismo</a:t>
            </a:r>
            <a:r>
              <a:rPr b="1" lang="es-ES_tradnl" sz="2400" spc="-1" strike="noStrike" u="sng">
                <a:solidFill>
                  <a:srgbClr val="000000"/>
                </a:solidFill>
                <a:uFillTx/>
                <a:latin typeface="Arial"/>
              </a:rPr>
              <a:t> </a:t>
            </a:r>
            <a:r>
              <a:rPr b="0" lang="es-ES_tradnl" sz="2400" spc="-1" strike="noStrike" u="sng">
                <a:solidFill>
                  <a:srgbClr val="000000"/>
                </a:solidFill>
                <a:uFillTx/>
                <a:latin typeface="Arial"/>
              </a:rPr>
              <a:t>individualista y psicologicist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 descr=""/>
          <p:cNvPicPr/>
          <p:nvPr/>
        </p:nvPicPr>
        <p:blipFill>
          <a:blip r:embed="rId1"/>
          <a:stretch/>
        </p:blipFill>
        <p:spPr>
          <a:xfrm>
            <a:off x="5724360" y="1805040"/>
            <a:ext cx="2664000" cy="26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Orientaciones Tradicionales en Psicología Social (Ibañez)</a:t>
            </a:r>
            <a:endParaRPr b="0" lang="en-US" sz="3400" spc="-1" strike="noStrike">
              <a:solidFill>
                <a:srgbClr val="000000"/>
              </a:solidFill>
              <a:latin typeface="Arial"/>
            </a:endParaRPr>
          </a:p>
        </p:txBody>
      </p:sp>
      <p:sp>
        <p:nvSpPr>
          <p:cNvPr id="102" name="PlaceHolder 2"/>
          <p:cNvSpPr>
            <a:spLocks noGrp="1"/>
          </p:cNvSpPr>
          <p:nvPr>
            <p:ph/>
          </p:nvPr>
        </p:nvSpPr>
        <p:spPr>
          <a:xfrm>
            <a:off x="539280" y="2421000"/>
            <a:ext cx="7355160" cy="327816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cio-conductita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cio-gestáltica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sicoanálítica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eoría del rol</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teraccionismo simból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Orientaciones Tradicionales en Psicología Social (Ibañez)</a:t>
            </a:r>
            <a:endParaRPr b="0" lang="en-US" sz="34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Socio-conductita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orientaciones conductistas no predominaron tanto en la ps social como en la ps general.</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Bandura y teoría del aprendizaje social (aprendizaje vicario - modelado),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6767ff"/>
                </a:solidFill>
                <a:uFillTx/>
                <a:latin typeface="Arial"/>
                <a:hlinkClick r:id="rId1"/>
              </a:rPr>
              <a:t>http://www.youtube.com/watch?v=uMwOexrV6fM</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Teoría de facilitación social (facilita la respuesta dominante)</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arten la convicción de que la conducta social se adquiere fundamentalmente a través de un proceso de condicionamiento, ya sea instrumental/operante o clásico.</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partir de aquí explica la conducta social en términos de aprendizaje</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ozco la conducta por sus experiencias previas que le han condicion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Orientaciones Tradicionales en Psicología Social (Ibañez)</a:t>
            </a:r>
            <a:endParaRPr b="0" lang="en-US" sz="3400" spc="-1" strike="noStrike">
              <a:solidFill>
                <a:srgbClr val="000000"/>
              </a:solidFill>
              <a:latin typeface="Arial"/>
            </a:endParaRPr>
          </a:p>
        </p:txBody>
      </p:sp>
      <p:sp>
        <p:nvSpPr>
          <p:cNvPr id="10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Socio-gestáltica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picio el desarrollo de aspectos fenomenológicos y cognitivos de cómo la persona interpreta /construye su realidad</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entuó el reduccionismo psicologicista e individualista</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entuó el experimentalismo como medio para producir conocimientos útile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Y el ahistoricismo centrando la atención en el aquí y el ahora</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ewin y la teoría de campo: para predecir conducta no importan tanto la forma en que la persona ha llegado a la situación sino la propia situación y como la persona vive/interpreta ese momento present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Orientaciones Tradicionales en Psicología Social (Ibañez)</a:t>
            </a:r>
            <a:endParaRPr b="0" lang="en-US" sz="3400" spc="-1" strike="noStrike">
              <a:solidFill>
                <a:srgbClr val="000000"/>
              </a:solidFill>
              <a:latin typeface="Arial"/>
            </a:endParaRPr>
          </a:p>
        </p:txBody>
      </p:sp>
      <p:sp>
        <p:nvSpPr>
          <p:cNvPr id="108" name="PlaceHolder 2"/>
          <p:cNvSpPr>
            <a:spLocks noGrp="1"/>
          </p:cNvSpPr>
          <p:nvPr>
            <p:ph/>
          </p:nvPr>
        </p:nvSpPr>
        <p:spPr>
          <a:xfrm>
            <a:off x="539280" y="1700280"/>
            <a:ext cx="7355160" cy="327816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Psicoanálítica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gunas corrientes analizaron la persona y la sociedad desde los postulados freudianos, dando mayor énfasis a los aspectos culturales reduciendo la importancia de la líbido y las pulsiones biológicas (inconciente)</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nor influencia en ps social al igual que las corrientes conductista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Orientaciones Tradicionales en Psicología Social (Ibañez)</a:t>
            </a:r>
            <a:endParaRPr b="0" lang="en-US" sz="3400" spc="-1" strike="noStrike">
              <a:solidFill>
                <a:srgbClr val="000000"/>
              </a:solidFill>
              <a:latin typeface="Arial"/>
            </a:endParaRPr>
          </a:p>
        </p:txBody>
      </p:sp>
      <p:sp>
        <p:nvSpPr>
          <p:cNvPr id="110" name="PlaceHolder 2"/>
          <p:cNvSpPr>
            <a:spLocks noGrp="1"/>
          </p:cNvSpPr>
          <p:nvPr>
            <p:ph/>
          </p:nvPr>
        </p:nvSpPr>
        <p:spPr>
          <a:xfrm>
            <a:off x="539280" y="1773000"/>
            <a:ext cx="7355160" cy="39258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eoría del rol</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capacidad de adoptar la posición del otro y de actuar hacia si mismo desde esa posición (proceso de toma de rol), constituye un mecanismo básico de socialización y de interiorización de las normas sociales y es un instrumento para construir la propia identidad (Mead)</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é roles desempeñam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lema</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4038480" cy="3484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iencia de procesos colectivos (Mead)</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iencia de los factores sociales que inciden sobre el individuo (Allport)</a:t>
            </a:r>
            <a:endParaRPr b="0" lang="en-US" sz="2800" spc="-1" strike="noStrike">
              <a:solidFill>
                <a:srgbClr val="000000"/>
              </a:solidFill>
              <a:latin typeface="Arial"/>
            </a:endParaRPr>
          </a:p>
        </p:txBody>
      </p:sp>
      <p:sp>
        <p:nvSpPr>
          <p:cNvPr id="113" name=""/>
          <p:cNvSpPr/>
          <p:nvPr/>
        </p:nvSpPr>
        <p:spPr>
          <a:xfrm>
            <a:off x="4643280" y="1628640"/>
            <a:ext cx="4038840" cy="4530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 name="" descr=""/>
          <p:cNvPicPr/>
          <p:nvPr/>
        </p:nvPicPr>
        <p:blipFill>
          <a:blip r:embed="rId1"/>
          <a:stretch/>
        </p:blipFill>
        <p:spPr>
          <a:xfrm>
            <a:off x="4500720" y="1844640"/>
            <a:ext cx="4032000" cy="345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03:47:48Z</dcterms:created>
  <dc:creator>pamelita</dc:creator>
  <dc:description/>
  <dc:language>en-US</dc:language>
  <cp:lastModifiedBy>Fac. de Medicina</cp:lastModifiedBy>
  <dcterms:modified xsi:type="dcterms:W3CDTF">2009-04-01T15:15:46Z</dcterms:modified>
  <cp:revision>22</cp:revision>
  <dc:subject/>
  <dc:title>Psicología Social Definición e historia</dc:title>
</cp:coreProperties>
</file>