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E8455-7F15-47FF-A17C-BDA50D1A1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2A26C-C4AE-4C69-86D2-9E06C2EE0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780CE-4C7B-4D17-818C-7A6FE93C7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40346-AE2D-4183-9DF7-20DB1A4A7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BDBD5-F8E5-423F-AD00-44390E314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79C69-C466-4849-8C6A-AA6C43B4E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D5198-A92D-4761-BD9A-E84C02772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14D42-61E5-4D16-8917-3EDAFE631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468EB-C473-4929-90BC-CC4FF016B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05532-745C-4B1E-9460-38F3EA8A8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8813B-6F25-41B0-ACEB-05896F412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BE0D3-52A5-4FCE-9321-6ECCFB979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0A082-2541-447D-A1FF-A1E319C5C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0E362-E917-411E-8157-363DE571E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31529-0D17-4E3E-A2D3-C05E2A9C1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D70DF-E891-4B12-A87A-7C86D2F3D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029AB-F33A-4930-9F41-21C1B32E9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1E2B5-B062-47FF-96EC-7877FE14D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7681A-4E78-4177-96E1-583CFD942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774C0-A39E-416C-BBE7-4D2A9238F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5581D-235C-4199-8EC2-37C76431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28CBB-15DF-4798-A9A1-29E081FA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236E-AE0A-47D4-9ED3-724A156D5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04C0-C6C2-44C4-82E6-D2793F833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F706-9968-4A34-A10D-19BA24A1E1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DD96-236B-417A-9F5C-1DE3A1FF83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uMwOexrV6f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ales perspectivas teóric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ignatura: Psicología Social y del Trabaj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6" name="PlaceHolder 2"/>
          <p:cNvSpPr>
            <a:spLocks noGrp="1"/>
          </p:cNvSpPr>
          <p:nvPr>
            <p:ph/>
          </p:nvPr>
        </p:nvSpPr>
        <p:spPr>
          <a:xfrm>
            <a:off x="539280" y="1773360"/>
            <a:ext cx="735516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Interaccionismo simbólic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Lo propio del SH radica en actuar en relación con los objetos a partir del significado que estos representan para ellos… para entender la conducta es necesario conocer ¿cuál es la definición subjetiva/fenomenológica que le da el individu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l significado de los objetos emerge de la interacción social (interpersonal- intrapsíquico):</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mo aprendizaje, ni traspaso sino como construcción en la interacción.</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Reflexividad</a:t>
            </a:r>
            <a:r>
              <a:rPr b="0" lang="es-ES_tradnl" sz="1800" spc="-1" strike="noStrike">
                <a:solidFill>
                  <a:srgbClr val="000000"/>
                </a:solidFill>
                <a:latin typeface="Arial"/>
              </a:rPr>
              <a:t>: articular con los demás implica situarse en posición del otro y verse a uno mismo como objeto de los demás, para actuar y generar efectos deseados</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ctividad en la construcción de sentidos: </a:t>
            </a:r>
            <a:r>
              <a:rPr b="0" lang="es-ES_tradnl" sz="1800" spc="-1" strike="noStrike">
                <a:solidFill>
                  <a:srgbClr val="000000"/>
                </a:solidFill>
                <a:latin typeface="Arial"/>
              </a:rPr>
              <a:t>conocimiento por medio de la interacción  (Piaget- vigotsky), se aleja se ideas cognitivis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8" name="PlaceHolder 2"/>
          <p:cNvSpPr>
            <a:spLocks noGrp="1"/>
          </p:cNvSpPr>
          <p:nvPr>
            <p:ph/>
          </p:nvPr>
        </p:nvSpPr>
        <p:spPr>
          <a:xfrm>
            <a:off x="539280" y="1773360"/>
            <a:ext cx="7355160" cy="45352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Interaccionismo simbólico</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Carácter activo del ser humano, en la negociación interpersonal, genera significados compartidos de las situaciones (negociación interpersonal /significados/negociación activa)</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mas: identidad, roles, lenguaje, comun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rcicio práctic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eamos la peli pequeña miss sunshine 2’ al 2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que el significado de los integrantes de la familia en torno a la belleza y éxit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e significados se elaboran en conjunt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Núcleos temáticos en psicología social actual</a:t>
            </a:r>
            <a:endParaRPr b="0" lang="en-US" sz="34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ctitudes o cambio de actitudes (influencia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Psicología de los grupo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nguaje y comunicac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Percepción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Liderazg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tivación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cializac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Cultura y Persona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Núcleos temáticos en psicología social actual</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cializ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colectiv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Self (personalidad e interacción so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isis de la Psicología Social</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ítica contra la falta de interés de los resultados alcanzado</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ra la inoperancia social de los planteamien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estionamiento a la validez y objetividad de sus resultad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internos: “una identidad compleja, conflictiva y heterogénea y relativamente imprecisa de la ps. social, con sus permanentes y múltiples tensiones constitutivas, contribuyó a que los ps. sociales tuvieran que estar más atentos que los miembros de otras disciplinas antes los problemas meta teóricos relacionados con la propia definición de la disciplina y con la fundamentación del conocimiento científico” (Ibañez: 145)</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externos: mayo del 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 (70+)</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gnición social</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iro cognitivista de la disciplina, pasa de ser un área (motivación, aprendizaje, etc) a un enfoque teórico (psicoanálisis, conductismo). Antecedentes favorabl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sona como procesador de información (computadora),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quemas cognitivos, como guías de conducta (casino, restaurant)</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erencias sociales, para predecir el comportamiento en socieda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de la atribución (cognición sobre emoción o motiva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Interaccionismo simbólico, etnometodología y self</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yor presencia del IS por la crisis y auge del cognitivismo</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ol de los investigadores en lo experimental</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Significado atribuido a la situación</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Dudas acerca de la validez experimental</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educcionismo</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elevancia social</a:t>
            </a:r>
            <a:endParaRPr b="0" lang="en-US" sz="27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Etnometodología:</a:t>
            </a:r>
            <a:endParaRPr b="0" lang="en-US" sz="24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hechos sociales no determinan la conducta humana, sino que estos son el resultado de la una conducta humana que los produce continuamente por medio de su actividad práctic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trario a ideas de interiorización de cultura (determinismo social), sino el SH como agente activo que construye a partir de su experiencia subjetiv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lo tanto, se interesa en conocer las estructuras subjetivas de la experiencia, que las personas elaboran por medio de su razonamiento práctico, para dar significado a su existencia socia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cal, contingente (ir directamente a los hechos, lo cotidiani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exicabilidad (contexto, yo, tu), intersubjetividad (significados compartidos), reflexividad (acción estratégica y persona como agente frente al determinismo) y acountability (dar cuenta, como la realidad de la perso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8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Como son la mermelada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9 Roberto: </a:t>
            </a:r>
            <a:r>
              <a:rPr b="0" lang="es-MX" sz="1400" spc="-1" strike="noStrike">
                <a:solidFill>
                  <a:srgbClr val="000000"/>
                </a:solidFill>
                <a:latin typeface="Arial"/>
              </a:rPr>
              <a:t>	</a:t>
            </a:r>
            <a:r>
              <a:rPr b="0" lang="es-MX" sz="1400" spc="-1" strike="noStrike">
                <a:solidFill>
                  <a:srgbClr val="000000"/>
                </a:solidFill>
                <a:latin typeface="Arial"/>
              </a:rPr>
              <a:t>Mas o menos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0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Oye que son malas las mermeladas acá en españ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1 Carmen: </a:t>
            </a:r>
            <a:r>
              <a:rPr b="0" lang="es-MX" sz="1400" spc="-1" strike="noStrike">
                <a:solidFill>
                  <a:srgbClr val="000000"/>
                </a:solidFill>
                <a:latin typeface="Arial"/>
              </a:rPr>
              <a:t>	</a:t>
            </a:r>
            <a:r>
              <a:rPr b="0" lang="es-MX" sz="1400" spc="-1" strike="noStrike">
                <a:solidFill>
                  <a:srgbClr val="000000"/>
                </a:solidFill>
                <a:latin typeface="Arial"/>
              </a:rPr>
              <a:t>(ja, ja, ja, ) es que tiene  [tos]n como una gelatina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rriba. Hay que revolverl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2 Carmen: </a:t>
            </a:r>
            <a:r>
              <a:rPr b="0" lang="es-MX" sz="1400" spc="-1" strike="noStrike">
                <a:solidFill>
                  <a:srgbClr val="000000"/>
                </a:solidFill>
                <a:latin typeface="Arial"/>
              </a:rPr>
              <a:t>	</a:t>
            </a:r>
            <a:r>
              <a:rPr b="0" lang="es-MX" sz="1400" spc="-1" strike="noStrike">
                <a:solidFill>
                  <a:srgbClr val="000000"/>
                </a:solidFill>
                <a:latin typeface="Arial"/>
              </a:rPr>
              <a:t>Es como el preservante, o algo así</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3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Allá en Chile ahí unas mermeladas espectaculare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4 Carmen: </a:t>
            </a:r>
            <a:r>
              <a:rPr b="0" lang="es-MX" sz="1400" spc="-1" strike="noStrike">
                <a:solidFill>
                  <a:srgbClr val="000000"/>
                </a:solidFill>
                <a:latin typeface="Arial"/>
              </a:rPr>
              <a:t>	</a:t>
            </a:r>
            <a:r>
              <a:rPr b="0" lang="es-MX" sz="1400" spc="-1" strike="noStrike">
                <a:solidFill>
                  <a:srgbClr val="000000"/>
                </a:solidFill>
                <a:latin typeface="Arial"/>
              </a:rPr>
              <a:t>ja, ja,ja que es gueon este (9)</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5 Paulina: </a:t>
            </a:r>
            <a:r>
              <a:rPr b="0" lang="es-MX" sz="1400" spc="-1" strike="noStrike">
                <a:solidFill>
                  <a:srgbClr val="000000"/>
                </a:solidFill>
                <a:latin typeface="Arial"/>
              </a:rPr>
              <a:t>	</a:t>
            </a:r>
            <a:r>
              <a:rPr b="0" lang="es-MX" sz="1400" spc="-1" strike="noStrike">
                <a:solidFill>
                  <a:srgbClr val="000000"/>
                </a:solidFill>
                <a:latin typeface="Arial"/>
              </a:rPr>
              <a:t>¿Ahora encontrai en Chile las mermeladas espectaculare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6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pero es que aquí son muy mala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7 Paulina: </a:t>
            </a:r>
            <a:r>
              <a:rPr b="0" lang="es-MX" sz="1400" spc="-1" strike="noStrike">
                <a:solidFill>
                  <a:srgbClr val="000000"/>
                </a:solidFill>
                <a:latin typeface="Arial"/>
              </a:rPr>
              <a:t>	</a:t>
            </a:r>
            <a:r>
              <a:rPr b="0" lang="es-MX" sz="1400" spc="-1" strike="noStrike">
                <a:solidFill>
                  <a:srgbClr val="000000"/>
                </a:solidFill>
                <a:latin typeface="Arial"/>
              </a:rPr>
              <a:t>¿Y donde están que no te las trajiste? A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8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Trajimos un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9 Carmen: </a:t>
            </a:r>
            <a:r>
              <a:rPr b="0" lang="es-MX" sz="1400" spc="-1" strike="noStrike">
                <a:solidFill>
                  <a:srgbClr val="000000"/>
                </a:solidFill>
                <a:latin typeface="Arial"/>
              </a:rPr>
              <a:t>	</a:t>
            </a:r>
            <a:r>
              <a:rPr b="0" lang="es-MX" sz="1400" spc="-1" strike="noStrike">
                <a:solidFill>
                  <a:srgbClr val="000000"/>
                </a:solidFill>
                <a:latin typeface="Arial"/>
              </a:rPr>
              <a:t>&amp; [no se entiende, hablan a la vez]</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0 Paulina: </a:t>
            </a:r>
            <a:r>
              <a:rPr b="0" lang="es-MX" sz="1400" spc="-1" strike="noStrike">
                <a:solidFill>
                  <a:srgbClr val="000000"/>
                </a:solidFill>
                <a:latin typeface="Arial"/>
              </a:rPr>
              <a:t>	</a:t>
            </a:r>
            <a:r>
              <a:rPr b="0" lang="es-MX" sz="1400" spc="-1" strike="noStrike">
                <a:solidFill>
                  <a:srgbClr val="000000"/>
                </a:solidFill>
                <a:latin typeface="Arial"/>
              </a:rPr>
              <a:t>&amp;aa, Pero no queriai traer ningun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1 Carlos:</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pero que esta hecha en cas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2 Carmen: </a:t>
            </a:r>
            <a:r>
              <a:rPr b="0" lang="es-MX" sz="1400" spc="-1" strike="noStrike">
                <a:solidFill>
                  <a:srgbClr val="000000"/>
                </a:solidFill>
                <a:latin typeface="Arial"/>
              </a:rPr>
              <a:t>	</a:t>
            </a:r>
            <a:r>
              <a:rPr b="0" lang="es-MX" sz="1400" spc="-1" strike="noStrike">
                <a:solidFill>
                  <a:srgbClr val="000000"/>
                </a:solidFill>
                <a:latin typeface="Arial"/>
              </a:rPr>
              <a:t>./Oye pero como es la otra biblioteca, que onda que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ne</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3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Lo mismo que(3) que  todas p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4 Carmen: </a:t>
            </a:r>
            <a:r>
              <a:rPr b="0" lang="es-MX" sz="1400" spc="-1" strike="noStrike">
                <a:solidFill>
                  <a:srgbClr val="000000"/>
                </a:solidFill>
                <a:latin typeface="Arial"/>
              </a:rPr>
              <a:t>	</a:t>
            </a:r>
            <a:r>
              <a:rPr b="0" lang="es-MX" sz="1400" spc="-1" strike="noStrike">
                <a:solidFill>
                  <a:srgbClr val="000000"/>
                </a:solidFill>
                <a:latin typeface="Arial"/>
              </a:rPr>
              <a:t>Y tiene cd y tod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5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También</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6 Paulina: </a:t>
            </a:r>
            <a:r>
              <a:rPr b="0" lang="es-MX" sz="1400" spc="-1" strike="noStrike">
                <a:solidFill>
                  <a:srgbClr val="000000"/>
                </a:solidFill>
                <a:latin typeface="Arial"/>
              </a:rPr>
              <a:t>	</a:t>
            </a:r>
            <a:r>
              <a:rPr b="0" lang="es-MX" sz="1400" spc="-1" strike="noStrike">
                <a:solidFill>
                  <a:srgbClr val="000000"/>
                </a:solidFill>
                <a:latin typeface="Arial"/>
              </a:rPr>
              <a:t>¿aa También tiene?</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7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si, Pero es más chica, porque,  no tiene piso, osea(2)</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8 Carmen: </a:t>
            </a:r>
            <a:r>
              <a:rPr b="0" lang="es-MX" sz="1400" spc="-1" strike="noStrike">
                <a:solidFill>
                  <a:srgbClr val="000000"/>
                </a:solidFill>
                <a:latin typeface="Arial"/>
              </a:rPr>
              <a:t>	</a:t>
            </a:r>
            <a:r>
              <a:rPr b="0" lang="es-MX" sz="1400" spc="-1" strike="noStrike">
                <a:solidFill>
                  <a:srgbClr val="000000"/>
                </a:solidFill>
                <a:latin typeface="Arial"/>
              </a:rPr>
              <a:t>es de un pis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9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De un pis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0 Carmen: </a:t>
            </a:r>
            <a:r>
              <a:rPr b="0" lang="es-MX" sz="1400" spc="-1" strike="noStrike">
                <a:solidFill>
                  <a:srgbClr val="000000"/>
                </a:solidFill>
                <a:latin typeface="Arial"/>
              </a:rPr>
              <a:t>	</a:t>
            </a:r>
            <a:r>
              <a:rPr b="0" lang="es-MX" sz="1400" spc="-1" strike="noStrike">
                <a:solidFill>
                  <a:srgbClr val="000000"/>
                </a:solidFill>
                <a:latin typeface="Arial"/>
              </a:rPr>
              <a:t>Y cuanto libros tiene, o sea ¿tiene hartos libro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1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No los conte (ja,ja,j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Tres Etapas (Martín Baró, 1983)</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mantiene unidos en el orden establecid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integra al orden establecid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libera del desorden establecid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elf e identida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situada y cambia según las situaciones (múltipl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emergente al proceso social de las interacciones concretas y loca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recíproca a las respuestas que sobre nosotros nos dan los demá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negociada, en los ajustes intersubjetiv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causa y resultado de la interacción soc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anea</a:t>
            </a: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s. Social Europea</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ocupada por las implicancias ideológicas y la dimensión social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gnición social</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tegorización y relaciones de grupo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luencia minoritaria y teoría de la conversió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mociones y conductas no verbale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anea</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s. Social Europe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presentaciones sociales (Moscovici) </a:t>
            </a:r>
            <a:endParaRPr b="0" lang="en-US" sz="24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las personas hacen referencia a los objetos sociales, los clasifican, los explican y, además, los evalúan, es porque tienen una representación social de ese objeto. Esto significa, como bien lo señala Jodelet (1984), que representar es hacer un equivalente, pero no en el sentido de una equivalencia fotográfica sino que, un objeto se representa cuando está mediado por una figura. Y es solo en esta condición que emerge la representación y el contenido correspondiente.</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qué las personas no usan preservativo, a pesar de las evidencias de su carácter preventivo del VIH/SIDA y otras enfermedades de transmisión sexual? ¿Por qué las mujeres víctimas de violencia doméstica, esperan — algunas, dolorosamente, hasta su muerte— la </a:t>
            </a:r>
            <a:r>
              <a:rPr b="0" i="1" lang="es-ES_tradnl" sz="1600" spc="-1" strike="noStrike">
                <a:solidFill>
                  <a:srgbClr val="000000"/>
                </a:solidFill>
                <a:latin typeface="Arial"/>
              </a:rPr>
              <a:t>conversión </a:t>
            </a:r>
            <a:r>
              <a:rPr b="0" lang="es-ES_tradnl" sz="1600" spc="-1" strike="noStrike">
                <a:solidFill>
                  <a:srgbClr val="000000"/>
                </a:solidFill>
                <a:latin typeface="Arial"/>
              </a:rPr>
              <a:t>del agresor? ¿Cuál es la representación social de “amor”, “cuerpo” “violencia” o “sexo” que está acompañando estas prácticas? Emprender estudios acerca de la representación de un objeto social —VIH/SIDA; relaciones entre mujeres y hombres, por ejemplo— permite reconocer los modos y procesos de constitución del pensamiento social, por medio del cual las personas construyen y son construidas por la realidad social. Pero además, nos aproxima a la “visión de mundo” que las personas o grupos tienen, pues el conocimiento del sentido común es el que la gente utiliza para actuar o tomar posición ante los distintos objetos soci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rrientes alternativ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 la ac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dialéct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ermenéut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construccio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Latinoamericana</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tín Baró</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de la liber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Social Comunita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crí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Post-contruccionista***</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flexivida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l actor r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sicionamientos y epistemologías feminist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formatividad</a:t>
            </a:r>
            <a:endParaRPr b="0" lang="en-US" sz="3200" spc="-1" strike="noStrike">
              <a:solidFill>
                <a:srgbClr val="000000"/>
              </a:solidFill>
              <a:latin typeface="Arial"/>
            </a:endParaRPr>
          </a:p>
          <a:p>
            <a:pPr marL="343080" indent="-34308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psicologiasocial.uab.es/athenea/index.php/atheneaDigital/article/view/235/23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Guía para el control de lectura</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 es Martín Baró *</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es la teología de la liberación *</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íticas a la psicología tradicional</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les son los aportes de la ps social latinoamerican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ción con la T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esto no lo define el texto pero es necesario para su comprensión, consultar wikipedia o bibliografía complemen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483920"/>
            <a:ext cx="4906800" cy="475308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imponen las tesis de Allport desembocando en una </a:t>
            </a:r>
            <a:r>
              <a:rPr b="0" lang="es-ES_tradnl" sz="2400" spc="-1" strike="noStrike" u="sng">
                <a:solidFill>
                  <a:srgbClr val="000000"/>
                </a:solidFill>
                <a:uFillTx/>
                <a:latin typeface="Arial"/>
              </a:rPr>
              <a:t>“individualización de lo social y una desocialización del individuo”</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30, se acentúan las bases para el desarrollo de una disciplina de corte empírico- positivista, enmarcado en un fuerte </a:t>
            </a:r>
            <a:r>
              <a:rPr b="1" lang="es-ES_tradnl" sz="2400" spc="-1" strike="noStrike">
                <a:solidFill>
                  <a:srgbClr val="000000"/>
                </a:solidFill>
                <a:latin typeface="Arial"/>
              </a:rPr>
              <a:t>reduccionismo</a:t>
            </a:r>
            <a:r>
              <a:rPr b="1" lang="es-ES_tradnl" sz="2400" spc="-1" strike="noStrike" u="sng">
                <a:solidFill>
                  <a:srgbClr val="000000"/>
                </a:solidFill>
                <a:uFillTx/>
                <a:latin typeface="Arial"/>
              </a:rPr>
              <a:t> </a:t>
            </a:r>
            <a:r>
              <a:rPr b="0" lang="es-ES_tradnl" sz="2400" spc="-1" strike="noStrike" u="sng">
                <a:solidFill>
                  <a:srgbClr val="000000"/>
                </a:solidFill>
                <a:uFillTx/>
                <a:latin typeface="Arial"/>
              </a:rPr>
              <a:t>individualista y psicologicis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5724360" y="180504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2" name="PlaceHolder 2"/>
          <p:cNvSpPr>
            <a:spLocks noGrp="1"/>
          </p:cNvSpPr>
          <p:nvPr>
            <p:ph/>
          </p:nvPr>
        </p:nvSpPr>
        <p:spPr>
          <a:xfrm>
            <a:off x="539280" y="2421000"/>
            <a:ext cx="7355160" cy="3278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cio-conductita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cio-gestáltic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análític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l ro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accionismo simból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Socio-conductita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orientaciones conductistas no predominaron tanto en la ps social como en la ps genera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Bandura y teoría del aprendizaje social (aprendizaje vicario - modelado),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767ff"/>
                </a:solidFill>
                <a:uFillTx/>
                <a:latin typeface="Arial"/>
                <a:hlinkClick r:id="rId1"/>
              </a:rPr>
              <a:t>http://www.youtube.com/watch?v=uMwOexrV6fM</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eoría de facilitación social (facilita la respuesta dominant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arten la convicción de que la conducta social se adquiere fundamentalmente a través de un proceso de condicionamiento, ya sea instrumental/operante o clásic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artir de aquí explica la conducta social en términos de aprendizaj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zco la conducta por sus experiencias previas que le han condicion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o-gestáltic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cio el desarrollo de aspectos fenomenológicos y cognitivos de cómo la persona interpreta /construye su realida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entuó el reduccionismo psicologicista e individualista</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entuó el experimentalismo como medio para producir conocimientos útil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el ahistoricismo centrando la atención en el aquí y el ahora</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win y la teoría de campo: para predecir conducta no importan tanto la forma en que la persona ha llegado a la situación sino la propia situación y como la persona vive/interpreta ese momento presen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8" name="PlaceHolder 2"/>
          <p:cNvSpPr>
            <a:spLocks noGrp="1"/>
          </p:cNvSpPr>
          <p:nvPr>
            <p:ph/>
          </p:nvPr>
        </p:nvSpPr>
        <p:spPr>
          <a:xfrm>
            <a:off x="539280" y="1700280"/>
            <a:ext cx="7355160" cy="327816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sicoanálític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as corrientes analizaron la persona y la sociedad desde los postulados freudianos, dando mayor énfasis a los aspectos culturales reduciendo la importancia de la líbido y las pulsiones biológicas (inconcient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influencia en ps social al igual que las corrientes conductist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0" name="PlaceHolder 2"/>
          <p:cNvSpPr>
            <a:spLocks noGrp="1"/>
          </p:cNvSpPr>
          <p:nvPr>
            <p:ph/>
          </p:nvPr>
        </p:nvSpPr>
        <p:spPr>
          <a:xfrm>
            <a:off x="539280" y="1773000"/>
            <a:ext cx="7355160" cy="3925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oría del r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apacidad de adoptar la posición del otro y de actuar hacia si mismo desde esa posición (proceso de toma de rol), constituye un mecanismo básico de socialización y de interiorización de las normas sociales y es un instrumento para construir la propia identidad (Mea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roles desempeñam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lema</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4038480" cy="3484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encia de procesos colectivos (Mea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encia de los factores sociales que inciden sobre el individuo (Allport)</a:t>
            </a:r>
            <a:endParaRPr b="0" lang="en-US" sz="2800" spc="-1" strike="noStrike">
              <a:solidFill>
                <a:srgbClr val="000000"/>
              </a:solidFill>
              <a:latin typeface="Arial"/>
            </a:endParaRPr>
          </a:p>
        </p:txBody>
      </p:sp>
      <p:sp>
        <p:nvSpPr>
          <p:cNvPr id="113" name=""/>
          <p:cNvSpPr/>
          <p:nvPr/>
        </p:nvSpPr>
        <p:spPr>
          <a:xfrm>
            <a:off x="4643280" y="1628640"/>
            <a:ext cx="4038840" cy="4530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4500720" y="1844640"/>
            <a:ext cx="4032000" cy="34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3:47:48Z</dcterms:created>
  <dc:creator>pamelita</dc:creator>
  <dc:description/>
  <dc:language>en-US</dc:language>
  <cp:lastModifiedBy>Fac. de Medicina</cp:lastModifiedBy>
  <dcterms:modified xsi:type="dcterms:W3CDTF">2009-04-01T15:15:46Z</dcterms:modified>
  <cp:revision>22</cp:revision>
  <dc:subject/>
  <dc:title>Psicología Social Definición e historia</dc:title>
</cp:coreProperties>
</file>