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3B4-A630-4E62-A0B2-65DD81F8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7F6-9395-4DE4-A293-C0EB1D7A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0DC-4084-4314-B62A-BC83B586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40F-FDF4-44A0-8BCC-D2D41125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3906-4B98-47C0-A4EB-E4D9E2E8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B574-7E30-43D9-944B-F4AF613C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EF04-6BB0-44CF-B27D-857724CC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7749-DE2F-4BC8-8EA0-2F425B9B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AB28-6B2A-424B-8433-94C46F65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5C6A-0EB7-4B35-AA4E-2FB8444C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5C10-422F-4DB0-9E22-26BDC0E3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583-4B86-46B6-BB9F-A6E12C4D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1117-4C0D-46F5-8BE2-07CE466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1068-B869-4A0F-8E14-F150A0D3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0B5D-37C7-47AC-9E3E-6C62CBF3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48DE-9A68-4056-A393-4E4F8368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BD13-34CE-4ED3-9B18-1E1CDC33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9AE-1B41-4E19-8FCB-A839DADD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7C8-3C65-4321-970F-DF7789EC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5FD-BD03-4D6B-A3C1-44841D5F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0B6-EECB-45B0-91BD-15CAEAB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3E1-F395-4E50-A74B-8E2A2296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9A4-F907-4C04-B11D-D90CAC99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804-C12D-483D-8327-D553870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EBF4-CE4E-4EEE-A2C9-91E2634F81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66B5-2EA0-46BC-9B6D-DC720BB1CE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15/todorov/todorov.shtml#INTRO" TargetMode="External"/><Relationship Id="rId2" Type="http://schemas.openxmlformats.org/officeDocument/2006/relationships/hyperlink" Target="http://www.monografias.com/trabajos14/personalidad/personalidad.s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 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gnatura: Psicología Social y d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le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encia de procesos colectivos (M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encia de los factores sociales que inciden sobre el individuo (All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490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mponen las tesis de Allport desembocando en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“individualización de lo social y una desocialización del individu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30, se acentúan las bases para el desarrollo de una disciplina de corte empírico- positivista, enmarcado en un fuert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onismo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dividualista y psicologic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24360" y="180504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Consolidación de la Ps. Social Norteamerica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luencia europea por exilio de intelectuales debido a guerras mund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s social forma parte del aparato de guerra de EEUU, lo que le da carácter de utilidad y recono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lización del método experimental como método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s: niveles de aspiración, dinámica grupal, normas sociales, conformidad y pº de grup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 Social Moder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ge de enfoques neopositivistas, cognitivistas, T. del cambio social, T. de las atribuciones, T. de la disonancia cogn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plio desarrollo de orientaciones simbólicas (etnometodología (garfinkel), interaccionismo dramatúrgico (goffman), corrientes contructivistas, cognitivas y fenomenológicas de la microsiología y la T de 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Orientaciones Principales en los 70’ (Ibañez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cio-conduct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cio-gestál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icoanál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l 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onismo simb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sis de la Psicologí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ítica contra la falta de interés de los resultados alcan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 la inoperancia social de los plante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estionamiento a la validez y objetividad de su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internos: “una identidad compleja, conflictiva y heterogénea y relativamente imprecisa de la ps. social, con sus permanentes y múltiples tensiones constitutivas, contribuyó a que los ps. sociales tuvieran que estar más atentos que los miembros de otras disciplinas antes los problemas meta teóricos relacionados con la propia definición de la disciplina y con la fundamentación del conocimiento científico” (Ibañez: 1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externos: mayo del 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 social contemporan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gni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onismo simb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. Social Euro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iente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 Social Latinoamerica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tín Bar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. de la lib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. Social Co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. Social Post-contruccionist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flex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l actor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onamientos y epistemologías femi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orma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ttp://psicologiasocial.uab.es/athenea/index.php/atheneaDigital/article/view/235/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sicología es una ciencia de la conducta y la Ps. Social una rama de esta ciencia que trata la interacción humana/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isión científica de la Ps. Social data del s. XVIII, en que se aplica el método científico (Cs. Naturales) a la conducta humana, con el propósito de establecer leyes a través de la observación siste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gen, señala que la Ps social es ante todo una indagación histórica, que a diferencia de las Cs. Naturales, trata de hechos que fluctúan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encias So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. XVI y XVII, 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. XIX y XX, nueva forma de construcción de conocimientos en torno a l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onstitución de un estado moderno demanda una cs. Social de carácter positivista, que de herramientas para la intervención e investigación social, que permitan conocer y controlar a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encias So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agmentación de las cs.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rgimiento de las diferentes discipl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Tres Etapas (Martín Baró, 198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º) la de fines del S.XIX, durante este primer periodo se concibe la sociedad como un todo unitario y se trata de "compaginar las necesidades del individuo con las necesidades del todo social, examinando para ello los vínculos entre la </a:t>
            </a:r>
            <a:r>
              <a:rPr b="0" lang="es-ES_tradnl" sz="16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estructu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ocial y la estructura de </a:t>
            </a:r>
            <a:r>
              <a:rPr b="0" lang="es-ES_tradnl" sz="1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personalidad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". La pregunta que se trata de responder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"¿Qué nos mantiene unidos en el orden establecido?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º) la que va de los albores del S.XX hasta los años setenta que corresponde al periodo de americanización de la psicología social. La pregunta que se intenta responder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"¿Qué nos integra al orden establecido?"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umiendo que el sistema social es el representante de un orden social incuestionable. Este periodo se caracteriza por el énfasis en lo psicológico y en el individuo como unidad de análisis y por la visión de la disciplina desde el poder. Es el individuo el que debe adaptarse a la estructura social, militar o industrial, no la estructura la que debe cambi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º) el tercer periodo es el que emerge recientemente. Durante él la pregunta cambia como consecuencias de la crisis que sufre la disciplina, por la derrota militar y política en la guerra de Vietnam. La pregunta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"¿Qué nos libera del desorden establecido?"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La psicología social se ocuparía de estudiar la manera como el hombre construye y es construido por su sociedad. Desde principios de esta década hemos entrado en este periodo en el cual se distingue entre dos psicologías sociales: la moderna y la postmode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sicología Social Europea de inicios de sigl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rge en base a tres 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a reproducción de la sociedad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: seguido de la imitación, responde a la preocupación por dilucidar los mecanismos de aprendizaje social. De cómo las personas interiorizan normas y valores socia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a construcción social de la persona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: la voluntad del sujeto queda anulada por el fenómeno de sugestión y la persona reproduce lo que desde fuera se le indica. (estructuras- escuel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a conducta colectiva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: la ps. De las masas que con el tpo se limita a grupo, diada e individu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mericanización de las Cs. So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ienzan con los postulados del modelo alemán: holísmo, historicismo y unidad de la Cs.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os años 20, se han fragmentado, predomina el positivismo y la historia es una disciplina aparte. “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specializ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o forma de aumentar l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du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una cs. Socia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históri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nfocada en producir conocimiento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edictiv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los únicos que al parecer presentan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utilidad” (Ibañez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George H. M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arrolla la historia natural de la emergencia de la mente y la autoconciencia de la especie humana (darw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luye que el pensamieno constituye una actividad de naturaleza social y que el self y la mente emergían en el transcurso de la interacción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ll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 empírico (basado en la experiencia) de ciertos elementos psico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producir datos a partir de fenómenos abordables por medio del m. científico, para elaborar leyes y la constitución de una conocimiento predi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 tendencia individualita v/s procesos gru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3:47:48Z</dcterms:created>
  <dc:creator>pamelita</dc:creator>
  <dc:description/>
  <dc:language>en-US</dc:language>
  <cp:lastModifiedBy>Fac. de Medicina</cp:lastModifiedBy>
  <dcterms:modified xsi:type="dcterms:W3CDTF">2009-03-24T19:20:44Z</dcterms:modified>
  <cp:revision>9</cp:revision>
  <dc:subject/>
  <dc:title>Psicología Social Definición e historia</dc:title>
</cp:coreProperties>
</file>