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9D5-56DA-4A67-9ECC-82DEACCB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68E-C815-4438-8598-5BE0648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78B-E379-4BD6-A8AC-626A9E90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A17-655D-4377-9B1D-1D2AE255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6F92-737E-4760-ACFA-3F93878F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8BE4-B2B1-467C-AAB7-2118D19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63D-CB90-4141-A851-73BBBDC6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6894-565E-4632-93FF-B8C530D5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FB84-5916-4BC1-9561-DDE7DF76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C37-34BF-467F-92CF-FCD3AC27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35EA-EDE6-4EE1-8C4B-FBDA1804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784-F508-4E13-9D88-D100946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6B4-2298-4450-BDA8-46AD8AFC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27F8-4419-4C3D-AE65-6801D21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AAB8-7414-4C54-98A1-98B274E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08F4-EE3E-4632-BC11-DF5B44A1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9A2-966A-4B83-9271-8DFFD05D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382-654F-482D-AC7D-D2F65B1C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B70-1120-491A-B44C-61D7D26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DBE-A82F-40F8-BFDC-ADA7EB61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9F6-70EE-4D17-B131-26CEB95D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E11-3BC4-48DC-B1EF-D662B9D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D31-9E6C-4378-9B0A-11F5AED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D2E-48E7-4091-BAF7-CF1DFB1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257-F99E-4D7B-9AF5-942551A64E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0600-EDA5-4059-BD10-FF58E9B4D5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5/todorov/todorov.shtml#INTRO" TargetMode="External"/><Relationship Id="rId2" Type="http://schemas.openxmlformats.org/officeDocument/2006/relationships/hyperlink" Target="http://www.monografias.com/trabajos14/personalidad/personalidad.s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 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: Psicología Social y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l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ncia de procesos colectivos (M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ncia de los factores sociales que inciden sobre el individuo (All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490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mponen las tesis de Allport desembocando en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individualización de lo social y una desocialización del individu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30, se acentúan las bases para el desarrollo de una disciplina de corte empírico- positivista, enmarcado en un fuer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onismo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dividualista y psicologic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18050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Consolidación de la Ps. Social Norteameric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europea por exilio de intelectuales debido a guerras mund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s social forma parte del aparato de guerra de EEUU, lo que le da carácter de utilidad y re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lización del método experimental como método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s: niveles de aspiración, dinámica grupal, normas sociales, conformidad y pº de grup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Mode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ge de enfoques neopositivistas, cognitivistas, T. del cambio social, T. de las atribuciones, T. de la disonancia cogn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plio desarrollo de orientaciones simbólicas (etnometodología (garfinkel), interaccionismo dramatúrgico (goffman), corrientes contructivistas, cognitivas y fenomenológicas de la microsiología y la T de 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Orientaciones Principales en los 70’ (Ibañez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-conduct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-gestál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icoaná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l 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onismo simb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sis de la Psicologí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ítica contra la falta de interés de los resultados alcan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 la inoperancia social de los plante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estionamiento a la validez y objetividad de su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internos: “una identidad compleja, conflictiva y heterogénea y relativamente imprecisa de la ps. social, con sus permanentes y múltiples tensiones constitutivas, contribuyó a que los ps. sociales tuvieran que estar más atentos que los miembros de otras disciplinas antes los problemas meta teóricos relacionados con la propia definición de la disciplina y con la fundamentación del conocimiento científico” (Ibañez: 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externos: mayo del 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contemporan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gni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onismo simb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Social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iente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Latinoamerica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ín Bar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de la lib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Social Co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. Social Post-contruccionist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x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l actor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onamientos y epistemologías femi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orma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ttp://psicologiasocial.uab.es/athenea/index.php/atheneaDigital/article/view/235/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sicología es una ciencia de la conducta y la Ps. Social una rama de esta ciencia que trata la interacción humana/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isión científica de la Ps. Social data del s. XVIII, en que se aplica el método científico (Cs. Naturales) a la conducta humana, con el propósito de establecer leyes a través de la observación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gen, señala que la Ps social es ante todo una indagación histórica, que a diferencia de las Cs. Naturales, trata de hechos que fluctúan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encias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XVI y XVII,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XIX y XX, nueva forma de construcción de conocimientos en torno a 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onstitución de un estado moderno demanda una cs. Social de carácter positivista, que de herramientas para la intervención e investigación social, que permitan conocer y controlar a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encias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agmentación de las cs.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rgimiento de las diferentes discip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Tres Etapas (Martín Baró, 198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º) la de fines del S.XIX, durante este primer periodo se concibe la sociedad como un todo unitario y se trata de "compaginar las necesidades del individuo con las necesidades del todo social, examinando para ello los vínculos entre la </a:t>
            </a:r>
            <a:r>
              <a:rPr b="0" lang="es-ES_tradnl" sz="1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structu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ocial y la estructura de </a:t>
            </a:r>
            <a:r>
              <a:rPr b="0" lang="es-ES_tradnl" sz="1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personalidad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". La pregunta que se trata de responder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mantiene unidos en el orden establecido?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º) la que va de los albores del S.XX hasta los años setenta que corresponde al periodo de americanización de la psicología social. La pregunta que se intenta responder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integra al orden establecido?"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umiendo que el sistema social es el representante de un orden social incuestionable. Este periodo se caracteriza por el énfasis en lo psicológico y en el individuo como unidad de análisis y por la visión de la disciplina desde el poder. Es el individuo el que debe adaptarse a la estructura social, militar o industrial, no la estructura la que debe cambi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º) el tercer periodo es el que emerge recientemente. Durante él la pregunta cambia como consecuencias de la crisis que sufre la disciplina, por la derrota militar y política en la guerra de Vietnam. La pregunt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libera del desorden establecido?"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La psicología social se ocuparía de estudiar la manera como el hombre construye y es construido por su sociedad. Desde principios de esta década hemos entrado en este periodo en el cual se distingue entre dos psicologías sociales: la moderna y la postmode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sicología Social Europea de inicios de sigl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rge en base a tres 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reproducción de la sociedad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seguido de la imitación, responde a la preocupación por dilucidar los mecanismos de aprendizaje social. De cómo las personas interiorizan normas y valores socia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construcción social de la persona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la voluntad del sujeto queda anulada por el fenómeno de sugestión y la persona reproduce lo que desde fuera se le indica. (estructuras- escuel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conducta colectiva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la ps. De las masas que con el tpo se limita a grupo, diada e individu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mericanización de las Cs.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ienzan con los postulados del modelo alemán: holísmo, historicismo y unidad de la Cs.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os años 20, se han fragmentado, predomina el positivismo y la historia es una disciplina aparte. “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specializ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o forma de aumentar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du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una cs. Socia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históri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nfocada en producir conocimiento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edictiv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los únicos que al parecer presentan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utilidad” (Ibañez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George H. M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a la historia natural de la emergencia de la mente y la autoconciencia de la especie humana (darw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luye que el pensamieno constituye una actividad de naturaleza social y que el self y la mente emergían en el transcurso de la interacción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ll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 empírico (basado en la experiencia) de ciertos elementos psico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producir datos a partir de fenómenos abordables por medio del m. científico, para elaborar leyes y la constitución de una conocimiento predi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 tendencia individualita v/s procesos gru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3:47:48Z</dcterms:created>
  <dc:creator>pamelita</dc:creator>
  <dc:description/>
  <dc:language>en-US</dc:language>
  <cp:lastModifiedBy>Fac. de Medicina</cp:lastModifiedBy>
  <dcterms:modified xsi:type="dcterms:W3CDTF">2009-03-24T19:20:44Z</dcterms:modified>
  <cp:revision>9</cp:revision>
  <dc:subject/>
  <dc:title>Psicología Social Definición e historia</dc:title>
</cp:coreProperties>
</file>