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F752-DC9C-4FA4-8F79-CB0898FCC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19F1-150D-47C8-B1A7-6D6290E0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01A6-AF9E-4E3D-94DF-B0355F3C2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4DF8-5B58-4801-A58B-DE2B2D8B2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91A69-DDDB-4DC2-82CB-97EC0666C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5078-00B3-49BC-B296-2710052E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0F3C8-4C02-4356-A1C8-85344B4F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668B-344F-4EDC-8DC1-EED0828C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9337-540E-4499-9EBC-7CC5D50B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4B73-05EB-48CD-81E1-A6874E176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86E7-C629-417F-8952-F7E3429A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F662-5575-44CD-9D8E-808B50AC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8AA8-6C37-4D65-8711-AC2029CC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988B-0285-416F-95BB-12276915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65C5B-D008-4F59-80FE-A1C7D549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B035-A1C8-4B09-AA22-FEC3CCC45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D3E02-2F66-4503-9A21-551E6BE94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18AA-03C9-465E-B052-4D61CFED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B55F-0DD3-4F35-BF20-86515A80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6DD1-FD81-471D-BE6F-D404DBED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C7CD-F024-4928-B019-ACD90AE6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3D19-8E26-4625-97B8-7085A342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1BD6-EA7C-4D10-A884-C7688AB2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F06A-EF76-4196-B383-F94D324F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880C-0126-459E-9D5C-41ED3B0E31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CC80-E942-474C-AFED-D5D0B9290FD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onografias.com/trabajos15/todorov/todorov.shtml#INTRO" TargetMode="External"/><Relationship Id="rId2" Type="http://schemas.openxmlformats.org/officeDocument/2006/relationships/hyperlink" Target="http://www.monografias.com/trabajos14/personalidad/personalidad.shtml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icología Socia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ón e his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ignatura: Psicología Social y del Trab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ilem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iencia de procesos colectivos (M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iencia de los factores sociales que inciden sobre el individuo (Allpo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4328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00720" y="1844640"/>
            <a:ext cx="4032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490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imponen las tesis de Allport desembocando en una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“individualización de lo social y una desocialización del individu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930, se acentúan las bases para el desarrollo de una disciplina de corte empírico- positivista, enmarcado en un fuerte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duccionismo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dividualista y psicologici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724360" y="1805040"/>
            <a:ext cx="266400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Consolidación de la Ps. Social Norteamerican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fluencia europea por exilio de intelectuales debido a guerras mund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ps social forma parte del aparato de guerra de EEUU, lo que le da carácter de utilidad y recono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eneralización del método experimental como método de investig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mas: niveles de aspiración, dinámica grupal, normas sociales, conformidad y pº de grupos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Ps Social Modern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uge de enfoques neopositivistas, cognitivistas, T. del cambio social, T. de las atribuciones, T. de la disonancia cogni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mplio desarrollo de orientaciones simbólicas (etnometodología (garfinkel), interaccionismo dramatúrgico (goffman), corrientes contructivistas, cognitivas y fenomenológicas de la microsiología y la T de r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Orientaciones Principales en los 70’ (Ibañez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cio-conducti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cio-gestál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sicoanálí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ía del 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eraccionismo simból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risis de la Psicología Soci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rítica contra la falta de interés de los resultados alcan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tra la inoperancia social de los planteami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estionamiento a la validez y objetividad de sus 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ctores internos: “una identidad compleja, conflictiva y heterogénea y relativamente imprecisa de la ps. social, con sus permanentes y múltiples tensiones constitutivas, contribuyó a que los ps. sociales tuvieran que estar más atentos que los miembros de otras disciplinas antes los problemas meta teóricos relacionados con la propia definición de la disciplina y con la fundamentación del conocimiento científico” (Ibañez: 14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ctores externos: mayo del 6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Ps social contemporane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gnición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eraccionismo simból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s. Social Europ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rrientes altern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Ps Social Latinoamerican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rtín Bar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s. de la libe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s. Social Comunit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s cr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Ps. Social Post-contruccionista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flexiv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ía del actor 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cionamientos y epistemologías femini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formativ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ttp://psicologiasocial.uab.es/athenea/index.php/atheneaDigital/article/view/235/2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efini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Psicología es una ciencia de la conducta y la Ps. Social una rama de esta ciencia que trata la interacción humana/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visión científica de la Ps. Social data del s. XVIII, en que se aplica el método científico (Cs. Naturales) a la conducta humana, con el propósito de establecer leyes a través de la observación sistemá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ergen, señala que la Ps social es ante todo una indagación histórica, que a diferencia de las Cs. Naturales, trata de hechos que fluctúan en el tiem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iencias Socia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. XVI y XVII, anteced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. XIX y XX, nueva forma de construcción de conocimientos en torno a lo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constitución de un estado moderno demanda una cs. Social de carácter positivista, que de herramientas para la intervención e investigación social, que permitan conocer y controlar a la socie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iencias Socia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ragmentación de las cs. So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rgimiento de las diferentes discipli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Tres Etapas (Martín Baró, 1983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º) la de fines del S.XIX, durante este primer periodo se concibe la sociedad como un todo unitario y se trata de "compaginar las necesidades del individuo con las necesidades del todo social, examinando para ello los vínculos entre la </a:t>
            </a:r>
            <a:r>
              <a:rPr b="0" lang="es-ES_tradnl" sz="16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estructura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social y la estructura de </a:t>
            </a:r>
            <a:r>
              <a:rPr b="0" lang="es-ES_tradnl" sz="16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personalidad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". La pregunta que se trata de responder es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"¿Qué nos mantiene unidos en el orden establecido?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º) la que va de los albores del S.XX hasta los años setenta que corresponde al periodo de americanización de la psicología social. La pregunta que se intenta responder es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"¿Qué nos integra al orden establecido?".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Asumiendo que el sistema social es el representante de un orden social incuestionable. Este periodo se caracteriza por el énfasis en lo psicológico y en el individuo como unidad de análisis y por la visión de la disciplina desde el poder. Es el individuo el que debe adaptarse a la estructura social, militar o industrial, no la estructura la que debe cambia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º) el tercer periodo es el que emerge recientemente. Durante él la pregunta cambia como consecuencias de la crisis que sufre la disciplina, por la derrota militar y política en la guerra de Vietnam. La pregunta es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"¿Qué nos libera del desorden establecido?".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La psicología social se ocuparía de estudiar la manera como el hombre construye y es construido por su sociedad. Desde principios de esta década hemos entrado en este periodo en el cual se distingue entre dos psicologías sociales: la moderna y la postmoder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sicología Social Europea de inicios de sigl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rge en base a tres tem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 u="sng">
                <a:solidFill>
                  <a:srgbClr val="000000"/>
                </a:solidFill>
                <a:uFillTx/>
                <a:latin typeface="Arial"/>
              </a:rPr>
              <a:t>La reproducción de la sociedad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: seguido de la imitación, responde a la preocupación por dilucidar los mecanismos de aprendizaje social. De cómo las personas interiorizan normas y valores social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 u="sng">
                <a:solidFill>
                  <a:srgbClr val="000000"/>
                </a:solidFill>
                <a:uFillTx/>
                <a:latin typeface="Arial"/>
              </a:rPr>
              <a:t>La construcción social de la persona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: la voluntad del sujeto queda anulada por el fenómeno de sugestión y la persona reproduce lo que desde fuera se le indica. (estructuras- escuel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 u="sng">
                <a:solidFill>
                  <a:srgbClr val="000000"/>
                </a:solidFill>
                <a:uFillTx/>
                <a:latin typeface="Arial"/>
              </a:rPr>
              <a:t>La conducta colectiva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: la ps. De las masas que con el tpo se limita a grupo, diada e individu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Americanización de las Cs. Socia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ienzan con los postulados del modelo alemán: holísmo, historicismo y unidad de la Cs.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los años 20, se han fragmentado, predomina el positivismo y la historia es una disciplina aparte. “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Especializació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como forma de aumentar la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productividad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de una cs. Social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ahistóric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, enfocada en producir conocimientos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predictivo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, los únicos que al parecer presentan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utilidad” (Ibañez)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George H. Mea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sarrolla la historia natural de la emergencia de la mente y la autoconciencia de la especie humana (darwi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cluye que el pensamieno constituye una actividad de naturaleza social y que el self y la mente emergían en el transcurso de la interacción so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Allpor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udio empírico (basado en la experiencia) de ciertos elementos psico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intenta producir datos a partir de fenómenos abordables por medio del m. científico, para elaborar leyes y la constitución de una conocimiento predi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yor tendencia individualita v/s procesos grup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03:47:48Z</dcterms:created>
  <dc:creator>pamelita</dc:creator>
  <dc:description/>
  <dc:language>en-US</dc:language>
  <cp:lastModifiedBy>Fac. de Medicina</cp:lastModifiedBy>
  <dcterms:modified xsi:type="dcterms:W3CDTF">2009-03-24T19:20:44Z</dcterms:modified>
  <cp:revision>9</cp:revision>
  <dc:subject/>
  <dc:title>Psicología Social Definición e historia</dc:title>
</cp:coreProperties>
</file>