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549BC-D24E-4EE0-9CC9-50E5AEB5D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E96DF-BFA7-47CE-A69C-A06EBBAA6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9F46E-53F7-4511-8C11-FA7DD8AF1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22137-B38A-4288-8B30-0A757F902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638CB-8653-451F-B32C-2F85966EC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38F17-ECE0-40C0-8BF5-EDF6A0BDF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D707A-9FF4-4594-8AFF-279A2899C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75D7E-14E2-4459-9D5F-78DA046E1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5626B-D4CC-4E4E-A08E-3B1D7F59F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B5CAF-C068-4E29-A8BD-ACA98282D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0C34B-25CD-4E25-BD47-F93BD867B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F3C37-20A5-4247-8F69-686192E54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75360-3B7C-4C3D-BA4E-2DB259177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3FD05-B7F0-4C44-B3DC-B9E193366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5B9C7-AB91-4BC0-B76B-517106BAA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F9255-064A-4A24-8A9D-6CEED070F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C11DC-CDB7-4A85-BC0C-07D5C18B5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354CF-0902-4DA9-B8FD-55EEF29F3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C481A-E1CC-442A-9C79-2225409BE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A4AAD-7848-41AE-AD42-ADF232216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78FA1-7853-4529-A704-EBF250FF8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43FA-E138-43DA-9804-C882E14E1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5D717-1176-4291-8F1B-FE48855B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CC742-D615-4128-B683-52C9F7CF0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18C7-576C-4F88-B4E4-3DCE4DE08ED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C364-1FC8-47D3-A332-82BE5D30BCB1}"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Trebuchet MS"/>
              </a:rPr>
              <a:t>Antecedentes Históricos del</a:t>
            </a:r>
            <a:br>
              <a:rPr sz="3600"/>
            </a:br>
            <a:r>
              <a:rPr b="0" lang="en-US" sz="3600" spc="-1" strike="noStrike">
                <a:solidFill>
                  <a:srgbClr val="336666"/>
                </a:solidFill>
                <a:latin typeface="Trebuchet MS"/>
              </a:rPr>
              <a:t>Trabajo Comunitario en Salud</a:t>
            </a:r>
            <a:endParaRPr b="0" lang="en-US" sz="36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ª Elena Rive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5</a:t>
            </a:r>
            <a:r>
              <a:rPr b="0" lang="en-US" sz="2500" spc="-1" strike="noStrike">
                <a:solidFill>
                  <a:srgbClr val="000000"/>
                </a:solidFill>
                <a:latin typeface="Trebuchet MS"/>
              </a:rPr>
              <a:t>)</a:t>
            </a:r>
            <a:endParaRPr b="0" lang="en-US" sz="2500" spc="-1" strike="noStrike">
              <a:solidFill>
                <a:srgbClr val="336666"/>
              </a:solidFill>
              <a:latin typeface="Arial"/>
            </a:endParaRPr>
          </a:p>
        </p:txBody>
      </p:sp>
      <p:sp>
        <p:nvSpPr>
          <p:cNvPr id="112" name=""/>
          <p:cNvSpPr/>
          <p:nvPr/>
        </p:nvSpPr>
        <p:spPr>
          <a:xfrm>
            <a:off x="838080" y="2057400"/>
            <a:ext cx="390204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Protagonismo; beneficiarios como actores (aprender haciendo), profesional como “facilitador”.</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Ludicidad; importancia del valor metodológico del juego y la recreación en el desarrollo personal y grupal.</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Especificidad de los beneficiarios; cada grupo tiene situaciones de vida específicas, y características que deben ser consideradas.</a:t>
            </a:r>
            <a:endParaRPr b="0" lang="en-US" sz="2000" spc="-1" strike="noStrike">
              <a:solidFill>
                <a:srgbClr val="336666"/>
              </a:solidFill>
              <a:latin typeface="Arial"/>
            </a:endParaRPr>
          </a:p>
        </p:txBody>
      </p:sp>
      <p:pic>
        <p:nvPicPr>
          <p:cNvPr id="113" name="" descr=""/>
          <p:cNvPicPr/>
          <p:nvPr/>
        </p:nvPicPr>
        <p:blipFill>
          <a:blip r:embed="rId1"/>
          <a:stretch/>
        </p:blipFill>
        <p:spPr>
          <a:xfrm>
            <a:off x="4863960" y="2530440"/>
            <a:ext cx="3903840" cy="324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6)</a:t>
            </a:r>
            <a:endParaRPr b="0" lang="en-US" sz="2500" spc="-1" strike="noStrike">
              <a:solidFill>
                <a:srgbClr val="336666"/>
              </a:solidFill>
              <a:latin typeface="Arial"/>
            </a:endParaRPr>
          </a:p>
        </p:txBody>
      </p:sp>
      <p:sp>
        <p:nvSpPr>
          <p:cNvPr id="115" name=""/>
          <p:cNvSpPr/>
          <p:nvPr/>
        </p:nvSpPr>
        <p:spPr>
          <a:xfrm>
            <a:off x="4876920" y="2438280"/>
            <a:ext cx="390348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Asociatividad; búsqueda de soluciones y apoyo interactivo y sinérgico entre pares.</a:t>
            </a:r>
            <a:endParaRPr b="0" lang="en-US" sz="2200" spc="-1" strike="noStrike">
              <a:solidFill>
                <a:srgbClr val="336666"/>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Articulación con redes; coordinación con organismos públicos y privados evitando dispersión de esfuerzos.</a:t>
            </a:r>
            <a:endParaRPr b="0" lang="en-US" sz="2200" spc="-1" strike="noStrike">
              <a:solidFill>
                <a:srgbClr val="336666"/>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pic>
        <p:nvPicPr>
          <p:cNvPr id="116" name="" descr=""/>
          <p:cNvPicPr/>
          <p:nvPr/>
        </p:nvPicPr>
        <p:blipFill>
          <a:blip r:embed="rId1"/>
          <a:stretch/>
        </p:blipFill>
        <p:spPr>
          <a:xfrm>
            <a:off x="809640" y="2981160"/>
            <a:ext cx="3902040" cy="2347920"/>
          </a:xfrm>
          <a:prstGeom prst="rect">
            <a:avLst/>
          </a:prstGeom>
          <a:ln w="76320">
            <a:solidFill>
              <a:srgbClr val="99cccc"/>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La propuesta en Síntesis</a:t>
            </a:r>
            <a:endParaRPr b="0" lang="en-US" sz="3200" spc="-1" strike="noStrike">
              <a:solidFill>
                <a:srgbClr val="336666"/>
              </a:solidFill>
              <a:latin typeface="Arial"/>
            </a:endParaRPr>
          </a:p>
        </p:txBody>
      </p:sp>
      <p:sp>
        <p:nvSpPr>
          <p:cNvPr id="118" name=""/>
          <p:cNvSpPr/>
          <p:nvPr/>
        </p:nvSpPr>
        <p:spPr>
          <a:xfrm>
            <a:off x="4876920" y="2590920"/>
            <a:ext cx="390348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ace de las necesidades de la comunidad,</a:t>
            </a:r>
            <a:endParaRPr b="0" lang="en-US" sz="2200" spc="-1" strike="noStrike">
              <a:solidFill>
                <a:srgbClr val="336666"/>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 desarrolla en la comunidad,</a:t>
            </a:r>
            <a:endParaRPr b="0" lang="en-US" sz="2200" spc="-1" strike="noStrike">
              <a:solidFill>
                <a:srgbClr val="336666"/>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y transforma las condiciones de acuerdo a la cultura de la comunidad.</a:t>
            </a:r>
            <a:endParaRPr b="0" lang="en-US" sz="2200" spc="-1" strike="noStrike">
              <a:solidFill>
                <a:srgbClr val="336666"/>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pic>
        <p:nvPicPr>
          <p:cNvPr id="119" name="" descr=""/>
          <p:cNvPicPr/>
          <p:nvPr/>
        </p:nvPicPr>
        <p:blipFill>
          <a:blip r:embed="rId1"/>
          <a:stretch/>
        </p:blipFill>
        <p:spPr>
          <a:xfrm>
            <a:off x="809640" y="2862360"/>
            <a:ext cx="3902040" cy="2584440"/>
          </a:xfrm>
          <a:prstGeom prst="rect">
            <a:avLst/>
          </a:prstGeom>
          <a:ln w="38160">
            <a:solidFill>
              <a:srgbClr val="00666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La propuesta en Síntesis</a:t>
            </a:r>
            <a:endParaRPr b="0" lang="en-US" sz="3200" spc="-1" strike="noStrike">
              <a:solidFill>
                <a:srgbClr val="336666"/>
              </a:solidFill>
              <a:latin typeface="Arial"/>
            </a:endParaRPr>
          </a:p>
        </p:txBody>
      </p:sp>
      <p:sp>
        <p:nvSpPr>
          <p:cNvPr id="121" name=""/>
          <p:cNvSpPr/>
          <p:nvPr/>
        </p:nvSpPr>
        <p:spPr>
          <a:xfrm>
            <a:off x="619560" y="3125880"/>
            <a:ext cx="36900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Percepción de necesidade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y problem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Diagnóstico epidemiológico</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Recursos humanos, materiale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tecnológico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Posibles solucione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Saber técnico, científico</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Uso de tecnologías</a:t>
            </a:r>
            <a:endParaRPr b="0" lang="en-US" sz="1800" spc="-1" strike="noStrike">
              <a:solidFill>
                <a:srgbClr val="336666"/>
              </a:solidFill>
              <a:latin typeface="Arial"/>
            </a:endParaRPr>
          </a:p>
        </p:txBody>
      </p:sp>
      <p:sp>
        <p:nvSpPr>
          <p:cNvPr id="122" name=""/>
          <p:cNvSpPr/>
          <p:nvPr/>
        </p:nvSpPr>
        <p:spPr>
          <a:xfrm>
            <a:off x="304920" y="2209680"/>
            <a:ext cx="4572000" cy="4267440"/>
          </a:xfrm>
          <a:prstGeom prst="ellipse">
            <a:avLst/>
          </a:prstGeom>
          <a:noFill/>
          <a:ln w="93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3" name=""/>
          <p:cNvSpPr/>
          <p:nvPr/>
        </p:nvSpPr>
        <p:spPr>
          <a:xfrm>
            <a:off x="4267080" y="2133720"/>
            <a:ext cx="4572000" cy="4267080"/>
          </a:xfrm>
          <a:prstGeom prst="ellipse">
            <a:avLst/>
          </a:pr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4" name=""/>
          <p:cNvSpPr/>
          <p:nvPr/>
        </p:nvSpPr>
        <p:spPr>
          <a:xfrm>
            <a:off x="4902840" y="3049560"/>
            <a:ext cx="32328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ercepción de necesidade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De salud</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riorización de ést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Vivencia de problem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Capacidades, experiencia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otencialidade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osibles soluciones propi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Saber popular</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Uso de sus propia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capacidades</a:t>
            </a:r>
            <a:endParaRPr b="0" lang="en-US" sz="1800" spc="-1" strike="noStrike">
              <a:solidFill>
                <a:srgbClr val="336666"/>
              </a:solidFill>
              <a:latin typeface="Arial"/>
            </a:endParaRPr>
          </a:p>
        </p:txBody>
      </p:sp>
      <p:sp>
        <p:nvSpPr>
          <p:cNvPr id="125" name=""/>
          <p:cNvSpPr/>
          <p:nvPr/>
        </p:nvSpPr>
        <p:spPr>
          <a:xfrm rot="16200000">
            <a:off x="3604680" y="3938760"/>
            <a:ext cx="193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rebuchet MS"/>
              </a:rPr>
              <a:t>CONSENS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La propuesta en Síntesis</a:t>
            </a:r>
            <a:endParaRPr b="0" lang="en-US" sz="3200" spc="-1" strike="noStrike">
              <a:solidFill>
                <a:srgbClr val="336666"/>
              </a:solidFill>
              <a:latin typeface="Arial"/>
            </a:endParaRPr>
          </a:p>
        </p:txBody>
      </p:sp>
      <p:sp>
        <p:nvSpPr>
          <p:cNvPr id="127"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Permite:</a:t>
            </a:r>
            <a:endParaRPr b="0" lang="en-US" sz="2600" spc="-1" strike="noStrike">
              <a:solidFill>
                <a:srgbClr val="336666"/>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Aumento de la eficacia de las intervenciones, al mejorar los canales de comunicación.</a:t>
            </a:r>
            <a:endParaRPr b="0" lang="en-US" sz="2600" spc="-1" strike="noStrike">
              <a:solidFill>
                <a:srgbClr val="336666"/>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Incorporación de una ética de la participación en la relación profesional-usuario.</a:t>
            </a:r>
            <a:endParaRPr b="0" lang="en-US" sz="2600" spc="-1" strike="noStrike">
              <a:solidFill>
                <a:srgbClr val="336666"/>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Incremento de los recursos disponibles para el mejoramiento de los niveles de salud de la población.</a:t>
            </a:r>
            <a:r>
              <a:rPr b="0" lang="es-ES" sz="2600" spc="-1" strike="noStrike">
                <a:solidFill>
                  <a:srgbClr val="000000"/>
                </a:solidFill>
                <a:latin typeface="Trebuchet MS"/>
              </a:rPr>
              <a:t> </a:t>
            </a: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Trabajo Comunitario y Terapia Ocupacional</a:t>
            </a:r>
            <a:endParaRPr b="0" lang="en-US" sz="3200" spc="-1" strike="noStrike">
              <a:solidFill>
                <a:srgbClr val="336666"/>
              </a:solidFill>
              <a:latin typeface="Arial"/>
            </a:endParaRPr>
          </a:p>
        </p:txBody>
      </p:sp>
      <p:sp>
        <p:nvSpPr>
          <p:cNvPr id="129"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Salud de la población como nuestra responsabilidad profesional.</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Utilización de recursos comunitarios en salu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Rehabilitación en contextos sociales.</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tención en el hogar.</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ducación para la salu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corporación de apoyos comunitarios en el proceso de rehabilitación-integración de PcD</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Trabajo Comunitario y Terapia Ocupacional</a:t>
            </a:r>
            <a:endParaRPr b="0" lang="en-US" sz="3200" spc="-1" strike="noStrike">
              <a:solidFill>
                <a:srgbClr val="336666"/>
              </a:solidFill>
              <a:latin typeface="Arial"/>
            </a:endParaRPr>
          </a:p>
        </p:txBody>
      </p:sp>
      <p:sp>
        <p:nvSpPr>
          <p:cNvPr id="131"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mpoderamiento de las Pc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tervención en Red Social.</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a familia como unidad de atención en salu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institucionalización de pacientes psiquiátricos de larga evolución (del Modelos Asilar al Modelo de RBC).</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bogacía en discapacida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corporación de justicia social como paradigma de la profesión.</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rebuchet MS"/>
              </a:rPr>
              <a:t>Trabajo Comunitario y Terapia Ocupacional </a:t>
            </a:r>
            <a:r>
              <a:rPr b="0" i="1" lang="en-US" sz="2800" spc="-1" strike="noStrike">
                <a:solidFill>
                  <a:srgbClr val="000000"/>
                </a:solidFill>
                <a:latin typeface="Trebuchet MS"/>
              </a:rPr>
              <a:t>Síntesis trabajos grupales</a:t>
            </a:r>
            <a:br>
              <a:rPr sz="2800"/>
            </a:br>
            <a:endParaRPr b="0" lang="en-US" sz="2800" spc="-1" strike="noStrike">
              <a:solidFill>
                <a:srgbClr val="000000"/>
              </a:solidFill>
              <a:latin typeface="Arial"/>
            </a:endParaRPr>
          </a:p>
        </p:txBody>
      </p:sp>
      <p:sp>
        <p:nvSpPr>
          <p:cNvPr id="13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expandir el rol del T.O</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mplementación de intervenciones basadas en evidencia. Desafío de investigación.</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afío de especialización y generación de nuevas habilidades.</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oco conocimiento del impacto de la intervención de T.O a nivel comunitario.</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tervención de T.O a distintos niveles: individual, familiar, comunitario, administrativo; político,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rebuchet MS"/>
              </a:rPr>
              <a:t>Trabajo Comunitario y Terapia Ocupacional </a:t>
            </a:r>
            <a:r>
              <a:rPr b="0" i="1" lang="en-US" sz="2800" spc="-1" strike="noStrike">
                <a:solidFill>
                  <a:srgbClr val="000000"/>
                </a:solidFill>
                <a:latin typeface="Trebuchet MS"/>
              </a:rPr>
              <a:t>Síntesis trabajos grupales</a:t>
            </a:r>
            <a:endParaRPr b="0" lang="en-US" sz="2800" spc="-1" strike="noStrike">
              <a:solidFill>
                <a:srgbClr val="000000"/>
              </a:solidFill>
              <a:latin typeface="Arial"/>
            </a:endParaRPr>
          </a:p>
        </p:txBody>
      </p:sp>
      <p:sp>
        <p:nvSpPr>
          <p:cNvPr id="1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porte desde mirada integral; persona en relación con un contexto.</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mplios horizontes y posibilidades de intervención para la T.O. Nuevas áreas de intervención.</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trabajo complementario, interdisciplinario e intersectorial.</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afío de desarrollar identidad propia.</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Uso de herramientas propias de la disciplina.</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afío de intervención en los contex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rebuchet MS"/>
              </a:rPr>
              <a:t>Trabajo Comunitario y Terapia Ocupacional </a:t>
            </a:r>
            <a:r>
              <a:rPr b="0" i="1" lang="en-US" sz="2800" spc="-1" strike="noStrike">
                <a:solidFill>
                  <a:srgbClr val="000000"/>
                </a:solidFill>
                <a:latin typeface="Trebuchet MS"/>
              </a:rPr>
              <a:t>Síntesis trabajos grupales</a:t>
            </a:r>
            <a:endParaRPr b="0" lang="en-US" sz="28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Transición del Modelo Biomédico al Modelo Comunitario. Cambio de paradigma.</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ambio en perfil epidemiológico y demográfico de la población.</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alinear la práctica de T.O con desafíos emergentes.</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revisar cuerpo de conocimientos de la profesión.</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stablecer mecanismos de control y supervisión de nuestro quehace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Antecedentes</a:t>
            </a:r>
            <a:endParaRPr b="0" lang="en-US" sz="3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istoria de experiencias participativa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ejos de producir salud.</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cepto de TC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yer destinatarios, hoy suje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Evolución TC: </a:t>
            </a:r>
            <a:r>
              <a:rPr b="0" i="1" lang="en-US" sz="3200" spc="-1" strike="noStrike">
                <a:solidFill>
                  <a:srgbClr val="336666"/>
                </a:solidFill>
                <a:latin typeface="Trebuchet MS"/>
              </a:rPr>
              <a:t>Educación para los pobres</a:t>
            </a:r>
            <a:endParaRPr b="0" lang="en-US" sz="3200" spc="-1" strike="noStrike">
              <a:solidFill>
                <a:srgbClr val="336666"/>
              </a:solidFill>
              <a:latin typeface="Arial"/>
            </a:endParaRPr>
          </a:p>
        </p:txBody>
      </p:sp>
      <p:sp>
        <p:nvSpPr>
          <p:cNvPr id="139"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ampliar lo que se denomina “ciudadanía” o participación entre iguale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historia; religión; habilidades manuales; escritura y aritmética básica.</a:t>
            </a: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Evolución TC: </a:t>
            </a:r>
            <a:r>
              <a:rPr b="0" i="1" lang="en-US" sz="3200" spc="-1" strike="noStrike">
                <a:solidFill>
                  <a:srgbClr val="336666"/>
                </a:solidFill>
                <a:latin typeface="Trebuchet MS"/>
              </a:rPr>
              <a:t>Educación como Extensión</a:t>
            </a:r>
            <a:endParaRPr b="0" lang="en-US" sz="3200" spc="-1" strike="noStrike">
              <a:solidFill>
                <a:srgbClr val="336666"/>
              </a:solidFill>
              <a:latin typeface="Arial"/>
            </a:endParaRPr>
          </a:p>
        </p:txBody>
      </p:sp>
      <p:sp>
        <p:nvSpPr>
          <p:cNvPr id="141"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introducir elementos de modernización sin cambiar las estructura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salud; tecnología.</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371600" y="6094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66"/>
                </a:solidFill>
                <a:latin typeface="Trebuchet MS"/>
              </a:rPr>
              <a:t>Evolución TC: Crítica  a la </a:t>
            </a:r>
            <a:r>
              <a:rPr b="0" i="1" lang="es-ES" sz="3200" spc="-1" strike="noStrike">
                <a:solidFill>
                  <a:srgbClr val="336666"/>
                </a:solidFill>
                <a:latin typeface="Trebuchet MS"/>
              </a:rPr>
              <a:t>Educación de Adultos y al Extensionismo</a:t>
            </a:r>
            <a:endParaRPr b="0" lang="en-US" sz="3200" spc="-1" strike="noStrike">
              <a:solidFill>
                <a:srgbClr val="336666"/>
              </a:solidFill>
              <a:latin typeface="Arial"/>
            </a:endParaRPr>
          </a:p>
        </p:txBody>
      </p:sp>
      <p:sp>
        <p:nvSpPr>
          <p:cNvPr id="143" name=""/>
          <p:cNvSpPr/>
          <p:nvPr/>
        </p:nvSpPr>
        <p:spPr>
          <a:xfrm>
            <a:off x="838080" y="25909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su propósito fundamental es “iluminar” a las masas, hacerlas conscientes de la realidad en que están inmersa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todas las relacionadas con condiciones de vida de sectores más pobre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Evolución TC: </a:t>
            </a:r>
            <a:r>
              <a:rPr b="0" i="1" lang="en-US" sz="3200" spc="-1" strike="noStrike">
                <a:solidFill>
                  <a:srgbClr val="336666"/>
                </a:solidFill>
                <a:latin typeface="Trebuchet MS"/>
              </a:rPr>
              <a:t>Reconstrucción del tejido social</a:t>
            </a:r>
            <a:endParaRPr b="0" lang="en-US" sz="3200" spc="-1" strike="noStrike">
              <a:solidFill>
                <a:srgbClr val="336666"/>
              </a:solidFill>
              <a:latin typeface="Arial"/>
            </a:endParaRPr>
          </a:p>
        </p:txBody>
      </p:sp>
      <p:sp>
        <p:nvSpPr>
          <p:cNvPr id="145"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busca reestablecer las relaciones democráticas y los vínculos entre las personas, y fortalecer a las comunidade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participación ciudadana; mejoramiento calidad de vida (énfasis especial en temas de salud; alimentación; derechos humanos; entre otros).</a:t>
            </a:r>
            <a:endParaRPr b="0" lang="en-US" sz="2600" spc="-1" strike="noStrike">
              <a:solidFill>
                <a:srgbClr val="336666"/>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611280" y="1413000"/>
          <a:ext cx="8315280" cy="5200560"/>
        </p:xfrm>
        <a:graphic>
          <a:graphicData uri="http://schemas.openxmlformats.org/drawingml/2006/table">
            <a:tbl>
              <a:tblPr/>
              <a:tblGrid>
                <a:gridCol w="904680"/>
                <a:gridCol w="1001880"/>
                <a:gridCol w="1436400"/>
                <a:gridCol w="1011240"/>
                <a:gridCol w="1473480"/>
                <a:gridCol w="1284120"/>
                <a:gridCol w="120348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Mar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rebuchet MS"/>
                          <a:ea typeface="Times New Roman"/>
                        </a:rPr>
                        <a:t>P. A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Hipótesi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Variabl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Aport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Limitacion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Época y</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Representant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59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anitarista</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 y enfermedad resultado de condiciones sanitarias que rodean al individuo y del nivel de prevención-acción que se tiene sobre tales condicion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mbient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omueve introducción de medidas de saneamiento y permite asignar un valor específico a los factores ambientales involucrados en el proceso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No contempla factores sociales que determinan la prevalencia de condiciones de vida insalubres para diferentes grupos sociales. No explica génesis de perfiles diferenciales de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VIII.</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mith y Pettenkofer</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rot="16200000">
            <a:off x="-1206720" y="340992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graphicFrame>
        <p:nvGraphicFramePr>
          <p:cNvPr id="149" name=""/>
          <p:cNvGraphicFramePr/>
          <p:nvPr/>
        </p:nvGraphicFramePr>
        <p:xfrm>
          <a:off x="755640" y="1700280"/>
          <a:ext cx="8137080" cy="4967280"/>
        </p:xfrm>
        <a:graphic>
          <a:graphicData uri="http://schemas.openxmlformats.org/drawingml/2006/table">
            <a:tbl>
              <a:tblPr/>
              <a:tblGrid>
                <a:gridCol w="1061280"/>
                <a:gridCol w="1078200"/>
                <a:gridCol w="1145520"/>
                <a:gridCol w="1145880"/>
                <a:gridCol w="1302120"/>
                <a:gridCol w="1319040"/>
                <a:gridCol w="1085040"/>
              </a:tblGrid>
              <a:tr h="4967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Biomédi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enfermedad es la respuesta a la presencia activa de agentes externo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onstituye un fenómeno dependiente de un agente causal biológico y respuesta del individu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Agente causal patógeno</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Individu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identificación del agente biológico causal permitió la implementación de medidas de control y la investigación de fármacos y vacunas revolucionan tratamiento de enfermedades infecciosa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Bajo esta perspectiva no es fácil explicar por qué el mismo agente causal no produce siempre la enfermeda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e descifra parcialmente causa biológica de la enfermedad, sin abordar estudio de rol que juegan otros factor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IX y principios s. XX</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Pasteur y Koch</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755640" y="1413000"/>
          <a:ext cx="8064360" cy="4680000"/>
        </p:xfrm>
        <a:graphic>
          <a:graphicData uri="http://schemas.openxmlformats.org/drawingml/2006/table">
            <a:tbl>
              <a:tblPr/>
              <a:tblGrid>
                <a:gridCol w="1325520"/>
                <a:gridCol w="1030320"/>
                <a:gridCol w="1173240"/>
                <a:gridCol w="934920"/>
                <a:gridCol w="1204920"/>
                <a:gridCol w="1320840"/>
                <a:gridCol w="1074600"/>
              </a:tblGrid>
              <a:tr h="4680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pidemiológ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lási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interacción de factores de riesgo individual y grupal, bajo cierta red de causalidad, explican los determinantes de la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iesgo individu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iesgo grup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ed de causali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e enfoque permite considerar los diferentes factores de riesgo en tiempo, lugar y persona, que interactúan con la enfermedad, sobre los cuales se puede actuar desde la </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evenció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énfasis de los determinantes continúa sobre factores ambientales, biológicos e individuales. Los factores sociales aparecen como parte del entorno, sin determinar su valor específico y sin diferenciarlos de otros factor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Mc Mahon y Pugh (60’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graphicFrame>
        <p:nvGraphicFramePr>
          <p:cNvPr id="153" name=""/>
          <p:cNvGraphicFramePr/>
          <p:nvPr/>
        </p:nvGraphicFramePr>
        <p:xfrm>
          <a:off x="755640" y="692280"/>
          <a:ext cx="8101080" cy="5615640"/>
        </p:xfrm>
        <a:graphic>
          <a:graphicData uri="http://schemas.openxmlformats.org/drawingml/2006/table">
            <a:tbl>
              <a:tblPr/>
              <a:tblGrid>
                <a:gridCol w="1056960"/>
                <a:gridCol w="987480"/>
                <a:gridCol w="1119600"/>
                <a:gridCol w="1246680"/>
                <a:gridCol w="1296360"/>
                <a:gridCol w="1313280"/>
                <a:gridCol w="1080720"/>
              </a:tblGrid>
              <a:tr h="5615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Higienista</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eventiv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salud depende del equilibrio entre agente, huésped y ambiente, y de la conducta individual o social que se tenga.</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conductuales</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huésped</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mbiente</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gent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ermite considerar 4 factores participantes como riesgo comunitario sobre la salud. Sobre estos factores se puede actuar preventivamente tomando en cuenta como 1ª instancia aspectos conductuales y hábitos higiénico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énfasis de los determinantes se da sobre aspectos biológicos. Lo social aparece como un elemento más incluido en el entorno y además no establece peso específico para cada factor participant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Leavell y Clarke (60’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graphicFrame>
        <p:nvGraphicFramePr>
          <p:cNvPr id="155" name=""/>
          <p:cNvGraphicFramePr/>
          <p:nvPr/>
        </p:nvGraphicFramePr>
        <p:xfrm>
          <a:off x="826920" y="1557360"/>
          <a:ext cx="8064720" cy="4537080"/>
        </p:xfrm>
        <a:graphic>
          <a:graphicData uri="http://schemas.openxmlformats.org/drawingml/2006/table">
            <a:tbl>
              <a:tblPr/>
              <a:tblGrid>
                <a:gridCol w="1052640"/>
                <a:gridCol w="819000"/>
                <a:gridCol w="1368720"/>
                <a:gridCol w="1150920"/>
                <a:gridCol w="1290600"/>
                <a:gridCol w="1306440"/>
                <a:gridCol w="1076400"/>
              </a:tblGrid>
              <a:tr h="453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cologista</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s condiciones de salud dependen del equilibrio entre huésped y ambiente, en contexto bidimensional que descubre las relaciones de factores causales entre sí y sobre el efect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mbiente</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huéspe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Además de los factores del ambiente, permite asignar un valor específico a otros factores involucrados en el proceso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Mediante este enfoque no es posible identificar génesis de perfiles epidemiológicos diferenciales. Adolece de conceptos y métodos adecuados para abordar el determinante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 (70’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usser y Dubo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755640" y="1773360"/>
          <a:ext cx="8064360" cy="3816360"/>
        </p:xfrm>
        <a:graphic>
          <a:graphicData uri="http://schemas.openxmlformats.org/drawingml/2006/table">
            <a:tbl>
              <a:tblPr/>
              <a:tblGrid>
                <a:gridCol w="1295280"/>
                <a:gridCol w="1008360"/>
                <a:gridCol w="1081080"/>
                <a:gridCol w="1223640"/>
                <a:gridCol w="1224000"/>
                <a:gridCol w="1155960"/>
                <a:gridCol w="1076040"/>
              </a:tblGrid>
              <a:tr h="3816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pidemiológ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enfermedad es producto de las condiciones de vida  y de trabajo de cada grupo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ilo de vida</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Organización soci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ondiciones de trabaj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ivilegia lo social como el factor más importante que explica la presencia de otros factores determinantes del proceso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 el uso de este enfoque se corre el riesgo de reducir la complejidad del proceso salud enfermedad a la problemática de las relaciones sociales, y marginar factores de riesgo de otra índol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 (70’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Cassel, Antonovsky y Reeder</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Concepto</a:t>
            </a:r>
            <a:endParaRPr b="0" lang="en-US" sz="3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 </a:t>
            </a:r>
            <a:r>
              <a:rPr b="0" lang="en-US" sz="3000" spc="-1" strike="noStrike">
                <a:solidFill>
                  <a:srgbClr val="000000"/>
                </a:solidFill>
                <a:latin typeface="Trebuchet MS"/>
              </a:rPr>
              <a:t>Comunidad y Equipo de Salud:</a:t>
            </a:r>
            <a:endParaRPr b="0" lang="en-US" sz="30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gnostic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anific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jecut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valú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stemati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826920" y="1413000"/>
          <a:ext cx="8065800" cy="4471920"/>
        </p:xfrm>
        <a:graphic>
          <a:graphicData uri="http://schemas.openxmlformats.org/drawingml/2006/table">
            <a:tbl>
              <a:tblPr/>
              <a:tblGrid>
                <a:gridCol w="1142280"/>
                <a:gridCol w="1065240"/>
                <a:gridCol w="1140840"/>
                <a:gridCol w="1142640"/>
                <a:gridCol w="1293480"/>
                <a:gridCol w="1293480"/>
                <a:gridCol w="987840"/>
              </a:tblGrid>
              <a:tr h="4474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ocioméd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material históri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espuesta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proceso salud enfermedad e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iferente para cada grupo social, dependiendo del contexto histórico, modos de producción y pertenencia de clas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imensión histórica</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lase soci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esgaste labor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oducción del individu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Incorpora el determinante histórico-social al estudio del perfil epidemiológico de diferentes grupos. Cuestiona la eficacia de medidas correctivas y preventivas para el abordaje tanto de las condiciones de salud, como la respuesta social, manteniendo intactas relaciones de explotació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hecho de que todos los factores determinantes pasan por lo histórico-social, conduce al riesgo de limitar el análisis a la problemática de factores sociales y determinantes histórico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 (70’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Belinger; Waitzkin; Laurell, Breilh y Navarr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826920" y="765000"/>
          <a:ext cx="8066160" cy="5510520"/>
        </p:xfrm>
        <a:graphic>
          <a:graphicData uri="http://schemas.openxmlformats.org/drawingml/2006/table">
            <a:tbl>
              <a:tblPr/>
              <a:tblGrid>
                <a:gridCol w="1152720"/>
                <a:gridCol w="1008000"/>
                <a:gridCol w="1368360"/>
                <a:gridCol w="1152720"/>
                <a:gridCol w="1224000"/>
                <a:gridCol w="1295280"/>
                <a:gridCol w="865080"/>
              </a:tblGrid>
              <a:tr h="5510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ocioméd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ne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conservador)</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espuesta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perfil epidemiológico resulta de factores biológicos, psíquicos, sociales y culturales que operan jerárquicamente en distintos niveles de determinación. Tales factores también determinan la manera en que se organiza la sociedad para dar respuesta a las condiciones de salud que genera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et.</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ructurales</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et. próximos</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ado de 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ontempla un enfoque integral sobre los determinantes del proceso salud enfermedad, Contrarresta el abordaje fragmentado del conocimiento de los diferentes factores. Incluye categorías de análisis para diferenciar el rol de la respuesta social organizada del sector 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No desagrega la influencia de cada uno de los factores participante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or lo tanto, no es posible ponderar valor específico de cada determinante. Los niveles de jerarquía de cada determinante complican el análisis dependiendo del evento salud enfermedad bajo estudi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 </a:t>
                      </a:r>
                      <a:r>
                        <a:rPr b="0" lang="es-ES" sz="1200" spc="-1" strike="noStrike">
                          <a:solidFill>
                            <a:srgbClr val="336666"/>
                          </a:solidFill>
                          <a:latin typeface="Trebuchet MS"/>
                          <a:ea typeface="Times New Roman"/>
                        </a:rPr>
                        <a:t>(80’s y 90’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Frenk, Pearlin y Lewi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Concepto</a:t>
            </a:r>
            <a:endParaRPr b="0" lang="en-US" sz="3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Componente promocional y participativ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Objetivo de lograr mejores niveles de salud, implica mayores responsabilidades para toda la sociedad.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Necesidad de cambio profundo donde personas, familias y comunidades, políticos, Estado y todos los actores sociales se comprometan frente al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Fundamentos</a:t>
            </a:r>
            <a:endParaRPr b="0" lang="en-US" sz="3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acción multi sector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teracción y trabajo interesector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spacio de encuentr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Hacer con la comunidad.</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Desarrollo de Procesos Participativos (1)</a:t>
            </a:r>
            <a:endParaRPr b="0" lang="en-US" sz="3200" spc="-1" strike="noStrike">
              <a:solidFill>
                <a:srgbClr val="336666"/>
              </a:solidFill>
              <a:latin typeface="Arial"/>
            </a:endParaRPr>
          </a:p>
        </p:txBody>
      </p:sp>
      <p:sp>
        <p:nvSpPr>
          <p:cNvPr id="101" name=""/>
          <p:cNvSpPr/>
          <p:nvPr/>
        </p:nvSpPr>
        <p:spPr>
          <a:xfrm>
            <a:off x="809640" y="2214720"/>
            <a:ext cx="390204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rticipación como justicia, con dos propósitos esenciales:</a:t>
            </a:r>
            <a:endParaRPr b="0" lang="en-US" sz="2200" spc="-1" strike="noStrike">
              <a:solidFill>
                <a:srgbClr val="336666"/>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mínimos” (acceso a satisfacción de necesidades).</a:t>
            </a:r>
            <a:endParaRPr b="0" lang="en-US" sz="2000" spc="-1" strike="noStrike">
              <a:solidFill>
                <a:srgbClr val="336666"/>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máximos” (construcción de ciudadanía- acceso a control social sobre el proceso de “producción de salud”).</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02" name=""/>
          <p:cNvSpPr/>
          <p:nvPr/>
        </p:nvSpPr>
        <p:spPr>
          <a:xfrm>
            <a:off x="4863960" y="2214720"/>
            <a:ext cx="390384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rticipación como trabajo. Producción de un bien; metas claras y productividad precisa.</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2)</a:t>
            </a:r>
            <a:endParaRPr b="0" lang="en-US" sz="2500" spc="-1" strike="noStrike">
              <a:solidFill>
                <a:srgbClr val="336666"/>
              </a:solidFill>
              <a:latin typeface="Arial"/>
            </a:endParaRPr>
          </a:p>
        </p:txBody>
      </p:sp>
      <p:sp>
        <p:nvSpPr>
          <p:cNvPr id="104" name=""/>
          <p:cNvSpPr/>
          <p:nvPr/>
        </p:nvSpPr>
        <p:spPr>
          <a:xfrm>
            <a:off x="4876920" y="2057400"/>
            <a:ext cx="38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Participación comunitaria en </a:t>
            </a:r>
            <a:r>
              <a:rPr b="0" lang="es-ES_tradnl" sz="2000" spc="-1" strike="noStrike" u="sng">
                <a:solidFill>
                  <a:srgbClr val="000000"/>
                </a:solidFill>
                <a:uFillTx/>
                <a:latin typeface="Trebuchet MS"/>
              </a:rPr>
              <a:t>todas</a:t>
            </a:r>
            <a:r>
              <a:rPr b="0" lang="es-ES_tradnl" sz="2000" spc="-1" strike="noStrike">
                <a:solidFill>
                  <a:srgbClr val="000000"/>
                </a:solidFill>
                <a:latin typeface="Trebuchet MS"/>
              </a:rPr>
              <a:t> las etapas de la intervención (incluye su visión y sus intereses).</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Reconocimiento de la existencia de distintas racionalidades de interpretación de la realidad (no hay diagnóstico único ni solución únic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Trabajo basado en la concertación de voluntades (negociaciones, acuerdos, consensos).</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pic>
        <p:nvPicPr>
          <p:cNvPr id="105" name="" descr=""/>
          <p:cNvPicPr/>
          <p:nvPr/>
        </p:nvPicPr>
        <p:blipFill>
          <a:blip r:embed="rId1"/>
          <a:stretch/>
        </p:blipFill>
        <p:spPr>
          <a:xfrm>
            <a:off x="1251000" y="2214720"/>
            <a:ext cx="3017880" cy="3881160"/>
          </a:xfrm>
          <a:prstGeom prst="rect">
            <a:avLst/>
          </a:prstGeom>
          <a:ln w="38160">
            <a:solidFill>
              <a:srgbClr val="666699"/>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3)</a:t>
            </a:r>
            <a:endParaRPr b="0" lang="en-US" sz="2500" spc="-1" strike="noStrike">
              <a:solidFill>
                <a:srgbClr val="336666"/>
              </a:solidFill>
              <a:latin typeface="Arial"/>
            </a:endParaRPr>
          </a:p>
        </p:txBody>
      </p:sp>
      <p:sp>
        <p:nvSpPr>
          <p:cNvPr id="107" name=""/>
          <p:cNvSpPr/>
          <p:nvPr/>
        </p:nvSpPr>
        <p:spPr>
          <a:xfrm>
            <a:off x="809640" y="2214720"/>
            <a:ext cx="390204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Rol profesional: </a:t>
            </a:r>
            <a:r>
              <a:rPr b="0" lang="es-ES_tradnl" sz="2000" spc="-1" strike="noStrike" u="sng">
                <a:solidFill>
                  <a:srgbClr val="000000"/>
                </a:solidFill>
                <a:uFillTx/>
                <a:latin typeface="Trebuchet MS"/>
              </a:rPr>
              <a:t>facilitador</a:t>
            </a:r>
            <a:r>
              <a:rPr b="0" i="1" lang="es-ES_tradnl" sz="2000" spc="-1" strike="noStrike">
                <a:solidFill>
                  <a:srgbClr val="000000"/>
                </a:solidFill>
                <a:latin typeface="Trebuchet MS"/>
              </a:rPr>
              <a:t> </a:t>
            </a:r>
            <a:r>
              <a:rPr b="0" lang="es-ES_tradnl" sz="2000" spc="-1" strike="noStrike">
                <a:solidFill>
                  <a:srgbClr val="000000"/>
                </a:solidFill>
                <a:latin typeface="Trebuchet MS"/>
              </a:rPr>
              <a:t>(genera condiciones para el “encuentro” entre el saber técnico y el saber experiencial).</a:t>
            </a:r>
            <a:endParaRPr b="0" lang="en-US" sz="2000" spc="-1" strike="noStrike">
              <a:solidFill>
                <a:srgbClr val="336666"/>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Relativismo cultural: las personas son competentes en su medio, por tanto valora e incorpora la cultura e idiosincracia de los beneficiarios (integración de saberes).</a:t>
            </a:r>
            <a:endParaRPr b="0" lang="en-US" sz="2000" spc="-1" strike="noStrike">
              <a:solidFill>
                <a:srgbClr val="336666"/>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pic>
        <p:nvPicPr>
          <p:cNvPr id="108" name="" descr=""/>
          <p:cNvPicPr/>
          <p:nvPr/>
        </p:nvPicPr>
        <p:blipFill>
          <a:blip r:embed="rId1"/>
          <a:stretch/>
        </p:blipFill>
        <p:spPr>
          <a:xfrm>
            <a:off x="4863960" y="2671920"/>
            <a:ext cx="3903840" cy="2966760"/>
          </a:xfrm>
          <a:prstGeom prst="rect">
            <a:avLst/>
          </a:prstGeom>
          <a:ln w="38160">
            <a:solidFill>
              <a:srgbClr val="666699"/>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4)</a:t>
            </a:r>
            <a:endParaRPr b="0" lang="en-US" sz="2500" spc="-1" strike="noStrike">
              <a:solidFill>
                <a:srgbClr val="336666"/>
              </a:solidFill>
              <a:latin typeface="Arial"/>
            </a:endParaRPr>
          </a:p>
        </p:txBody>
      </p:sp>
      <p:sp>
        <p:nvSpPr>
          <p:cNvPr id="11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Carácter formativo de la Intervención: transferencia de conocimientos y metodologías (crear competencia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Énfasis en la sustentabilidad de la intervención.</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Resolver la tensión entre lo individual y lo colectivo como dos “momentos” de una misma intervención. </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7T15:47:09Z</dcterms:created>
  <dc:creator>mele</dc:creator>
  <dc:description/>
  <dc:language>en-US</dc:language>
  <cp:lastModifiedBy>Maria Elena Riveros Espiñeir</cp:lastModifiedBy>
  <dcterms:modified xsi:type="dcterms:W3CDTF">2008-04-17T18:02:26Z</dcterms:modified>
  <cp:revision>21</cp:revision>
  <dc:subject/>
  <dc:title>Antecedentes Históricos del Trabajo Comunitario en Salud</dc:title>
</cp:coreProperties>
</file>