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5D32-2822-4D79-B854-D5E7619E8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22E1-7383-4490-8057-C8B236C6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0C37-01FA-4604-8F60-14E12007A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45A9-17BF-4438-83CF-455050577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3818-DB7C-4C55-843C-04E8C1A0A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8C69-DB83-4887-B111-E4E7C761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7250-6FE8-4284-BE43-8FEF852E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82B7-C05E-4CA0-B9AC-D200D58D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18FF-E0C2-4D33-8DAA-2EACF503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AC7B7-51D1-4034-A34D-1A451DB3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FDB9-845A-4C1D-A628-D2F1F7DA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EC5F-2973-4B8B-B8CB-59259443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7E19-4840-497C-BDAF-052289AC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B941-015D-4384-A7DF-9A154720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BA29-7F5F-4D5D-9018-EE67A19F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612D-B49A-4709-931F-92D57CE76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52CE-7036-4543-B864-D0FE88D91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982E-C8ED-41F4-8F1F-5D328CBD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E9C0-B549-4A95-82F1-DBC4EEE0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AA04-C9E6-4165-B65B-80DB058F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9D98-600E-4B9F-9F0C-295D0BFE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85F9-6975-4222-94CE-B405FB6E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3C06-937D-4BE2-9930-6D36B34D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D042-E208-4E95-A53A-3214452D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9138-3512-421A-AE97-CE89F9520F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7069-5DAF-4214-9F3A-E61525A7FE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560" y="1267920"/>
            <a:ext cx="77202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99"/>
                </a:solidFill>
                <a:latin typeface="Tahoma"/>
              </a:rPr>
              <a:t>Comunidad, participación y técnicas participativa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4005360"/>
            <a:ext cx="7864560" cy="21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odelos de Intervención y Práctica Comunitaria</a:t>
            </a: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ocente: Pamela Gutiérrez Moncl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s de nuestras prácticas y experienci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cepto de comunid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suma de todos aquellos organismos, instituciones, e individuos que conforman un territorio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 espacio común compartido donde existen servicios, instituciones, organizaciones y relacione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sociedad más próxima a la persona…el concepto de comunidad habla de la cualidad de las relaciones allí donde existen intereses, objetivos y deseos comu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unid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junto de relaciones sociales que tienen lugar sobre un territorio real o simbólico en el cual sus miembros comparten un sentido de identida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Tipos de comunid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Localidad o vecindari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un grupo de personas que viven juntas dentro de una localidad geográfica fij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laciones socia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un conjunto de relaciones sociales que tienen lugar, sobre todo, en un territorio geográf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Identidad/intereses comu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Un sentido compartido de identidad, tal como un grupo de usuarios de droga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oción de particip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 un proceso constituido por diverso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mento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s fluida y dinámi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 un acto voluntario en el cual las personas se involucran y toman parte de alguna cos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 un proceso que se da en un contexto y momento determinado; en una red de relaciones entre diferentes agentes soci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 un proceso de carácter colectivo y formativo, en el sentido que se aprende a trabajar conjuntamente y se aprende a participa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articipand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oción de particip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á determinada por las características del grupo que participa (experiencia, organización, liderazgo, recurso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ene metas que la orientan. Se busca alcanzar unos objetivos establecidos por el mismo grupo que particip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 procesos participativos dependen de la naturaleza del proyecto en el cual se involucran (iniciativas diversa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 aspira influir en la toma de decisiones en los contextos concretos en los cuales se da la particip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ipos de Particip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cipación simple: estar o hacer acto de presen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cipación consultiva: escucha la palabra de los sujetos (grados, +-vinculant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ipos de Particip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articipación proyectiva: el sujeto no es sólo un usuario, sino un agente. Participa en las diferentes fases de la definición del proyecto. (IAP) “nosotra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Metaparticipación: los propios sujetos exigen y generan nuevos espacios. Movimientos socia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uladores de Particip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47280" y="2420640"/>
            <a:ext cx="6558120" cy="27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ación (afectiva, motivació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ción /conciencia (cognitiv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dad de decisión (aspectos personales y contextua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romiso/responsabi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écnicas participativas para la educación popul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teni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02920" y="2637000"/>
            <a:ext cx="6558120" cy="27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incipios del trabajo comunita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odelos de interven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ciones de comunidad y particip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écnicas participativ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rcicio aplicado a la comunidad cur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ip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námicas de anim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écnicas de análisis gene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rcicios de abstrac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rcicios de comunic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námicas de organización y planific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álisis: estructural, económico, político e ideológ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vertencia!!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on técnicas aisladas, aplicables mecánicam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uso simplista o “dinamiquero” nos puede llevar a: conflictos, tensiones, resultados no esperados, diversionismo y no ha fortalecer la organiz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han surgido de cabezas de expertos o manuales de psicologí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. P. y Educación Popul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n una respuesta pedagógica a los retos que un proceso organizativ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 un proceso continuo que implica reflexión y acción sobre la práct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 la teoría a partir de la práctica y no la teoría sobre la práctic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. P. y Educación Popul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 estas técnicas se pretende lograr la apropiación de los contenidos con el fin de lograr acciones transformadoras que hagan realidad los objetivos plantea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comendaciones para su uso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tivación inicial para centrar el t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 vez realizada la dinámica preguntarnos: Qué escuchamos, qué vimos, qué sentimos, qué paso. Con el fin de ordenar y reconstru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álisis a fondo: ¿qué pensamos sobre lo vivido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cionarlo con la rea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egar a una conclus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99"/>
                </a:solidFill>
                <a:latin typeface="Tahoma"/>
              </a:rPr>
              <a:t>Principios del trabajo comunitari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00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convicción profunda de que el contexto económico, político, social y cultural en el cual viven los individuos, constituye uno de los mayores determinantes de su estado de salud y de bienest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 problemas sociales son de naturaleza colectiva y, por esta razón, deben ser objeto de soluciones colectivas. Dentro de este marco, los contactos únicamente centrados en el individuo y la relación dual se muestran limit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00000" y="2060640"/>
            <a:ext cx="74930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 cambio social, para los grupos excluidos, pasa por una reducción de las desigualdades económicas, políticas, sociales y culturales, y por la búsqueda de una profundización de la democra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 a través de la movilización de la comunidad y de su propio desarrollo, que debe tomar forma una intervención social colectiva y alternativa. Esto permite reagrupar a los individuos alrededor de un proyecto común a realizar, ejercer prácticas diferentes que se traducen en formas directas y participativas en las que las personas afectadas toman a su cargo colectivamente la elaboración de respuesta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99"/>
                </a:solidFill>
                <a:latin typeface="Tahoma"/>
              </a:rPr>
              <a:t>Principios del trabajo comunitari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strucción Comunitaria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7280" y="2420640"/>
            <a:ext cx="7493040" cy="30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quella intervención que se basa y se orienta hacia la comunidad y que tiende a movilizar las comunidades locales alrededor de u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yecto comú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n una perspectiva d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mbio soci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de ejercicio de la ciudadanía y de l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mocratización permanen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 de interven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Intervenciones dirigid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Intervenciones participativ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rvenciones Dirigi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349000"/>
            <a:ext cx="77724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sociedad tiene problemas sociales. Se definen colectivos problemátic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or grado de bienestar e inclusión mediante la intervención soci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ocimientos que representan la realida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ificadas y ejecutadas por parte de profesionales o “Expertos/as”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s de nuestras prácticas y experienci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erspectivas participativ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00000" y="2420640"/>
            <a:ext cx="77724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ción a los modelos de intervención dirigi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n a las personas afectadas en la solución de sus problem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ocimiento entendido como un diálog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es externos son catalizadores social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7T11:14:11Z</dcterms:created>
  <dc:creator>User PC</dc:creator>
  <dc:description/>
  <dc:language>en-US</dc:language>
  <cp:lastModifiedBy>Fac. de Medicina</cp:lastModifiedBy>
  <dcterms:modified xsi:type="dcterms:W3CDTF">2009-04-13T16:58:24Z</dcterms:modified>
  <cp:revision>21</cp:revision>
  <dc:subject/>
  <dc:title>Estrategias socio-comunitarias aplicadas al campo de las drogodependencias</dc:title>
</cp:coreProperties>
</file>