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923-3CDB-4526-99EE-5A790F0F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17F-7977-49F9-92B7-5DE89B5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173-E602-41D4-86A8-D2AAFB6D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36D-15E8-4FA0-BAD1-83960E37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5D9D-A9EC-4C42-9409-7203ECCA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D540-AFAF-4038-998A-7FF938DB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D52-0EBA-4CB9-ADFC-211194D1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F480-A873-4949-9030-D6800094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E36-D484-4978-9497-11F463BD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2D15-B2C6-4960-A803-24CC3D18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FAB-ECB7-4574-BC90-7EC5805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B96-A05E-4314-80F6-2904BA3D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302D-E69B-4039-B735-3D8134E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D4E-9E0B-453E-9AE2-D1B3F03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7F1-E4ED-409F-976F-9B6DF1AF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B924-40D3-493E-93A9-18BC0864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8196-2B75-47A1-A67D-77FD8E9D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E2A-84D3-44A3-A580-979FDB8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755-3E2B-4D2D-B718-943963B0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9F5-B450-4389-A6F8-CA9FD5C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931-10AA-4180-830D-1A448456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9F9-AF59-42BA-BCEB-17CF325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720-B958-4549-86EB-4705E5D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A92-257F-4866-93BB-6B30AC8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C165-C368-45E1-917E-DA60889D4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D8CB-AA1F-4D45-AD3D-D24D26A3D0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7202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Comunidad, participación y técnicas participativ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005360"/>
            <a:ext cx="78645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odelos de Intervención y Práctica Comunitaria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cente: Pamela Gutiérrez Monc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 de nuestras prácticas y experi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epto de 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uma de todos aquellos organismos, instituciones, e individuos que conforman un territori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 espacio común compartido donde existen servicios, instituciones, organizaciones y relacione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ciedad más próxima a la persona…el concepto de comunidad habla de la cualidad de las relaciones allí donde existen intereses, objetivos y deseos comu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to de relaciones sociales que tienen lugar sobre un territorio real o simbólico en el cual sus miembros comparten un sentido de ident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Tipos de comun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ocalidad o vecindar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grupo de personas que viven juntas dentro de una localidad geográfica f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laciones socia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conjunto de relaciones sociales que tienen lugar, sobre todo, en un territorio geográf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dentidad/intereses comu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Un sentido compartido de identidad, tal como un grupo de usuarios de drog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constituido por diverso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mento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 fluida y diná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acto voluntario en el cual las personas se involucran y toman parte de alguna co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que se da en un contexto y momento determinado; en una red de relaciones entre diferentes agent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un proceso de carácter colectivo y formativo, en el sentido que se aprende a trabajar conjuntamente y se aprende a participa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ticipan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oción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á determinada por las características del grupo que participa (experiencia, organización, liderazgo, recurso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ne metas que la orientan. Se busca alcanzar unos objetivos establecidos por el mismo grupo que partic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procesos participativos dependen de la naturaleza del proyecto en el cual se involucran (iniciativas divers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aspira influir en la toma de decisiones en los contextos concretos en los cuales se da la particip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ción simple: estar o hacer acto de pres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ción consultiva: escucha la palabra de los sujetos (grados, +-vinculan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rticipación proyectiva: el sujeto no es sólo un usuario, sino un agente. Participa en las diferentes fases de la definición del proyecto. (IAP) “nosotr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aparticipación: los propios sujetos exigen y generan nuevos espacios. Movimientos soci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adores de Particip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2420640"/>
            <a:ext cx="655812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ación (afectiva, motiv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ción /conciencia (cognit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dad de decisión (aspectos personales y contextu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omiso/respons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écnicas participativas para la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2637000"/>
            <a:ext cx="655812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ios del trabajo comunit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de interve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ciones de comunidad y particip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écnicas participa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rcicio aplicado a la comunidad 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ámicas de an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écnicas de análisis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rcicios de abstra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rcicios de comun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ámicas de organización y plan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: estructural, económico, político e ide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ertencia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on técnicas aisladas, aplicables mecánic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uso simplista o “dinamiquero” nos puede llevar a: conflictos, tensiones, resultados no esperados, diversionismo y no ha fortalecer la organ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n surgido de cabezas de expertos o manuales de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. P. y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una respuesta pedagógica a los retos que un proceso organiz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n proceso continuo que implica reflexión y acción sobre la prác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la teoría a partir de la práctica y no la teoría sobre la prác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. P. y Educación Pop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estas técnicas se pretende lograr la apropiación de los contenidos con el fin de lograr acciones transformadoras que hagan realidad los objetivos plante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endaciones para su uso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ción inicial para centrar el 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vez realizada la dinámica preguntarnos: Qué escuchamos, qué vimos, qué sentimos, qué paso. Con el fin de ordenar y reconstru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a fondo: ¿qué pensamos sobre lo vivid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cionarlo con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egar a una conclu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Principios del trabajo comunita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onvicción profunda de que el contexto económico, político, social y cultural en el cual viven los individuos, constituye uno de los mayores determinantes de su estado de salud y de bienes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problemas sociales son de naturaleza colectiva y, por esta razón, deben ser objeto de soluciones colectivas. Dentro de este marco, los contactos únicamente centrados en el individuo y la relación dual se muestran limi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2060640"/>
            <a:ext cx="74930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ambio social, para los grupos excluidos, pasa por una reducción de las desigualdades económicas, políticas, sociales y culturales, y por la búsqueda de una profundización de la democra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a través de la movilización de la comunidad y de su propio desarrollo, que debe tomar forma una intervención social colectiva y alternativa. Esto permite reagrupar a los individuos alrededor de un proyecto común a realizar, ejercer prácticas diferentes que se traducen en formas directas y participativas en las que las personas afectadas toman a su cargo colectivamente la elaboración de respuest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Principios del trabajo comunitari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strucción Comunitaria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2420640"/>
            <a:ext cx="749304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quella intervención que se basa y se orienta hacia la comunidad y que tiende a movilizar las comunidades locales alrededor de u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yecto comú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una perspectiva 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bio soci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 ejercicio de la ciudadanía y de 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cratización permanen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de interven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venciones dirig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venciones particip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rvenciones Dirig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sociedad tiene problemas sociales. Se definen colectivos problemá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or grado de bienestar e inclusión mediante la intervención so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ocimientos que representan la rea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das y ejecutadas por parte de profesionales o “Expertos/as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 de nuestras prácticas y experi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erspectivas participativ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ción a los modelos de intervención dirig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n a las personas afectadas en la solución de sus proble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ocimiento entendido como un diálo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es externos son catalizadores socia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1:14:11Z</dcterms:created>
  <dc:creator>User PC</dc:creator>
  <dc:description/>
  <dc:language>en-US</dc:language>
  <cp:lastModifiedBy>Fac. de Medicina</cp:lastModifiedBy>
  <dcterms:modified xsi:type="dcterms:W3CDTF">2009-04-13T16:58:24Z</dcterms:modified>
  <cp:revision>21</cp:revision>
  <dc:subject/>
  <dc:title>Estrategias socio-comunitarias aplicadas al campo de las drogodependencias</dc:title>
</cp:coreProperties>
</file>