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073-8601-4EAD-9DEF-4318C733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0F20-2D9E-4270-8412-5DA22F70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016-B010-4FD9-AAC1-00F0F1B1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2EA-B2DF-4A8F-91C7-B66CB2CF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8CF2-8667-483C-AA34-D5AB122F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ACC7-8C52-4633-B7EC-580B18F3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BB87-BB73-47F0-88C1-150FA869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4FB9-E5A6-4671-8CB6-2FFA6E5B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F8F0-9EBE-4DCF-8E96-4FAE0A48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2C70-83AE-4EC0-AFF8-69C66259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2AEB-4F33-4471-9C20-910BE307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27E-3DC6-4F53-9194-7A4B0493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1A4B-EDC5-4CB4-96C5-28285721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8625-4DA7-4BE1-A99B-779FC560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6A39-190A-4F73-9DD6-485D07F5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400A-FA2D-44FB-BCA6-39270C8B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EA19-60D8-40B3-BC84-7274C116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F14A-8264-4010-A036-131D48A1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6E97-D84A-464F-AD7D-28091AD0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177-0616-461E-91C0-47676389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719-0DC6-4C17-831A-684C837C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37F-4699-4D09-ADC3-020F3205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0E4-E936-4F84-9D4A-6455DEBE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33AD-B4A6-4624-86D8-6D863435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D2BF-76A2-43BA-BD33-F84479FAA40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8191-015A-4F1E-96D8-9AFEC2C9B1D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Lucida Sans"/>
              </a:rPr>
              <a:t>Introducción a la Asignatura:</a:t>
            </a:r>
            <a:br>
              <a:rPr sz="3600"/>
            </a:br>
            <a:r>
              <a:rPr b="0" i="1" lang="en-US" sz="3600" spc="-1" strike="noStrike">
                <a:solidFill>
                  <a:srgbClr val="006633"/>
                </a:solidFill>
                <a:latin typeface="Lucida Sans"/>
              </a:rPr>
              <a:t>“Modelos de Intervención y Práctica  Comunitaria”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ª Elena Riveros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Relación entre estrategia de TCS y T.O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Como profesionales nuestro desafío es responder a las necesidades de la épo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Problemas actuales: violencia y abuso; enfermedad mental, desempleo; consumo de drogas; enfermedades crónicas; abuso infantil; abandono de los adultos mayores; entre muchos 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Muchos de estos problemas afectan el desempeño ocupacio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T.O: buscan entender mecanismos que sostienen el desempeño de acciones cotidianas de los individu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Entender el DO, las características del ambiente de la persona, la naturaleza del significado de las actividades, las tareas, y los ro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Lucida Sans"/>
              </a:rPr>
              <a:t>Para reflexionar …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Dónde trabajarán los Terapeutas Ocupacionales en el futu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Qué problemas deberán enfrent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Cuáles serán los principales desafíos que enfrentará la profes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¿Cómo se vincula la T.O con el Trabajo Comunitario en Salud?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Trabajo Comunitario en Salud (T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905120"/>
            <a:ext cx="805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000000"/>
                </a:solidFill>
                <a:latin typeface="Lucida Sans"/>
                <a:ea typeface="Arial"/>
              </a:rPr>
              <a:t>Estrategia orientada a lograr la participación efectiva de la comunidad en las acciones tendientes a elevar los niveles de salud y mejorar la calidad de vida en la pobla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Trabajo Comunitario en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Los antes </a:t>
            </a:r>
            <a:r>
              <a:rPr b="0" i="1" lang="es-ES_tradnl" sz="2600" spc="-1" strike="noStrike">
                <a:solidFill>
                  <a:srgbClr val="006633"/>
                </a:solidFill>
                <a:latin typeface="Lucida Sans"/>
                <a:ea typeface="Arial"/>
              </a:rPr>
              <a:t>destinatarios</a:t>
            </a: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, hoy deberán ser </a:t>
            </a:r>
            <a:r>
              <a:rPr b="0" i="1" lang="es-ES_tradnl" sz="2600" spc="-1" strike="noStrike">
                <a:solidFill>
                  <a:srgbClr val="006633"/>
                </a:solidFill>
                <a:latin typeface="Lucida Sans"/>
                <a:ea typeface="Arial"/>
              </a:rPr>
              <a:t>sujetos </a:t>
            </a:r>
            <a:r>
              <a:rPr b="0" i="1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participantes</a:t>
            </a: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La comunidad en conjunto con el Equipo de Salu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Diagnos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Planif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Ejecu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Evalú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 algn="just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"/>
                <a:ea typeface="Arial"/>
              </a:rPr>
              <a:t>Sistemati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Objetivos Sanitarios 200-2010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Mejorar logros sanitarios alcan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Enfrentar desafío derivados del envejecimiento y de los cambios en l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Disminuir las desigual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3300"/>
                </a:solidFill>
                <a:latin typeface="Lucida Sans"/>
              </a:rPr>
              <a:t>Prestar servicios acordes a las expectativas de l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Características del 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905120"/>
            <a:ext cx="798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Resultados en salud no dependen exclusivamente de las acciones del sector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Históricamente se han priorizado las bases bioméd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Tareas de promoción y prevención hoy ocupan un lugar central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Interacción en el espacio local e intersectorialidad</a:t>
            </a:r>
            <a:r>
              <a:rPr b="0" lang="es-ES_tradnl" sz="2600" spc="-1" strike="noStrike">
                <a:solidFill>
                  <a:srgbClr val="000000"/>
                </a:solidFill>
                <a:latin typeface="Berlin Sans FB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Características del TC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Necesidad de transitar desde el ambiente institucional a la 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Trabajar </a:t>
            </a:r>
            <a:r>
              <a:rPr b="0" lang="es-ES" sz="2400" spc="-1" strike="noStrike">
                <a:solidFill>
                  <a:srgbClr val="cc3300"/>
                </a:solidFill>
                <a:latin typeface="Lucida Sans"/>
              </a:rPr>
              <a:t>en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 la comunidad, </a:t>
            </a:r>
            <a:r>
              <a:rPr b="0" lang="es-ES" sz="2400" spc="-1" strike="noStrike">
                <a:solidFill>
                  <a:srgbClr val="cc3300"/>
                </a:solidFill>
                <a:latin typeface="Lucida Sans"/>
              </a:rPr>
              <a:t>con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 la 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Rol de la persona (usuario; cliente), en colaboración con el T.O es identificar qué significa calidad de vida y bienestar para ella, como también qué actividades le son significativas y relev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TCS: Comunidad y Equipo de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095560"/>
            <a:ext cx="2666880" cy="26668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2060640"/>
            <a:ext cx="2667240" cy="2666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9920" y="2925720"/>
            <a:ext cx="9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Lucida Sans"/>
              </a:rPr>
              <a:t>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Lucida Sans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Lucida Sans"/>
              </a:rPr>
              <a:t>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92560" y="30700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Lucida Sans"/>
              </a:rPr>
              <a:t>Com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51280" y="2565360"/>
            <a:ext cx="1152360" cy="172728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Lugar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ncu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Características del 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Papel del  contexto en la incidencia y manutención de las disfunciones.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Canales y estrategias de comunicación adecu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Logro de aprendizajes significativos y cambios a nivel individual, familiar y comuni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Utilización de recursos necesarios para implementación de acciones.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  <a:ea typeface="Arial"/>
              </a:rPr>
              <a:t>Estrategias de atención grupa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Lucida Sans"/>
                <a:ea typeface="Arial"/>
              </a:rPr>
              <a:t>Aportes de la estrategia de T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Arial"/>
              </a:rPr>
              <a:t>Aumento de la eficacia de las interve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ncorporación de ética de la participación en relación profesional-usu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ncremento de los recursos disponibles.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3:39:47Z</dcterms:created>
  <dc:creator>mele</dc:creator>
  <dc:description/>
  <dc:language>en-US</dc:language>
  <cp:lastModifiedBy>Maria Elena Riveros Espiñeir</cp:lastModifiedBy>
  <dcterms:modified xsi:type="dcterms:W3CDTF">2009-03-10T16:10:58Z</dcterms:modified>
  <cp:revision>9</cp:revision>
  <dc:subject/>
  <dc:title>Introducción a la Asignatura: “Modelos de Intervención y Práctica  Comunitaria”</dc:title>
</cp:coreProperties>
</file>