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EAA-ADBF-4A45-A9F4-0DF476A5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DCB-5933-4471-AF2D-A10CD9E2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ACB-80E7-4D38-93F4-D6D752C2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3FC-530A-4E5E-A76C-05B35C4E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08F4-221A-4A4A-975B-D308C6EB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EF2-E5FF-4228-AF78-7B6D95C3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86ED-CAFC-4E6E-A606-2C445C0A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982F-458B-445B-97AD-284C9C2E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6875-ED9E-4660-B759-411229F1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31AF-9D97-48F2-A01F-0492EF29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20ED-E5BF-4A19-8102-CF982E65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F28-51F8-4B02-B23F-FABE5FAA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7376-1A9D-4E0F-BB8C-9670EC36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E0F8-C427-4BE6-80E9-67E61A15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1E9F-A12D-4657-B79E-C6465468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A9AC-16A7-4220-BFAF-FFB84F06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5327-4D12-4F25-8E72-F205E810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522-6CAC-4B42-9D80-3B0EBB60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3A4-1814-473D-8D07-B559F989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610-2512-4EF5-A484-8E8978D2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51E-47BA-469B-9A07-D483D1E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BEB-A0D9-4AE6-B733-27FB31B7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6BF-39D6-4389-897A-925FFDE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0B5-943B-4EF6-82AC-63EB6BA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041-D9AA-4ACC-A1C8-162B7D1FA69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92AD-9D9C-4294-98EB-3E950BCA38B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Lucida Sans"/>
              </a:rPr>
              <a:t>Introducción a la Asignatura:</a:t>
            </a:r>
            <a:br>
              <a:rPr sz="3600"/>
            </a:br>
            <a:r>
              <a:rPr b="0" i="1" lang="en-US" sz="3600" spc="-1" strike="noStrike">
                <a:solidFill>
                  <a:srgbClr val="006633"/>
                </a:solidFill>
                <a:latin typeface="Lucida Sans"/>
              </a:rPr>
              <a:t>“Modelos de Intervención y Práctica  Comunitaria”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ª Elena Riveros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Relación entre estrategia de TCS y T.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mo profesionales nuestro desafío es responder a las necesidade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roblemas actuales: violencia y abuso; enfermedad mental, desempleo; consumo de drogas; enfermedades crónicas; abuso infantil; abandono de los adultos mayores; entre muchos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uchos de estos problemas afectan el desempeño ocup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T.O: buscan entender mecanismos que sostienen el desempeño de acciones cotidianas de los individu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Entender el DO, las características del ambiente de la persona, la naturaleza del significado de las actividades, las tareas, y los ro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Lucida Sans"/>
              </a:rPr>
              <a:t>Para reflexionar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Dónde trabajarán los Terapeutas Ocupacionales en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problemas deberán enfren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uáles serán los principales desafíos que enfrentará la profes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ómo se vincula la T.O con el Trabajo Comunitario en Salud?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 (T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 orientada a lograr la participación efectiva de la comunidad en las acciones tendientes a elevar los niveles de salud y mejorar la calidad de vida en la pobl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os antes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destinatario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, hoy deberán ser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sujetos </a:t>
            </a:r>
            <a:r>
              <a:rPr b="0" i="1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articipante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a comunidad en conjunto con el Equipo de Salu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Diagno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lan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jecu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val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Sistemati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Objetivos Sanitarios 200-2010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Mejorar logros sanitarios alcan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Enfrentar desafío derivados del envejecimiento y de los cambios en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Disminuir las desigual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Lucida Sans"/>
              </a:rPr>
              <a:t>Prestar servicios acordes a las expectativas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Resultados en salud no dependen exclusivamente de las acciones del sector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Históricamente se han priorizado las bases bioméd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Tareas de promoción y prevención hoy ocupan un lugar central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Interacción en el espacio local e intersectorialidad</a:t>
            </a:r>
            <a:r>
              <a:rPr b="0" lang="es-ES_tradnl" sz="2600" spc="-1" strike="noStrike">
                <a:solidFill>
                  <a:srgbClr val="000000"/>
                </a:solidFill>
                <a:latin typeface="Berlin Sans FB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ecesidad de transitar desde el ambiente institucional a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rabajar </a:t>
            </a:r>
            <a:r>
              <a:rPr b="0" lang="es-ES" sz="2400" spc="-1" strike="noStrike">
                <a:solidFill>
                  <a:srgbClr val="cc3300"/>
                </a:solidFill>
                <a:latin typeface="Lucida Sans"/>
              </a:rPr>
              <a:t>en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la comunidad, </a:t>
            </a:r>
            <a:r>
              <a:rPr b="0" lang="es-ES" sz="2400" spc="-1" strike="noStrike">
                <a:solidFill>
                  <a:srgbClr val="cc3300"/>
                </a:solidFill>
                <a:latin typeface="Lucida Sans"/>
              </a:rPr>
              <a:t>con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ol de la persona (usuario; cliente), en colaboración con el T.O es identificar qué significa calidad de vida y bienestar para ella, como también qué actividades le son significativas y 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CS: Comunidad y Equip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095560"/>
            <a:ext cx="2666880" cy="26668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060640"/>
            <a:ext cx="2667240" cy="2666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9920" y="29257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92560" y="307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Lucida Sans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2565360"/>
            <a:ext cx="1152360" cy="1727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ug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ncu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pel del  contexto en la incidencia y manutención de las disfun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Canales y estrategias de comunicación adec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Logro de aprendizajes significativos y cambios a nivel individual, familiar y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Utilización de recursos necesarios para implementación de ac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s de atención grupa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Aportes de la estrategia de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Aumento de la eficacia de las interve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orporación de ética de la participación en relación profesional-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remento de los recursos disponible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39:47Z</dcterms:created>
  <dc:creator>mele</dc:creator>
  <dc:description/>
  <dc:language>en-US</dc:language>
  <cp:lastModifiedBy>Maria Elena Riveros Espiñeir</cp:lastModifiedBy>
  <dcterms:modified xsi:type="dcterms:W3CDTF">2009-03-10T16:10:58Z</dcterms:modified>
  <cp:revision>9</cp:revision>
  <dc:subject/>
  <dc:title>Introducción a la Asignatura: “Modelos de Intervención y Práctica  Comunitaria”</dc:title>
</cp:coreProperties>
</file>