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749A-AC25-4021-837D-A7D37982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8844-815C-4838-9E8A-11BFBC4C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FADB-FFB7-4B27-BBD6-E53F63215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72DB-F89A-4EF6-A2BA-A8ABA064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7AF5-7CFE-49B7-85B1-9E0538BD4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99AC-1602-4AAD-9745-88EFA1A0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049D-3231-43C9-AACE-FC9D1367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5D77-451C-4ABC-8F26-BB595CBF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8DD0-95AC-4CD2-85B2-F3A1EC96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1256-B1D0-4EE3-BEBC-09C13E7C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13B6-AD56-4427-92E7-F94FA82B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D86F-8044-42D5-9962-1F592B33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8DEA-6F92-475C-9C16-E8DE8F06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F75C-40EB-4034-BFEF-14A04295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0A9E-F1E6-4AEC-8543-ACECE6D9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CA45-5EB8-4DF2-954B-D7F55EC6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3703-96A5-4290-BBC6-4846722EA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2A96-ACDB-4E4D-9283-2C9E0949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57E6-479B-43E6-95E9-1B921849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897D-74AF-4773-9C23-E1976FB7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3305-4AB9-407C-AAD9-9F9E22FC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3572-F53D-427F-A6C2-F1F9F3AC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B45F-B495-4245-BBE6-8A7F6F72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E8FE-B229-4F4C-A0E6-D916716B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8504-B05B-47AC-B251-D5C6F683EEDD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C3A4-2833-4D1E-8477-16BE76C78015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Lucida Sans"/>
              </a:rPr>
              <a:t>Introducción a la Asignatura:</a:t>
            </a:r>
            <a:br>
              <a:rPr sz="3600"/>
            </a:br>
            <a:r>
              <a:rPr b="0" i="1" lang="en-US" sz="3600" spc="-1" strike="noStrike">
                <a:solidFill>
                  <a:srgbClr val="006633"/>
                </a:solidFill>
                <a:latin typeface="Lucida Sans"/>
              </a:rPr>
              <a:t>“Modelos de Intervención y Práctica  Comunitaria”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ª Elena Riveros 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Relación entre estrategia de TCS y T.O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Como profesionales nuestro desafío es responder a las necesidades de la épo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Problemas actuales: violencia y abuso; enfermedad mental, desempleo; consumo de drogas; enfermedades crónicas; abuso infantil; abandono de los adultos mayores; entre muchos o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Muchos de estos problemas afectan el desempeño ocupacion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T.O: buscan entender mecanismos que sostienen el desempeño de acciones cotidianas de los individu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Entender el DO, las características del ambiente de la persona, la naturaleza del significado de las actividades, las tareas, y los ro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Lucida Sans"/>
              </a:rPr>
              <a:t>Para reflexionar …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¿Dónde trabajarán los Terapeutas Ocupacionales en el futur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¿Qué problemas deberán enfrent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¿Cuáles serán los principales desafíos que enfrentará la profes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¿Cómo se vincula la T.O con el Trabajo Comunitario en Salud?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Trabajo Comunitario en Salud (T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905120"/>
            <a:ext cx="8055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000" spc="-1" strike="noStrike">
                <a:solidFill>
                  <a:srgbClr val="000000"/>
                </a:solidFill>
                <a:latin typeface="Lucida Sans"/>
                <a:ea typeface="Arial"/>
              </a:rPr>
              <a:t>Estrategia orientada a lograr la participación efectiva de la comunidad en las acciones tendientes a elevar los niveles de salud y mejorar la calidad de vida en la poblac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Trabajo Comunitario en 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Los antes </a:t>
            </a:r>
            <a:r>
              <a:rPr b="0" i="1" lang="es-ES_tradnl" sz="2600" spc="-1" strike="noStrike">
                <a:solidFill>
                  <a:srgbClr val="006633"/>
                </a:solidFill>
                <a:latin typeface="Lucida Sans"/>
                <a:ea typeface="Arial"/>
              </a:rPr>
              <a:t>destinatarios</a:t>
            </a: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, hoy deberán ser </a:t>
            </a:r>
            <a:r>
              <a:rPr b="0" i="1" lang="es-ES_tradnl" sz="2600" spc="-1" strike="noStrike">
                <a:solidFill>
                  <a:srgbClr val="006633"/>
                </a:solidFill>
                <a:latin typeface="Lucida Sans"/>
                <a:ea typeface="Arial"/>
              </a:rPr>
              <a:t>sujetos </a:t>
            </a:r>
            <a:r>
              <a:rPr b="0" i="1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participantes</a:t>
            </a: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La comunidad en conjunto con el Equipo de Salu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 algn="just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Diagnos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 algn="just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Planif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 algn="just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Ejecu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 algn="just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Evalú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 algn="just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Sistemati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Objetivos Sanitarios 200-2010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Mejorar logros sanitarios alcan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Enfrentar desafío derivados del envejecimiento y de los cambios en la soc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Disminuir las desigual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3300"/>
                </a:solidFill>
                <a:latin typeface="Lucida Sans"/>
              </a:rPr>
              <a:t>Prestar servicios acordes a las expectativas de la pob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Características del T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1905120"/>
            <a:ext cx="7981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  <a:ea typeface="Arial"/>
              </a:rPr>
              <a:t>Resultados en salud no dependen exclusivamente de las acciones del sector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  <a:ea typeface="Arial"/>
              </a:rPr>
              <a:t>Históricamente se han priorizado las bases bioméd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  <a:ea typeface="Arial"/>
              </a:rPr>
              <a:t>Tareas de promoción y prevención hoy ocupan un lugar central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  <a:ea typeface="Arial"/>
              </a:rPr>
              <a:t>Interacción en el espacio local e intersectorialidad</a:t>
            </a:r>
            <a:r>
              <a:rPr b="0" lang="es-ES_tradnl" sz="2600" spc="-1" strike="noStrike">
                <a:solidFill>
                  <a:srgbClr val="000000"/>
                </a:solidFill>
                <a:latin typeface="Berlin Sans FB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Características del TC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Necesidad de transitar desde el ambiente institucional a la comu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Trabajar </a:t>
            </a:r>
            <a:r>
              <a:rPr b="0" lang="es-ES" sz="2400" spc="-1" strike="noStrike">
                <a:solidFill>
                  <a:srgbClr val="cc3300"/>
                </a:solidFill>
                <a:latin typeface="Lucida Sans"/>
              </a:rPr>
              <a:t>en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 la comunidad, </a:t>
            </a:r>
            <a:r>
              <a:rPr b="0" lang="es-ES" sz="2400" spc="-1" strike="noStrike">
                <a:solidFill>
                  <a:srgbClr val="cc3300"/>
                </a:solidFill>
                <a:latin typeface="Lucida Sans"/>
              </a:rPr>
              <a:t>con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 la comu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Rol de la persona (usuario; cliente), en colaboración con el T.O es identificar qué significa calidad de vida y bienestar para ella, como también qué actividades le son significativas y relev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TCS: Comunidad y Equipo de 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2095560"/>
            <a:ext cx="2666880" cy="2666880"/>
          </a:xfrm>
          <a:prstGeom prst="ellipse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56000" y="2060640"/>
            <a:ext cx="2667240" cy="26668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9920" y="2925720"/>
            <a:ext cx="92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Lucida Sans"/>
              </a:rPr>
              <a:t>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Lucida Sans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Lucida Sans"/>
              </a:rPr>
              <a:t>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92560" y="30700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Lucida Sans"/>
              </a:rPr>
              <a:t>Comu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51280" y="2565360"/>
            <a:ext cx="1152360" cy="1727280"/>
          </a:xfrm>
          <a:prstGeom prst="ellipse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Lugar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Encuen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Características del T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pel del  contexto en la incidencia y manutención de las disfunciones.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  <a:ea typeface="Arial"/>
              </a:rPr>
              <a:t>Canales y estrategias de comunicación adecu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  <a:ea typeface="Arial"/>
              </a:rPr>
              <a:t>Logro de aprendizajes significativos y cambios a nivel individual, familiar y comuni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  <a:ea typeface="Arial"/>
              </a:rPr>
              <a:t>Utilización de recursos necesarios para implementación de acciones.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  <a:ea typeface="Arial"/>
              </a:rPr>
              <a:t>Estrategias de atención grupal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Aportes de la estrategia de T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  <a:ea typeface="Arial"/>
              </a:rPr>
              <a:t>Aumento de la eficacia de las interven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ncorporación de ética de la participación en relación profesional-usu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ncremento de los recursos disponibles.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3:39:47Z</dcterms:created>
  <dc:creator>mele</dc:creator>
  <dc:description/>
  <dc:language>en-US</dc:language>
  <cp:lastModifiedBy>Maria Elena Riveros Espiñeir</cp:lastModifiedBy>
  <dcterms:modified xsi:type="dcterms:W3CDTF">2009-03-10T16:10:58Z</dcterms:modified>
  <cp:revision>9</cp:revision>
  <dc:subject/>
  <dc:title>Introducción a la Asignatura: “Modelos de Intervención y Práctica  Comunitaria”</dc:title>
</cp:coreProperties>
</file>