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B82-D5C0-4941-AE90-B898665D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ECA-754E-4D45-BD2B-83D4884E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37E-7EED-49ED-BE49-233B1290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45A-0E48-456E-A404-BCDF542A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7F19-80EF-4581-8F9D-F0F422FE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1F3A-6EE5-4C53-8687-285ACFB9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2A9F-3E0C-44EB-B240-0DC5C7F7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9BE6-ABE5-4047-9C82-5BBA82F6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2B20-91CB-4145-AA74-63D1A816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6DEE-1966-424C-AD16-E164CD63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83A4-31C8-4069-B57B-28374E1F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3F7-75D9-40E7-8349-74594240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514A-9886-4351-B8C4-AF854086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9973-3201-4926-8ABA-EACCF7D4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4721-5AC4-4280-A1A4-4C0F2684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D663-840F-4B89-BBED-4F078290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36A2-5B1E-4812-95EE-D5E63DD8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1B7-14D6-48C4-962B-4133AFA1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273-FDED-41AD-931A-A9EB3B20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BFE-FDF0-4EE1-95E3-9AD8C63C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2D2-C561-4D79-BA0C-5B799C25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D0E-0214-4683-8BD1-AD077EE1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0A0-8021-4E32-8575-6E54F95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8D6-C91C-4A0E-BB12-717AFDC3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2944-87AB-4CA8-A5FA-741BE8EF030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FA23-B98A-473A-8D01-010A35F2FEA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Lucida Sans"/>
              </a:rPr>
              <a:t>Introducción a la Asignatura:</a:t>
            </a:r>
            <a:br>
              <a:rPr sz="3600"/>
            </a:br>
            <a:r>
              <a:rPr b="0" i="1" lang="en-US" sz="3600" spc="-1" strike="noStrike">
                <a:solidFill>
                  <a:srgbClr val="006633"/>
                </a:solidFill>
                <a:latin typeface="Lucida Sans"/>
              </a:rPr>
              <a:t>“Modelos de Intervención y Práctica  Comunitaria”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ª Elena Riveros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Relación entre estrategia de TCS y T.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omo profesionales nuestro desafío es responder a las necesidades de la ép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roblemas actuales: violencia y abuso; enfermedad mental, desempleo; consumo de drogas; enfermedades crónicas; abuso infantil; abandono de los adultos mayores; entre muchos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Muchos de estos problemas afectan el desempeño ocup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T.O: buscan entender mecanismos que sostienen el desempeño de acciones cotidianas de los individu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Entender el DO, las características del ambiente de la persona, la naturaleza del significado de las actividades, las tareas, y los ro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Lucida Sans"/>
              </a:rPr>
              <a:t>Para reflexionar …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Dónde trabajarán los Terapeutas Ocupacionales en el futu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Qué problemas deberán enfren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Cuáles serán los principales desafíos que enfrentará la profes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Cómo se vincula la T.O con el Trabajo Comunitario en Salud?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rabajo Comunitario en Salud (T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Lucida Sans"/>
                <a:ea typeface="Arial"/>
              </a:rPr>
              <a:t>Estrategia orientada a lograr la participación efectiva de la comunidad en las acciones tendientes a elevar los niveles de salud y mejorar la calidad de vida en la pobl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rabajo Comunitari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Los antes </a:t>
            </a:r>
            <a:r>
              <a:rPr b="0" i="1" lang="es-ES_tradnl" sz="2600" spc="-1" strike="noStrike">
                <a:solidFill>
                  <a:srgbClr val="006633"/>
                </a:solidFill>
                <a:latin typeface="Lucida Sans"/>
                <a:ea typeface="Arial"/>
              </a:rPr>
              <a:t>destinatarios</a:t>
            </a: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, hoy deberán ser </a:t>
            </a:r>
            <a:r>
              <a:rPr b="0" i="1" lang="es-ES_tradnl" sz="2600" spc="-1" strike="noStrike">
                <a:solidFill>
                  <a:srgbClr val="006633"/>
                </a:solidFill>
                <a:latin typeface="Lucida Sans"/>
                <a:ea typeface="Arial"/>
              </a:rPr>
              <a:t>sujetos </a:t>
            </a:r>
            <a:r>
              <a:rPr b="0" i="1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participantes</a:t>
            </a: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La comunidad en conjunto con el Equipo de Salu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Diagnos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Plani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Ejecu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Evalú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Sistemati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Objetivos Sanitarios 200-2010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Mejorar logros sanitarios alcan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Enfrentar desafío derivados del envejecimiento y de los cambios en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Disminuir las desigual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Lucida Sans"/>
              </a:rPr>
              <a:t>Prestar servicios acordes a las expectativas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905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Resultados en salud no dependen exclusivamente de las acciones del sector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Históricamente se han priorizado las bases bioméd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Tareas de promoción y prevención hoy ocupan un lugar central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Interacción en el espacio local e intersectorialidad</a:t>
            </a:r>
            <a:r>
              <a:rPr b="0" lang="es-ES_tradnl" sz="2600" spc="-1" strike="noStrike">
                <a:solidFill>
                  <a:srgbClr val="000000"/>
                </a:solidFill>
                <a:latin typeface="Berlin Sans FB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ecesidad de transitar desde el ambiente institucional a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Trabajar </a:t>
            </a:r>
            <a:r>
              <a:rPr b="0" lang="es-ES" sz="2400" spc="-1" strike="noStrike">
                <a:solidFill>
                  <a:srgbClr val="cc3300"/>
                </a:solidFill>
                <a:latin typeface="Lucida Sans"/>
              </a:rPr>
              <a:t>en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la comunidad, </a:t>
            </a:r>
            <a:r>
              <a:rPr b="0" lang="es-ES" sz="2400" spc="-1" strike="noStrike">
                <a:solidFill>
                  <a:srgbClr val="cc3300"/>
                </a:solidFill>
                <a:latin typeface="Lucida Sans"/>
              </a:rPr>
              <a:t>con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Rol de la persona (usuario; cliente), en colaboración con el T.O es identificar qué significa calidad de vida y bienestar para ella, como también qué actividades le son significativas y 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CS: Comunidad y Equip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095560"/>
            <a:ext cx="2666880" cy="26668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2060640"/>
            <a:ext cx="2667240" cy="2666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9920" y="2925720"/>
            <a:ext cx="9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92560" y="3070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Lucida Sans"/>
              </a:rPr>
              <a:t>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2565360"/>
            <a:ext cx="1152360" cy="17272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uga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ncu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pel del  contexto en la incidencia y manutención de las disfunciones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Canales y estrategias de comunicación adecu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Logro de aprendizajes significativos y cambios a nivel individual, familiar y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Utilización de recursos necesarios para implementación de acciones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Estrategias de atención grupa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Aportes de la estrategia de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Aumento de la eficacia de las interve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ncorporación de ética de la participación en relación profesional-usu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ncremento de los recursos disponible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3:39:47Z</dcterms:created>
  <dc:creator>mele</dc:creator>
  <dc:description/>
  <dc:language>en-US</dc:language>
  <cp:lastModifiedBy>Maria Elena Riveros Espiñeir</cp:lastModifiedBy>
  <dcterms:modified xsi:type="dcterms:W3CDTF">2009-03-10T16:10:58Z</dcterms:modified>
  <cp:revision>9</cp:revision>
  <dc:subject/>
  <dc:title>Introducción a la Asignatura: “Modelos de Intervención y Práctica  Comunitaria”</dc:title>
</cp:coreProperties>
</file>