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79B56-AEAC-41F0-A367-DE9E38E3F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E0B6A-7225-4562-BFC6-96821D59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58CA9-6465-4620-A942-75322ED52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22AD4-F659-4452-A736-3C7C0665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0EA93-C105-4186-ABA0-118F7B9EF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C8999-86F0-4D5E-80AB-3808768BB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678D0-1814-4C5B-BAF1-E64A2B254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69978-BC70-4F94-AD93-6B56F36D5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72574-512F-438F-85D5-BEBFD6395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6569F-4163-4790-B668-E069E9FB9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9E95-CB23-47C9-8718-B5E0CD5A6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C18A-0BF9-444E-A9E8-AFA35D111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01D8-D0DA-4227-8C04-969B4166D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470A6-54E5-489A-8A08-C23295E64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E0AAC-E096-4A50-99F1-FEDEDA9BE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C3293-D5CB-4C70-A80F-6CF0E4124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FE41D-9284-446F-88C3-A16FEBFF0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B920-10BB-4502-96C0-653EF95C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8E41D-B03E-47ED-A11B-CC86C980E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C866-F15F-48D1-86B6-CD7C01D5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9C79-272B-489E-A65F-A0EA674C0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E25B-569F-4E6D-A729-123D51A8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06F9-ADA3-4379-9993-4796CAC7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447E8-012A-4921-AAE0-3E0DB6102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6B9A-0B4B-43F0-9FAF-AC41FF70ED63}"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87EC-0788-4FD3-B410-302B66AED5E9}"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13"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a:t>
            </a:r>
            <a:r>
              <a:rPr b="0" lang="es-ES" sz="2400" spc="-1" strike="noStrike">
                <a:solidFill>
                  <a:srgbClr val="800000"/>
                </a:solidFill>
                <a:latin typeface="Century Gothic"/>
              </a:rPr>
              <a:t>(Marco de Trabajo para la práctica de la T.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Objetivos sesión</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ozcan algunos de los significados que se le ha dado al concepto COMUNIDAD a través del tiempo.</a:t>
            </a:r>
            <a:endParaRPr b="0" lang="en-US" sz="2800" spc="-1" strike="noStrike">
              <a:solidFill>
                <a:srgbClr val="003366"/>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Identifiquen y analicen los componentes básicos que forman parte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Contenidos sesión</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cepto de COMUNIDAD según diferentes disciplinas y según el uso que se le ha d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mponentes básicos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9"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aria Elena Riveros Espiñeir</cp:lastModifiedBy>
  <dcterms:modified xsi:type="dcterms:W3CDTF">2009-03-19T16:01:14Z</dcterms:modified>
  <cp:revision>25</cp:revision>
  <dc:subject/>
  <dc:title>COMUNIDAD  (del alemán Gemeinschaft)</dc:title>
</cp:coreProperties>
</file>