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216A0-D721-493C-A72A-3CA853385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E753-7ED9-4258-ACC5-58ECB248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360BF-1F56-443D-A5D8-9EC52A2CA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4FB73-D39E-41CE-8410-BB23E7B61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B1CEB-77BF-4593-84E6-8FABFE9D5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4F2EB-AB6F-43BE-80A0-7610DAE80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768BF-2B15-46D0-99BB-193A03E2E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7F50A-65E0-41F3-98C0-A4B1629E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8D82D-95FE-42D0-9AF4-873A22F5D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33602-7FCD-40F8-B83F-AED443B81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AA01-35EF-47BE-8AFC-23F7EDDF5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3BD7-7071-4131-802B-040C6E32B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AF029-5A0A-4F15-BDCC-1A42B983B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620B3-D744-4948-BDEB-17B8730E3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41010-E635-4BAA-83CA-C65FCF499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A7206-7ADA-4DB1-851E-472BCED85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94057-2969-4114-89A8-F857C28D6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7298-C944-4014-9203-2F038051B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5E061-535C-4E5F-8EB6-38118F56F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563B6-8CF8-4E48-88C3-0D154DB29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4272-F27E-47EE-A945-9C19FBCCB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2C22-4A4B-4AD4-A680-5A211455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F4FA1-4BDE-465F-985F-EFBA582A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7D06-0645-45AD-9C0E-E8A1BC20A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7A63-0F1C-4608-9AF4-85699534A14A}"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81CB-19F9-4CB3-9F77-72B2603820BE}"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13"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5"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a:t>
            </a:r>
            <a:r>
              <a:rPr b="0" lang="es-ES" sz="2400" spc="-1" strike="noStrike">
                <a:solidFill>
                  <a:srgbClr val="800000"/>
                </a:solidFill>
                <a:latin typeface="Century Gothic"/>
              </a:rPr>
              <a:t>(Marco de Trabajo para la práctica de la T.O)</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Objetivos sesión</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ozcan algunos de los significados que se le ha dado al concepto COMUNIDAD a través del tiempo.</a:t>
            </a:r>
            <a:endParaRPr b="0" lang="en-US" sz="2800" spc="-1" strike="noStrike">
              <a:solidFill>
                <a:srgbClr val="003366"/>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Identifiquen y analicen los componentes básicos que forman parte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Contenidos sesión</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cepto de COMUNIDAD según diferentes disciplinas y según el uso que se le ha d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mponentes básicos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9"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aria Elena Riveros Espiñeir</cp:lastModifiedBy>
  <dcterms:modified xsi:type="dcterms:W3CDTF">2009-03-19T16:01:14Z</dcterms:modified>
  <cp:revision>25</cp:revision>
  <dc:subject/>
  <dc:title>COMUNIDAD  (del alemán Gemeinschaft)</dc:title>
</cp:coreProperties>
</file>