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7BC-4A99-4367-BAAF-E9CB887A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3B0-7F73-4DA0-8931-BC731C8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7D7-B6FE-419D-80FB-EA54DE63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D5E-171A-45F8-85F4-339EBCF2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C51C6-DC5F-4628-A8A5-CEB227F0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C0F44-845A-40D3-B31F-7B31229D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EE7FA-C76D-4E9B-A24C-709DC58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0AC1B-C686-4D74-9ED0-34FE0804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4DBC2-0C77-44A2-B8EC-83EBEE3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0CC56-F1E0-4E34-83CF-94C864B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6A4B8-4480-4314-A2DE-C43F029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0BB-D328-44AB-82A9-AF8C049F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460C3-7A7C-4295-BB94-E91087D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13696-C97C-493D-BCE9-A3F8E9E5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9313F-1CF3-48D2-8C2D-9B4C496D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E3E8-09B8-4905-AE7D-C1442418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6A8BB-A64C-4BFD-A157-88A7669A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7B5-CF38-47D3-9B3F-E87D210E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5D9-6A76-4E05-8339-9B5BC41B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259-B3A3-4D35-908A-0767F68F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841-A30F-4CBD-A229-D44CB5C9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D22-4EA4-4C5D-A613-6CB6A21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4E0-D23B-46D8-89F7-FA02D81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DA1-BD37-42BF-924D-461A97D9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6618-A70E-4741-9746-7104DA58031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8CC1-C1A0-4432-94A0-480E785CB0E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3e3ff"/>
                </a:solidFill>
                <a:latin typeface="Arial"/>
              </a:rPr>
              <a:t>Ciclo de Vida</a:t>
            </a:r>
            <a:br>
              <a:rPr sz="5400"/>
            </a:b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“El camino,….Confucio”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Juan Mendoza Navar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a U. Chile – Occi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Clínico San Juan de 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rimon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concibe en términos de compañía, intimidad, sexualidad, amistad, crecimiento mutuo, esta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formar pareja se pasan varios filtr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ercan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atr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ascendenci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 consen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omplementari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ernidad - Maternida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hecho y la caracteristica central de la madur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legada del primer hijo, es una de las experiencias mas decisivas de la adult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acrificio y renu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busqueda de una ocupacion fija, remunerada es una de las tareas mas criticas del adulto jo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autorealizacion pers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o es lo que hace y no tanto lo que 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ontecimientos sociales, políticos, económico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, que acontecen a lo  largo de un determin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íodo de  tiempo y que afectan a un determin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úmero de person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MA SOCIO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junto organizado y estable de estructu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AL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grupales, normativas y valor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TUS DE EDA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Tiempo en que un individuo alcanza u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ición dentro de la estructura de edad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a socie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S DE EDA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Acciones y comportamientos que se deb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EAS 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manifestar, que se espera manifiesten las pers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que se encuentran en un estatus de edad concre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549360"/>
            <a:ext cx="863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692280"/>
            <a:ext cx="0" cy="1008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2276640"/>
            <a:ext cx="576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708280"/>
            <a:ext cx="0" cy="433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29000"/>
            <a:ext cx="287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3573360"/>
            <a:ext cx="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5013360"/>
            <a:ext cx="503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dure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aspectos sociales de la madur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status dentro de la estructura de edad de una soci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ste periodo se asientan 3 eventos fundament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ja – Matrimon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rnidad – Mater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 expresiones de la eda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ic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TUS DE EDA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desarrollado por un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dar carácter ordenado y predec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 curso seguido por los individu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S DE 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ECUACION CRONOLOGICA        NO ADECUACION CRONOLO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AS DEMANDAS                             A LAS DEMAN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rimonio                                       -    Matrimonio prema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ernidad                                       -    Paternidad prema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o y fases en la vida laboral       -    Solt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normativas                            -     Pa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 Viudez prema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 Divorcio / Sep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765000"/>
            <a:ext cx="0" cy="1368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2708280"/>
            <a:ext cx="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852640"/>
            <a:ext cx="0" cy="647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852640"/>
            <a:ext cx="288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421000"/>
            <a:ext cx="2736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422880" cy="482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45352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72360" y="1557360"/>
            <a:ext cx="2293920" cy="2521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187164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419640" y="1484280"/>
            <a:ext cx="22208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4 caracteristicas de tipo soci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enencia ét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socio econó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ulto temprano: 20 – 40 añ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ulto medio: 40 – 5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ulto tardio: 55 – 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rcera edad: 65 – 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cianidad: 75 – 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nectud: mayor a 85 añ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1:08:38Z</dcterms:created>
  <dc:creator>Usuario Predeterminado</dc:creator>
  <dc:description/>
  <dc:language>en-US</dc:language>
  <cp:lastModifiedBy>Facultad de Medicina</cp:lastModifiedBy>
  <dcterms:modified xsi:type="dcterms:W3CDTF">2009-07-03T13:17:24Z</dcterms:modified>
  <cp:revision>2</cp:revision>
  <dc:subject/>
  <dc:title>Ciclo de Vida “El camino,….Confucio”</dc:title>
</cp:coreProperties>
</file>