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D25-4B9B-4693-82B4-6DC5B38D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5AB-3510-42C5-A286-2A661BC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9A4-15D1-49C5-BAFC-6BFEABBE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3C4-FEED-4B76-A18D-5DEDB130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4789-322C-41DD-9403-D8783774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F824-FBE4-4276-BE04-028C7B4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E184-A066-4633-8BEC-3E94985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A4F-2B35-41BC-AD02-2452CF18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42C-05F3-4520-BD52-89386A5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02BE-955E-4BE4-8621-91191FE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176-DEC3-4F52-BC2B-211799C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6EC-DC0F-4596-87AF-DB5C9371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BC45-F9CA-4463-8EBB-F83C26F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DC7-D3CB-4119-B62C-CDA4693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61C-FCE8-48C0-8205-4E13ACF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684-7CCC-4CC2-BA17-F27DBD6B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6F66-80A0-4258-89E9-78C29E67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32F-5066-4E1A-A4B4-6B035A54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50A-6EA7-4370-A045-0A7B836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9F4-C681-435F-9DC0-173DD5F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227-B1BE-4C2C-96C3-C03CB096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883-3EC5-44FA-977D-C15EC0B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4B2-AC11-4DA4-AEB3-40B19B6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3A0-48CD-462B-BF38-C2C5978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BC0-18AD-4C69-AE09-23DA54F558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78E6-C25B-4CDB-8F9D-0ED8D213BF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necesidades de alimentación del paciente hospitalizado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rella Sanhueza Hidal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Manifestaciones clínicas de alteracion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la necesidad de aliment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ar estado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es de exáme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evolución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r necesidad de apoyo nutri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 los gustos del enfer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uso de pró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s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deg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008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29e"/>
                </a:solidFill>
                <a:latin typeface="Arial"/>
              </a:rPr>
              <a:t>Ingreso de un paciente a la atención pública</a:t>
            </a:r>
            <a:br>
              <a:rPr sz="4800"/>
            </a:br>
            <a:endParaRPr b="0" lang="en-US" sz="4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464000" y="443664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rella Sanhueza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Formas de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773000"/>
            <a:ext cx="8495640" cy="4028400"/>
            <a:chOff x="324000" y="1773000"/>
            <a:chExt cx="8495640" cy="4028400"/>
          </a:xfrm>
        </p:grpSpPr>
        <p:cxnSp>
          <p:nvCxnSpPr>
            <p:cNvPr id="188" name="_s35845"/>
            <p:cNvCxnSpPr>
              <a:stCxn id="189" idx="0"/>
              <a:endCxn id="190" idx="2"/>
            </p:cNvCxnSpPr>
            <p:nvPr/>
          </p:nvCxnSpPr>
          <p:spPr>
            <a:xfrm flipV="1">
              <a:off x="3964320" y="491472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1" name="_s3584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981480" y="2636280"/>
              <a:ext cx="253440" cy="126288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5847"/>
            <p:cNvCxnSpPr>
              <a:stCxn id="195" idx="0"/>
              <a:endCxn id="193" idx="2"/>
            </p:cNvCxnSpPr>
            <p:nvPr/>
          </p:nvCxnSpPr>
          <p:spPr>
            <a:xfrm flipH="1" flipV="1" rot="5400000">
              <a:off x="5720400" y="2637720"/>
              <a:ext cx="253440" cy="126072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35848"/>
            <p:cNvCxnSpPr>
              <a:stCxn id="190" idx="0"/>
              <a:endCxn id="197" idx="2"/>
            </p:cNvCxnSpPr>
            <p:nvPr/>
          </p:nvCxnSpPr>
          <p:spPr>
            <a:xfrm flipV="1" rot="16200000">
              <a:off x="3201120" y="3517560"/>
              <a:ext cx="253440" cy="127332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3584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1928520" y="3517560"/>
              <a:ext cx="253440" cy="127368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0" name="_s35850"/>
            <p:cNvCxnSpPr>
              <a:stCxn id="197" idx="0"/>
              <a:endCxn id="201" idx="2"/>
            </p:cNvCxnSpPr>
            <p:nvPr/>
          </p:nvCxnSpPr>
          <p:spPr>
            <a:xfrm flipV="1">
              <a:off x="2691720" y="314136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2" name="_s35851"/>
            <p:cNvCxnSpPr>
              <a:stCxn id="193" idx="0"/>
              <a:endCxn id="203" idx="2"/>
            </p:cNvCxnSpPr>
            <p:nvPr/>
          </p:nvCxnSpPr>
          <p:spPr>
            <a:xfrm flipV="1" rot="16200000">
              <a:off x="5398560" y="1429560"/>
              <a:ext cx="227520" cy="19299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4" name="_s35852"/>
            <p:cNvCxnSpPr>
              <a:stCxn id="201" idx="0"/>
              <a:endCxn id="203" idx="2"/>
            </p:cNvCxnSpPr>
            <p:nvPr/>
          </p:nvCxnSpPr>
          <p:spPr>
            <a:xfrm flipH="1" flipV="1" rot="5400000">
              <a:off x="3505680" y="1466280"/>
              <a:ext cx="227520" cy="18565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03" name="_s35853"/>
            <p:cNvSpPr/>
            <p:nvPr/>
          </p:nvSpPr>
          <p:spPr>
            <a:xfrm>
              <a:off x="3132720" y="1773000"/>
              <a:ext cx="283068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rsona enfer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4"/>
            <p:cNvSpPr/>
            <p:nvPr/>
          </p:nvSpPr>
          <p:spPr>
            <a:xfrm>
              <a:off x="16095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orio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primar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35855"/>
            <p:cNvSpPr/>
            <p:nvPr/>
          </p:nvSpPr>
          <p:spPr>
            <a:xfrm>
              <a:off x="53949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io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6"/>
            <p:cNvSpPr/>
            <p:nvPr/>
          </p:nvSpPr>
          <p:spPr>
            <a:xfrm>
              <a:off x="161172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specialista en CD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7"/>
            <p:cNvSpPr/>
            <p:nvPr/>
          </p:nvSpPr>
          <p:spPr>
            <a:xfrm>
              <a:off x="32400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 posteri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ol y trata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5858"/>
            <p:cNvSpPr/>
            <p:nvPr/>
          </p:nvSpPr>
          <p:spPr>
            <a:xfrm>
              <a:off x="287172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den d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9"/>
            <p:cNvSpPr/>
            <p:nvPr/>
          </p:nvSpPr>
          <p:spPr>
            <a:xfrm>
              <a:off x="4134960" y="3395160"/>
              <a:ext cx="216144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y posterior al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35860"/>
            <p:cNvSpPr/>
            <p:nvPr/>
          </p:nvSpPr>
          <p:spPr>
            <a:xfrm>
              <a:off x="665748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icación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5861"/>
            <p:cNvSpPr/>
            <p:nvPr/>
          </p:nvSpPr>
          <p:spPr>
            <a:xfrm>
              <a:off x="2884320" y="516852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Muchas gracias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es humana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 de alimentación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gesta de alimentos y líquidos, uso de prótesis, mantención de higie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http://biocuidados.files.wordpress.com/2008/07/alimentos_dieta_medit.jpg"/>
          <p:cNvPicPr/>
          <p:nvPr/>
        </p:nvPicPr>
        <p:blipFill>
          <a:blip r:embed="rId1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Indicación médica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654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Identificación de necesidad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ámenes de laborato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ierro o proteín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¿Cuando se altera el estado nutricional del paciente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0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Necesidades corpor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Respuesta metabólico frente a la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osa e insulina en la san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agón          glucone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40360" y="278136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Pacientes en riesgo de mala nutri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rápida 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enfermedades cró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erimientos metabólicos aume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fermedad o cirugía capaces de interferir en la ingest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cesidad de alimentación por sonda enteral o nutrición parent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4050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Bj</cp:lastModifiedBy>
  <dcterms:modified xsi:type="dcterms:W3CDTF">2009-08-11T20:47:47Z</dcterms:modified>
  <cp:revision>19</cp:revision>
  <dc:subject/>
  <dc:title>Necesidades alimentarias del paciente hospitalizado.</dc:title>
</cp:coreProperties>
</file>