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C97-40AA-4456-8DFF-75C25565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B72-91C8-4CF1-9976-BF2C037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637-1A0E-4FBF-9997-C04259CF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F50-B612-4078-8E47-6A345A75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4579-A4FA-4B71-AB46-EA1419D6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21F9-C24A-4129-8391-56932B2C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6B57-A003-4E94-8245-661F667C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8B16-C485-4ADF-8B40-686645CF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F1A0-EFCF-4EFB-B051-92A2FBC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E4A8-4FD2-4DAF-8053-687D3048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EB9B-9510-4062-ACAA-1C758DA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EC8-BFBB-4E50-97EF-7A493EBD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3761-A5ED-4562-9090-5D23332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D44-14D1-4187-BC57-D683437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5CA-9B82-4AB3-A950-0BF76BD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29A-D7EE-4F37-AFA9-C54C8862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A3D6-4126-4460-94FC-75B8ED2B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DF2-7831-4ACA-8607-45733C5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71F-8EF9-466E-B84B-39468BF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F01-F0E2-4361-97E4-1A8E7CF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A51-1893-4F4E-AEBB-66E2F52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8E9-0401-4DEC-9155-46506CB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AEC-27AC-4214-A5A0-9F140C4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4E1-C9FD-4BDF-A9DB-8871FC58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A75-06BB-48E2-95DD-7EE6008BEB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0C35-CA6F-49C7-BE84-CFB263A8495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VIA AEREA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 Y 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VENTILACION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MANEJO AVANZAD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676160"/>
            <a:ext cx="830268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TUBACION ENDOTRAQU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35772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IET CON CONTROL COLUMNA CERVI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ee941c"/>
                </a:solidFill>
                <a:latin typeface="Bookman Old Style"/>
              </a:rPr>
              <a:t>B</a:t>
            </a:r>
            <a:br>
              <a:rPr sz="9600"/>
            </a:br>
            <a:r>
              <a:rPr b="0" lang="en-US" sz="9600" spc="-1" strike="noStrike">
                <a:solidFill>
                  <a:srgbClr val="ee941c"/>
                </a:solidFill>
                <a:latin typeface="Bookman Old Style"/>
              </a:rPr>
              <a:t>VENTILACION</a:t>
            </a: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408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ookman Old Style"/>
              </a:rPr>
              <a:t>B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VENTIL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M.E.S.( MIRAR ESCUCHAR SENTIR res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FRECUENCIA RESPIR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XPANSION TORA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SFUERZ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AUSCUL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</a:rPr>
              <a:t>FRECUENCIA RESPIRATOR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FRECUENCIA NORMAL  12 A 20 VECES POR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MENOR DE 12 O MAYOR DE 20 APLIQUE </a:t>
            </a:r>
            <a:r>
              <a:rPr b="1" lang="en-US" sz="2800" spc="-1" strike="noStrike">
                <a:solidFill>
                  <a:srgbClr val="ff99ff"/>
                </a:solidFill>
                <a:latin typeface="Bookman Old Style"/>
              </a:rPr>
              <a:t>OXIGENO 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EN ALTA CONCENTRAC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SI LA FRECUENCIA ES MENOR DE 10 O MAYOR A 30 (ADULTO), DEBE REALIZAR </a:t>
            </a:r>
            <a:r>
              <a:rPr b="1" lang="en-US" sz="2800" spc="-1" strike="noStrike">
                <a:solidFill>
                  <a:srgbClr val="ff99ff"/>
                </a:solidFill>
                <a:latin typeface="Bookman Old Style"/>
              </a:rPr>
              <a:t>VENTILACION ASIST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LAS INTUBACIONES PREHOSPITALARIAS SON CONSIDERADAS DIFICI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280" y="2133360"/>
            <a:ext cx="830268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ÉXITO DE UNA INTUBACION PREHOSPITALARIA DEPENDE DE VARIOS FA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36572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CARACTERISTICAS DEL PACIENT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HABILIDAD DEL REANIM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00" y="5961240"/>
            <a:ext cx="9064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ALTERNATIVA: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SCARILLAS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LARING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PUNCION CRICOTIROID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221000"/>
            <a:ext cx="91440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SALVATA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8540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421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Bookman Old Style"/>
              </a:rPr>
              <a:t>TRABAJO EN EQUIP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6093000"/>
            <a:ext cx="208908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GRA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ee941c"/>
                </a:solidFill>
                <a:latin typeface="Bookman Old Style"/>
              </a:rPr>
              <a:t>A</a:t>
            </a:r>
            <a:br>
              <a:rPr sz="9600"/>
            </a:br>
            <a:r>
              <a:rPr b="1" lang="en-US" sz="4400" spc="-1" strike="noStrike">
                <a:solidFill>
                  <a:srgbClr val="ee941c"/>
                </a:solidFill>
                <a:latin typeface="Bookman Old Style"/>
              </a:rPr>
              <a:t>VIA AERE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APERTURA DE LA VIA AEREA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ookman Old Style"/>
              </a:rPr>
              <a:t> CONTOL COLUMNA CERVIC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8f12"/>
                </a:solidFill>
                <a:latin typeface="Bookman Old Style"/>
              </a:rPr>
              <a:t>FISIOLOGIA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VENTILACION :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Ingreso de aire del medio ambiente a través de la vía respiratoria hasta los alvéolo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8f12"/>
                </a:solidFill>
                <a:latin typeface="Bookman Old Style"/>
              </a:rPr>
              <a:t>FISIOLOG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349360"/>
            <a:ext cx="79916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RESPIRAC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Bookman Old Style"/>
              </a:rPr>
              <a:t>Intercambio gaseoso de O2 y CO2 de la célula a los alvéo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194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OBSTRUCCION DE LA VIA AEREA</a:t>
            </a:r>
            <a:r>
              <a:rPr b="1" lang="en-US" sz="4000" spc="-1" strike="noStrike">
                <a:solidFill>
                  <a:srgbClr val="ffff00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ES LA CAUSA MAS RAPIDA DE MUERTE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40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AUSAS MAS FRECU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CAIDA DE LA LENGU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CUERPOS EXTRAÑOS EN  VIA AE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(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ROTESIS, ALIMENTOS, FLUIDOS,OBJE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MANEJ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NIOBRAS M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MANEJO INSTRUMENTAL O MECA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4194360" cy="39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OSICIONA CAB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APERTURA BUCAL (INSPECCION VISUAL DE LA VIA AER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260280"/>
            <a:ext cx="525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900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PERMEABILIZACION DE 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VIA AE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84464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MANU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51280" y="3284640"/>
            <a:ext cx="31906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BARRIDO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V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INSTRUMENTALES O MECANICO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ANULAS OROFARING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CANULAS NASOFARING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ASPIRACION ( SONDA RIG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PINZA MAGU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9:54:03Z</dcterms:created>
  <dc:creator>PCR Y TRAUMA-2008</dc:creator>
  <dc:description/>
  <dc:language>en-US</dc:language>
  <cp:lastModifiedBy>Ivo</cp:lastModifiedBy>
  <dcterms:modified xsi:type="dcterms:W3CDTF">2008-12-04T15:43:01Z</dcterms:modified>
  <cp:revision>11</cp:revision>
  <dc:subject/>
  <dc:title>Diapositiva 1</dc:title>
</cp:coreProperties>
</file>