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E6B-0127-498C-BB1E-542608A1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D4A-F4C5-4A98-BDC2-E9F6DF1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FF5-4857-4009-9004-BFC1C74B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2B7-D0CF-4BBA-B14C-A76F439B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E2AD-5F31-4F68-8BAD-26BC4684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5BF9-3935-4045-9E2B-28032AF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86D9-C4EC-4897-A1F6-A1C5B4E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3E1C-19E9-440C-9908-140EA23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274-A98C-4E4E-9FD6-374DD64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A7A1-1AC5-4B7F-B51A-B5EF391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0C26-F8DF-4B01-94EF-1FB3FD8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7A6-93D0-4F30-8B13-810E100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91D1-B4E1-4F25-8E61-8F69E60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B071-6AC5-484D-BF05-09CF6E4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8D9-A1F0-422A-B835-8F023902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AAB-2F2F-4E69-AC3A-EA6E326A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BA74-29F7-4DC1-A967-699A900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7E7-9E08-4F68-AAD5-7B206FD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EE7-640A-4DEA-AB99-F21547B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D42-EDD6-448E-85D4-4D8C5A81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BF6-4935-45BC-BE8A-74F7FC8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4EB-9251-4F96-B062-924F0F7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0EE-832A-4ECF-AA52-0C09B9B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37A-EB45-49A1-ACAA-A83F9C2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F88-FC46-458A-B6D8-104B5E079E7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324F-286D-4D97-8FB0-98CB96AB152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IA AEREA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Y 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ENTILACION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MANEJO AVANZAD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676160"/>
            <a:ext cx="83026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TUBACION ENDOTRAQU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IET CON CONTROL COLUMNA CERV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B</a:t>
            </a:r>
            <a:br>
              <a:rPr sz="9600"/>
            </a:br>
            <a:r>
              <a:rPr b="0" lang="en-US" sz="9600" spc="-1" strike="noStrike">
                <a:solidFill>
                  <a:srgbClr val="ee941c"/>
                </a:solidFill>
                <a:latin typeface="Bookman Old Style"/>
              </a:rPr>
              <a:t>VENTILACION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408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M.E.S.( MIRAR ESCUCHAR SENTIR res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SFUERZ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FRECUENCIA RESPIRATOR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FRECUENCIA NORMAL  12 A 20 VECES POR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MENOR DE 12 O MAYOR DE 20 APLIQUE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OXIGENO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EN ALTA CONCENTRAC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SI LA FRECUENCIA ES MENOR DE 10 O MAYOR A 30 (ADULTO), DEBE REALIZAR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VENTILACION ASIST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LAS INTUBACIONES PREHOSPITALARIAS SON CONSIDERADAS DIFICI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280" y="2133360"/>
            <a:ext cx="83026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ÉXITO DE UNA INTUBACION PREHOSPITALARIA DEPENDE DE VARI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36572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RACTERISTICAS DEL PACIENT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HABILIDAD DEL REANIM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0" y="5961240"/>
            <a:ext cx="9064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ALTERNATIVA: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SCARILLAS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LARING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PUNCION CRICOTIROID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221000"/>
            <a:ext cx="91440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SALVATA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Bookman Old Style"/>
              </a:rPr>
              <a:t>TRABAJO EN EQUIP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6093000"/>
            <a:ext cx="208908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GRA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A</a:t>
            </a:r>
            <a:br>
              <a:rPr sz="9600"/>
            </a:br>
            <a:r>
              <a:rPr b="1" lang="en-US" sz="4400" spc="-1" strike="noStrike">
                <a:solidFill>
                  <a:srgbClr val="ee941c"/>
                </a:solidFill>
                <a:latin typeface="Bookman Old Style"/>
              </a:rPr>
              <a:t>VIA AERE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APERTURA DE LA VIA AERE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 CONTOL COLUMNA CERVIC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VENTILACION :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greso de aire del medio ambiente a través de la vía respiratoria hasta los alvéolo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349360"/>
            <a:ext cx="79916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RESPIRAC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tercambio gaseoso de O2 y CO2 de la célula a los alvéo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94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OBSTRUCCION DE LA VIA AEREA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ES LA CAUSA MAS RAPIDA DE MUERTE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40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AUSAS MAS FRECU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AIDA DE LA LE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UERPOS EXTRAÑOS EN  VIA AE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ROTESIS, ALIMENTOS, FLUIDOS,OBJE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MANEJ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IOBRAS M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EJO INSTRUMENTAL O MECA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19436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OSICIONA CAB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APERTURA BUCAL (INSPECCION VISUAL DE LA VIA AER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60280"/>
            <a:ext cx="525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900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PERMEABILIZACION DE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VIA AE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84464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MAN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51280" y="3284640"/>
            <a:ext cx="31906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ARRID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V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INSTRUMENTALES O MECANICO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OR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NAS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ASPIRACION ( SONDA RIG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INZA MAGU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9:54:03Z</dcterms:created>
  <dc:creator>PCR Y TRAUMA-2008</dc:creator>
  <dc:description/>
  <dc:language>en-US</dc:language>
  <cp:lastModifiedBy>Ivo</cp:lastModifiedBy>
  <dcterms:modified xsi:type="dcterms:W3CDTF">2008-12-04T15:43:01Z</dcterms:modified>
  <cp:revision>11</cp:revision>
  <dc:subject/>
  <dc:title>Diapositiva 1</dc:title>
</cp:coreProperties>
</file>