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9918-A390-4D45-B8EB-5E2FEF8F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9AEB-8BEE-4973-9BBF-049EF551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0968-7148-45E2-98AD-DF381804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7838-819C-4EA8-892D-48AB015F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4371-E4F1-41EB-ADA1-FEC43C96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8377-D813-4960-9E26-3E3497B0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9FD0-4739-4B29-A5EE-FE96DB9D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98FF-FA44-4C35-8A68-1019B070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7B08-3ECC-4572-853D-C8F96208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365E-3D68-4C7A-BC22-4B25820F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A620-5F27-4FC8-9D83-69552621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F341-44EC-4679-A441-CBDC2BCE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DEC0-7D37-4F0D-9747-67EDE33F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4B96-C7D0-469D-8D8F-0FE7185D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D063-BDD4-46A8-8FE0-41CA621D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E3A1-E453-49ED-A7B6-44499DD3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CB73-DEFC-4DCD-9B97-3B4219C5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5606-CA99-405E-A62B-65050CE5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54B3-BA7D-461F-A6B3-F83851FE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A366-5039-4534-8208-527F98FE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31E0-3C04-413C-A037-985F3F36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9282-74FE-4836-941E-F1CC56AC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E3B6-E7DF-42DC-B2D1-EA450D9A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3A9D-C1CB-4C65-B853-3B349B19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4BC5-0DF1-470A-8E63-7A8CA3249F1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0C2C-8238-4157-8722-3343AF93FFF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28240"/>
            <a:ext cx="83437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Bookman Old Style"/>
              </a:rPr>
              <a:t>VIA AEREA</a:t>
            </a:r>
            <a:br>
              <a:rPr sz="6600"/>
            </a:br>
            <a:r>
              <a:rPr b="1" lang="en-US" sz="6600" spc="-1" strike="noStrike">
                <a:solidFill>
                  <a:srgbClr val="ffff00"/>
                </a:solidFill>
                <a:latin typeface="Bookman Old Style"/>
              </a:rPr>
              <a:t> Y </a:t>
            </a:r>
            <a:br>
              <a:rPr sz="6600"/>
            </a:br>
            <a:r>
              <a:rPr b="1" lang="en-US" sz="6600" spc="-1" strike="noStrike">
                <a:solidFill>
                  <a:srgbClr val="ffff00"/>
                </a:solidFill>
                <a:latin typeface="Bookman Old Style"/>
              </a:rPr>
              <a:t>VENTILACION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MANEJO AVANZAD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280" y="1676160"/>
            <a:ext cx="830268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NTUBACION ENDOTRAQU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335772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ookman Old Style"/>
              </a:rPr>
              <a:t>IET CON CONTROL COLUMNA CERV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ee941c"/>
                </a:solidFill>
                <a:latin typeface="Bookman Old Style"/>
              </a:rPr>
              <a:t>B</a:t>
            </a:r>
            <a:br>
              <a:rPr sz="9600"/>
            </a:br>
            <a:r>
              <a:rPr b="0" lang="en-US" sz="9600" spc="-1" strike="noStrike">
                <a:solidFill>
                  <a:srgbClr val="ee941c"/>
                </a:solidFill>
                <a:latin typeface="Bookman Old Style"/>
              </a:rPr>
              <a:t>VENTILACION</a:t>
            </a:r>
            <a:br>
              <a:rPr sz="9600"/>
            </a:br>
            <a:br>
              <a:rPr sz="9600"/>
            </a:br>
            <a:endParaRPr b="0" lang="en-US" sz="9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64087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Bookman Old Style"/>
              </a:rPr>
              <a:t>B</a:t>
            </a:r>
            <a:r>
              <a:rPr b="1" lang="en-US" sz="4000" spc="-1" strike="noStrike">
                <a:solidFill>
                  <a:srgbClr val="ffff00"/>
                </a:solidFill>
                <a:latin typeface="Bookman Old Style"/>
              </a:rPr>
              <a:t>        </a:t>
            </a: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VENTILAC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M.E.S.( MIRAR ESCUCHAR SENTIR resp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FRECUENCIA RESPIRATO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EXPANSION TORAX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ESFUERZO RESPIRATO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AUSCULT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</a:rPr>
              <a:t>FRECUENCIA RESPIRATORI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FRECUENCIA NORMAL  12 A 20 VECES POR MINU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MENOR DE 12 O MAYOR DE 20 APLIQUE </a:t>
            </a:r>
            <a:r>
              <a:rPr b="1" lang="en-US" sz="2800" spc="-1" strike="noStrike">
                <a:solidFill>
                  <a:srgbClr val="ff99ff"/>
                </a:solidFill>
                <a:latin typeface="Bookman Old Style"/>
              </a:rPr>
              <a:t>OXIGENO </a:t>
            </a: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EN ALTA CONCENTRAC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SI LA FRECUENCIA ES MENOR DE 10 O MAYOR A 30 (ADULTO), DEBE REALIZAR </a:t>
            </a:r>
            <a:r>
              <a:rPr b="1" lang="en-US" sz="2800" spc="-1" strike="noStrike">
                <a:solidFill>
                  <a:srgbClr val="ff99ff"/>
                </a:solidFill>
                <a:latin typeface="Bookman Old Style"/>
              </a:rPr>
              <a:t>VENTILACION ASIST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LAS INTUBACIONES PREHOSPITALARIAS SON CONSIDERADAS DIFICILE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9280" y="2133360"/>
            <a:ext cx="830268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L ÉXITO DE UNA INTUBACION PREHOSPITALARIA DEPENDE DE VARIOS FACT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4365720"/>
            <a:ext cx="85107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CARACTERISTICAS DEL PACIENT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HABILIDAD DEL REANIMA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200" y="5961240"/>
            <a:ext cx="90648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man Old Style"/>
              </a:rPr>
              <a:t>ALTERNATIVA:</a:t>
            </a: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MASCARILLAS</a:t>
            </a: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 LARING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PUNCION CRICOTIROIDE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221000"/>
            <a:ext cx="914400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SALVATA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01680" y="1676160"/>
            <a:ext cx="8540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2421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Bookman Old Style"/>
              </a:rPr>
              <a:t>TRABAJO EN EQUIP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59640" y="6093000"/>
            <a:ext cx="2089080" cy="502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GRA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ee941c"/>
                </a:solidFill>
                <a:latin typeface="Bookman Old Style"/>
              </a:rPr>
              <a:t>A</a:t>
            </a:r>
            <a:br>
              <a:rPr sz="9600"/>
            </a:br>
            <a:r>
              <a:rPr b="1" lang="en-US" sz="4400" spc="-1" strike="noStrike">
                <a:solidFill>
                  <a:srgbClr val="ee941c"/>
                </a:solidFill>
                <a:latin typeface="Bookman Old Style"/>
              </a:rPr>
              <a:t>VIA AEREA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APERTURA DE LA VIA AEREA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 CONTOL COLUMNA CERVICA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8f12"/>
                </a:solidFill>
                <a:latin typeface="Bookman Old Style"/>
              </a:rPr>
              <a:t>FISIOLOGIA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s-ES_tradnl" sz="2800" spc="-1" strike="noStrike">
                <a:solidFill>
                  <a:srgbClr val="ffff00"/>
                </a:solidFill>
                <a:latin typeface="Bookman Old Style"/>
              </a:rPr>
              <a:t>VENTILACION :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s-ES_tradnl" sz="2800" spc="-1" strike="noStrike">
                <a:solidFill>
                  <a:srgbClr val="ffff00"/>
                </a:solidFill>
                <a:latin typeface="Bookman Old Style"/>
              </a:rPr>
              <a:t>Ingreso de aire del medio ambiente a través de la vía respiratoria hasta los alvéolo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8f12"/>
                </a:solidFill>
                <a:latin typeface="Bookman Old Style"/>
              </a:rPr>
              <a:t>FISIOLOGI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2349360"/>
            <a:ext cx="799164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s-ES_tradnl" sz="2800" spc="-1" strike="noStrike">
                <a:solidFill>
                  <a:srgbClr val="ffff00"/>
                </a:solidFill>
                <a:latin typeface="Bookman Old Style"/>
              </a:rPr>
              <a:t>RESPIRACION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Bookman Old Style"/>
              </a:rPr>
              <a:t>Intercambio gaseoso de O2 y CO2 de la célula a los alvéol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168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72000" y="1484280"/>
            <a:ext cx="419400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206064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ookman Old Style"/>
              </a:rPr>
              <a:t>OBSTRUCCION DE LA VIA AEREA</a:t>
            </a:r>
            <a:r>
              <a:rPr b="1" lang="en-US" sz="4000" spc="-1" strike="noStrike">
                <a:solidFill>
                  <a:srgbClr val="ffff00"/>
                </a:solidFill>
                <a:latin typeface="Bookman Old Style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ES LA CAUSA MAS RAPIDA DE MUERTE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8540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AUSAS MAS FRECUENT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CAIDA DE LA LENG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CUERPOS EXTRAÑOS EN  VIA AE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  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( </a:t>
            </a: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PROTESIS, ALIMENTOS, FLUIDOS,OBJET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    </a:t>
            </a: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MANEJ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MANIOBRAS MANU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MANEJO INSTRUMENTAL O MECAN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2636640"/>
            <a:ext cx="4194360" cy="39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POSICIONA CABE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APERTURA BUCAL (INSPECCION VISUAL DE LA VIA AERE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19280" y="260280"/>
            <a:ext cx="5257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89000"/>
            <a:ext cx="88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Bookman Old Style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PERMEABILIZACION DE 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85040" indent="-18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               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VIA AE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844640"/>
            <a:ext cx="4176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ff0000"/>
                </a:solidFill>
                <a:latin typeface="Bookman Old Style"/>
              </a:rPr>
              <a:t>MANUA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51280" y="3284640"/>
            <a:ext cx="319068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BARRIDO DIGI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OV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ookman Old Style"/>
              </a:rPr>
              <a:t>INSTRUMENTALES O MECANICO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CANULAS OROFARING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CANULAS NASOFARING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ASPIRACION ( SONDA RIGID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PINZA MAGU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9:54:03Z</dcterms:created>
  <dc:creator>PCR Y TRAUMA-2008</dc:creator>
  <dc:description/>
  <dc:language>en-US</dc:language>
  <cp:lastModifiedBy>Ivo</cp:lastModifiedBy>
  <dcterms:modified xsi:type="dcterms:W3CDTF">2008-12-04T15:43:01Z</dcterms:modified>
  <cp:revision>11</cp:revision>
  <dc:subject/>
  <dc:title>Diapositiva 1</dc:title>
</cp:coreProperties>
</file>