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763-F704-4A23-88B9-50A86AC4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F22-2C23-4C03-8F23-F7D31FB5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AC0-1240-4B3E-87AC-FD90074F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975-32A7-4875-A94C-53658332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12CB-F2F7-4662-BE53-BB155C82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0EC5-C6BA-4621-86D1-CABD34B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21B2-6CB3-4632-94C4-6F31E90E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2F84-1AC8-4B51-B4E5-62C04756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E03C-4C53-46C9-8DC9-ECDACE00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EF20-22BE-4E58-B605-0E1BF77B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1136-880C-46EC-9567-B692951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A89-E8D9-442E-BEA6-7B651F31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55EB-BF59-4D92-A698-342F2F35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1623-E3F1-441D-AE8B-4A0E1B87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E723-84CC-4D1D-9491-32ADFF1D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E08B-3A68-49A5-A82F-89BAFD71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99D2-496F-4946-8B15-15B46090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EA4-2A4D-4F0B-94CC-F9F5B4EB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D56-A40A-46B9-AE4E-E25F6F45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08E-9A41-489B-B166-9255A58B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789-D445-4A23-9B73-E7F8D3C3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1C7-AC0C-4E35-B80B-7A2685CF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B1F-8B5E-4655-8DA3-6BD61A8D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2B8-B092-4C08-8682-FF1FECB9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1D80-9744-4930-9739-A0D93B9D5D2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57AA-7F56-4D0A-AD02-BCDF1F1CB21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0da90"/>
            </a:gs>
            <a:gs pos="100000">
              <a:srgbClr val="ece8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768320" y="1481040"/>
            <a:ext cx="5461200" cy="16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4881600" y="5761080"/>
            <a:ext cx="39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6002b"/>
                </a:solidFill>
                <a:latin typeface="Comic Sans MS"/>
              </a:rPr>
              <a:t>José M. Galaz 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68520"/>
            <a:ext cx="9144000" cy="49528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Shock hipovolémico      Síntom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            </a:t>
            </a: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compensado     descompensad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Pulso           FC                FC o bradicardia     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Piel      pálida, fría          pálida y frí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P/A      normal                hipotensión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F.R.      Normal o                  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Conc.  sin alteración     desorient. - com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454560" y="304920"/>
            <a:ext cx="2232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487520" y="2886120"/>
            <a:ext cx="0" cy="2630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862360"/>
            <a:ext cx="9144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91080" y="2886120"/>
            <a:ext cx="0" cy="25621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578400"/>
            <a:ext cx="9144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202280"/>
            <a:ext cx="9144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40040" y="3024360"/>
            <a:ext cx="230040" cy="345960"/>
          </a:xfrm>
          <a:prstGeom prst="upArrow">
            <a:avLst>
              <a:gd name="adj1" fmla="val 50000"/>
              <a:gd name="adj2" fmla="val 37598"/>
            </a:avLst>
          </a:prstGeom>
          <a:solidFill>
            <a:srgbClr val="ff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802040"/>
            <a:ext cx="9144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920" y="3046320"/>
            <a:ext cx="254160" cy="300240"/>
          </a:xfrm>
          <a:prstGeom prst="upArrow">
            <a:avLst>
              <a:gd name="adj1" fmla="val 50000"/>
              <a:gd name="adj2" fmla="val 29533"/>
            </a:avLst>
          </a:prstGeom>
          <a:solidFill>
            <a:srgbClr val="ff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4680" y="3046320"/>
            <a:ext cx="231840" cy="300240"/>
          </a:xfrm>
          <a:prstGeom prst="upArrow">
            <a:avLst>
              <a:gd name="adj1" fmla="val 50000"/>
              <a:gd name="adj2" fmla="val 32376"/>
            </a:avLst>
          </a:prstGeom>
          <a:solidFill>
            <a:srgbClr val="ff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40" y="6497640"/>
            <a:ext cx="41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grama Nacional de Capacitación en Urgenci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3040" y="4968720"/>
            <a:ext cx="230400" cy="346320"/>
          </a:xfrm>
          <a:prstGeom prst="upArrow">
            <a:avLst>
              <a:gd name="adj1" fmla="val 50000"/>
              <a:gd name="adj2" fmla="val 37578"/>
            </a:avLst>
          </a:prstGeom>
          <a:solidFill>
            <a:srgbClr val="ff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6320" y="4954680"/>
            <a:ext cx="230040" cy="345960"/>
          </a:xfrm>
          <a:prstGeom prst="upArrow">
            <a:avLst>
              <a:gd name="adj1" fmla="val 50000"/>
              <a:gd name="adj2" fmla="val 37598"/>
            </a:avLst>
          </a:prstGeom>
          <a:solidFill>
            <a:srgbClr val="ff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2280" y="4941720"/>
            <a:ext cx="230040" cy="346320"/>
          </a:xfrm>
          <a:prstGeom prst="upArrow">
            <a:avLst>
              <a:gd name="adj1" fmla="val 50000"/>
              <a:gd name="adj2" fmla="val 37637"/>
            </a:avLst>
          </a:prstGeom>
          <a:solidFill>
            <a:srgbClr val="ff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2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360080" y="1801800"/>
            <a:ext cx="5715000" cy="41004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Comic Sans MS"/>
              </a:rPr>
              <a:t>DAÑOS A NIV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Miocárdico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Respiratorio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Neurológico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Rena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Metabólico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151080" y="536400"/>
            <a:ext cx="22320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7d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63160" y="2808360"/>
            <a:ext cx="8496360" cy="2844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El paciente traumatizado que se presenta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frío y taquicárdico está en shock hasta que se demuestre lo contrario *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889360" y="522360"/>
            <a:ext cx="32544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 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692440" y="1724040"/>
            <a:ext cx="373068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Evaluación Inicial</a:t>
            </a: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d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49440" y="2270160"/>
            <a:ext cx="7772400" cy="4114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- A : Vía aérea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- B : Ventilación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- C : *Circulación*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Evaluar pérdida sanguínea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00440" y="1538280"/>
            <a:ext cx="345420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Manejo</a:t>
            </a: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-473040" y="6216480"/>
            <a:ext cx="1009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7d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85920" y="2450880"/>
            <a:ext cx="8454960" cy="34909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Nivel de conciencia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Pulsos :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Radial ausente          PS&lt; 80 mm Hg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Femoral ausente        PS&lt; 70 mm Hg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Carotídeo ausente      PS&lt; 60 mm Hg</a:t>
            </a: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62320" y="500040"/>
            <a:ext cx="2232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186520" y="4668840"/>
            <a:ext cx="415800" cy="299880"/>
          </a:xfrm>
          <a:prstGeom prst="rightArrow">
            <a:avLst>
              <a:gd name="adj1" fmla="val 50000"/>
              <a:gd name="adj2" fmla="val 34664"/>
            </a:avLst>
          </a:prstGeom>
          <a:solidFill>
            <a:srgbClr val="ff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62400" y="3448080"/>
            <a:ext cx="392400" cy="324000"/>
          </a:xfrm>
          <a:prstGeom prst="rightArrow">
            <a:avLst>
              <a:gd name="adj1" fmla="val 50000"/>
              <a:gd name="adj2" fmla="val 30278"/>
            </a:avLst>
          </a:prstGeom>
          <a:solidFill>
            <a:srgbClr val="ff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9560" y="6555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95600" y="1643040"/>
            <a:ext cx="3730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Evaluación Inicial</a:t>
            </a: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192640" y="4084560"/>
            <a:ext cx="392040" cy="324000"/>
          </a:xfrm>
          <a:prstGeom prst="rightArrow">
            <a:avLst>
              <a:gd name="adj1" fmla="val 50000"/>
              <a:gd name="adj2" fmla="val 30250"/>
            </a:avLst>
          </a:prstGeom>
          <a:solidFill>
            <a:srgbClr val="ff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23920" y="2754360"/>
            <a:ext cx="6742080" cy="3060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3.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Coloración de la piel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4.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Temperatura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Llene capilar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P/A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19640" y="587520"/>
            <a:ext cx="195264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00680" y="7081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95600" y="1643040"/>
            <a:ext cx="3730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Evaluación Inicial</a:t>
            </a: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48000" y="210960"/>
            <a:ext cx="1752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0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67160" y="1136520"/>
            <a:ext cx="3786120" cy="51530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0" y="657216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grama Nacional de Capacitación en Urgenci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98960" y="6483240"/>
            <a:ext cx="1687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56480" y="622296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20011"/>
                </a:solidFill>
                <a:latin typeface="Comic Sans MS"/>
              </a:rPr>
              <a:t>Grafica 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d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23600" y="1966680"/>
            <a:ext cx="7584840" cy="41893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- Administar oxígeno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- Controlar hemorragias 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- Inmovilizar fractura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- Reemplazar pérdidas de volumen :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1.Establecer accesos vascular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2.Recordar vía IO en niño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13000" y="293760"/>
            <a:ext cx="2232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739960" y="1384200"/>
            <a:ext cx="34545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Manejo</a:t>
            </a: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348000" y="277920"/>
            <a:ext cx="2232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88840" y="1450800"/>
            <a:ext cx="7461360" cy="45882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0" y="652140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grama Nacional de Capacitación en Urgenci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56480" y="622296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20011"/>
                </a:solidFill>
                <a:latin typeface="Comic Sans MS"/>
              </a:rPr>
              <a:t>Grafica 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348000" y="277920"/>
            <a:ext cx="2232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32040" y="1442880"/>
            <a:ext cx="7162560" cy="47102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0" y="652140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grama Nacional de Capacitación en Urgenci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2720" y="62704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20011"/>
                </a:solidFill>
                <a:latin typeface="Comic Sans MS"/>
              </a:rPr>
              <a:t>Grafica 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Alteración del sistema circulatorio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 algn="ctr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Inadecuada perfusión tisular.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 algn="ctr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Entrega inadecuada de O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 algn="ctr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Daño celular anóxico irreversible.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54560" y="685800"/>
            <a:ext cx="2232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4011480" y="283860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12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d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74520" y="2279520"/>
            <a:ext cx="7135560" cy="39355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Reemplazar pérdidas de volumen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1.Seleccionar sitio de canulación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2.Seleccionar número de catéter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3.Tipo de solución parenteral a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utilizar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27280" y="371520"/>
            <a:ext cx="2232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739960" y="1384200"/>
            <a:ext cx="34545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Manejo</a:t>
            </a: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348000" y="71280"/>
            <a:ext cx="1752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0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18960" y="1317600"/>
            <a:ext cx="2684520" cy="27464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81400" y="2317680"/>
            <a:ext cx="2762280" cy="27608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327720" y="3436920"/>
            <a:ext cx="2546280" cy="28274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0" y="652140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grama Nacional de Capacitación en Urgenci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83400" y="63532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20011"/>
                </a:solidFill>
                <a:latin typeface="Comic Sans MS"/>
              </a:rPr>
              <a:t>Grafica 5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618000" y="182520"/>
            <a:ext cx="1752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0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49400" y="1228680"/>
            <a:ext cx="7086600" cy="48848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0" y="652140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grama Nacional de Capacitación en Urgenci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56480" y="622296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20011"/>
                </a:solidFill>
                <a:latin typeface="Comic Sans MS"/>
              </a:rPr>
              <a:t>Grafica 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618000" y="182520"/>
            <a:ext cx="1752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0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03560" y="1176480"/>
            <a:ext cx="4852800" cy="49528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0" y="652140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grama Nacional de Capacitación en Urgenci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56480" y="622296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20011"/>
                </a:solidFill>
                <a:latin typeface="Comic Sans MS"/>
              </a:rPr>
              <a:t>Grafica 7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d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360" y="2192040"/>
            <a:ext cx="7673760" cy="35305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- Mantener temperatura corporal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99"/>
                </a:solidFill>
                <a:latin typeface="Comic Sans MS"/>
              </a:rPr>
              <a:t>* La anemia es mejor tolerada que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i="1" lang="es-ES_tradnl" sz="3200" spc="-1" strike="noStrike">
                <a:solidFill>
                  <a:srgbClr val="000099"/>
                </a:solidFill>
                <a:latin typeface="Comic Sans MS"/>
              </a:rPr>
              <a:t>la hipovolemia *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94000" y="355680"/>
            <a:ext cx="2232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739960" y="1384200"/>
            <a:ext cx="34545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Manejo</a:t>
            </a: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41240" y="1496880"/>
            <a:ext cx="8033040" cy="458496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Terapia inicial de fluido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- Administrar la solución en forma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de bolo, lo más rápido posible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* </a:t>
            </a:r>
            <a:r>
              <a:rPr b="0" lang="es-ES_tradnl" sz="32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iños    :  20 ml/ kg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* Adultos :  1000 ml/ 10  min.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              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(esta última era la antigüa conducta en el adulto)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55880" y="420840"/>
            <a:ext cx="2232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8640" y="6497640"/>
            <a:ext cx="41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grama Nacional de Capacitación en Urgenci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d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Aumento de la presión hidráulica intravascular.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Disolución de trombos frescos.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Dilución de factores de coagulación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739960" y="1384200"/>
            <a:ext cx="34545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Manejo</a:t>
            </a: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d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99"/>
                </a:solidFill>
                <a:latin typeface="Comic Sans MS"/>
              </a:rPr>
              <a:t>Hipotensión permisiva.</a:t>
            </a:r>
            <a:endParaRPr b="0" lang="en-US" sz="4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39960" y="1384200"/>
            <a:ext cx="34545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Manejo</a:t>
            </a: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d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Cómo evaluar perfusión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Conciencia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Presencia de pulsos periférico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739960" y="1384200"/>
            <a:ext cx="34545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Manejo</a:t>
            </a: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da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s-ES" sz="2800" spc="-1" strike="noStrike">
                <a:solidFill>
                  <a:srgbClr val="000099"/>
                </a:solidFill>
                <a:latin typeface="Comic Sans MS"/>
              </a:rPr>
              <a:t>Sí la presión se eleva antes de que el cirujano esté listo para controlar la hemorragia, la sangre que urgentemente se necesita, puede perderse “.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Comic Sans MS"/>
              </a:rPr>
              <a:t>                               </a:t>
            </a:r>
            <a:r>
              <a:rPr b="0" lang="es-ES" sz="2800" spc="-1" strike="noStrike">
                <a:solidFill>
                  <a:srgbClr val="000099"/>
                </a:solidFill>
                <a:latin typeface="Comic Sans MS"/>
              </a:rPr>
              <a:t>Canon WB,JAMA 1918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39960" y="1384200"/>
            <a:ext cx="34545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Manejo</a:t>
            </a: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fd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Comic Sans MS"/>
              </a:rPr>
              <a:t>Sin Oxígen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Cerebro y corazón     4 – 6 min.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Riñones e Higado       45 – 90 min.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Intestinos, piel y       4 – 6 hora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99"/>
                </a:solidFill>
                <a:latin typeface="Comic Sans MS"/>
              </a:rPr>
              <a:t>músculos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01360" y="1971360"/>
            <a:ext cx="8032680" cy="45846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La posibilidad de revertir un shock, depende de la pezquiza precoz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La detección es clínica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Use sus ojos, sus manos y podrá determinar si su paciente está o no  en shock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38600" y="260280"/>
            <a:ext cx="22320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8640" y="6497640"/>
            <a:ext cx="41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grama Nacional de Capacitación en Urgenci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994120" y="1089000"/>
            <a:ext cx="3730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Resumen</a:t>
            </a:r>
            <a:endParaRPr b="0" lang="en-US" sz="28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92200" y="1410840"/>
            <a:ext cx="7772400" cy="48625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Comic Sans MS"/>
              </a:rPr>
              <a:t>TIPOS DE SHOCK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1.- Hipovolémico : hemorragia,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deshidratación, quemaduras.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2.- Cardiogénico  : IAM, arritmias,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taponamiento, contusión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miocárdica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454560" y="380880"/>
            <a:ext cx="22320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41240" y="1334880"/>
            <a:ext cx="7772400" cy="48625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Comic Sans MS"/>
              </a:rPr>
              <a:t>CLASIFICACION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3.- Distributivo : séptico,           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anafiláctico.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4.- Obstructivo : tromboembolismo   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pulmonar, neumotórax a 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tensión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54560" y="380880"/>
            <a:ext cx="22320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15760" y="1814400"/>
            <a:ext cx="5530680" cy="409896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84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Comic Sans MS"/>
              </a:rPr>
              <a:t>ETAPAS DEL SHOCK.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484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484200" indent="-484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1.-Shock compensado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484200" indent="-484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2.-Shock progresivo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  <a:p>
            <a:pPr marL="484200" indent="-484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3.-Shock irreversible</a:t>
            </a: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27400" y="433440"/>
            <a:ext cx="2232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36680" y="2364840"/>
            <a:ext cx="8307360" cy="32893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1. </a:t>
            </a:r>
            <a:r>
              <a:rPr b="0" lang="es-ES_tradnl" sz="3600" spc="-1" strike="noStrike" u="sng">
                <a:solidFill>
                  <a:srgbClr val="000099"/>
                </a:solidFill>
                <a:uFillTx/>
                <a:latin typeface="Comic Sans MS"/>
              </a:rPr>
              <a:t>Compensad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- Actúan mecanismos compensatorios,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- Se redistribuye la circulación, aumenta la FC, y se produce la recuperación total sin terapia específic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4680" y="808200"/>
            <a:ext cx="223236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99"/>
                </a:solidFill>
                <a:uFillTx/>
                <a:latin typeface="Comic Sans MS"/>
              </a:rPr>
              <a:t>2. Progres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Si los mecanismos compensatorios son insuficient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Puede avanzar hacia irreversibl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Hay que tratar la caus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Aplicar terapia específic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54560" y="685800"/>
            <a:ext cx="2232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3600" spc="-1" strike="noStrike" u="sng">
                <a:solidFill>
                  <a:srgbClr val="000099"/>
                </a:solidFill>
                <a:uFillTx/>
                <a:latin typeface="Comic Sans MS"/>
              </a:rPr>
              <a:t>3. Irreversibl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No es posible salvar la vida del paciente, pues 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Comic Sans MS"/>
              </a:rPr>
              <a:t>El progreso del shock lo impid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454560" y="685800"/>
            <a:ext cx="223200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7c8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50000">
                      <a:srgbClr val="ffcc00"/>
                    </a:gs>
                    <a:gs pos="100000">
                      <a:srgbClr val="cc6600"/>
                    </a:gs>
                  </a:gsLst>
                  <a:lin ang="5400000"/>
                </a:gradFill>
                <a:latin typeface="Comic Sans MS"/>
              </a:rPr>
              <a:t>SHOCK</a:t>
            </a:r>
            <a:endParaRPr b="0" lang="en-US" sz="4400" spc="1" strike="noStrike">
              <a:ln w="9360">
                <a:solidFill>
                  <a:srgbClr val="ff7c8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50000">
                    <a:srgbClr val="ffcc00"/>
                  </a:gs>
                  <a:gs pos="100000">
                    <a:srgbClr val="cc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497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9-12T02:29:19Z</dcterms:created>
  <dc:creator>Roberto</dc:creator>
  <dc:description/>
  <dc:language>en-US</dc:language>
  <cp:lastModifiedBy>Ivo</cp:lastModifiedBy>
  <dcterms:modified xsi:type="dcterms:W3CDTF">2008-12-04T15:43:27Z</dcterms:modified>
  <cp:revision>72</cp:revision>
  <dc:subject/>
  <dc:title>Sin título de diapositiva</dc:title>
</cp:coreProperties>
</file>