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9A6-CDE9-4030-9DE4-A1A0FFF2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5226-D766-4D66-AC2C-0517EA508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0CA-484E-4820-962E-BA914ED5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EAB-619E-41AE-9A8E-A3125216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D05-750C-4AE8-B592-C0EA7505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FAF-E401-4B5E-B2F9-96CDC150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974-DEC6-485E-99B9-F66EB863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200-9B59-49D1-830F-2305BDD0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A5E-D683-4B4F-B8BB-538AA03C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36D6-E8A7-42D8-89B8-97CEC7A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8B8-A223-4D1F-B1F6-B60F6F8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C751-513A-40B0-BCE7-098BBDE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7B66-580A-47CC-8A8D-F43747CFA955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EVALUACION PRIMARIA</a:t>
            </a:r>
            <a:br>
              <a:rPr sz="4800"/>
            </a:b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Y SECUNDARIA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177336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Bookman Old Style"/>
              </a:rPr>
              <a:t>VIA AEREA CON CONTROL COLUMNA CERVIC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2340000" y="4005360"/>
            <a:ext cx="4551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EN TRAU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VIA AEREA SIN TRAU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24000" y="3716280"/>
            <a:ext cx="85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MANIOBRA FRENTE MENT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4000" y="228600"/>
            <a:ext cx="6327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VENTILACION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2060640"/>
            <a:ext cx="8540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R : M.E.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              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(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M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IRAR-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E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SCUCHAR-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S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ENTI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FRECUENCIA RESPIR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EXPANSION TORAX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TRABAJO RESPIR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AUSCULT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VENTILACION ASISTIDA (- 10  y + 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4"/>
          <p:cNvSpPr/>
          <p:nvPr/>
        </p:nvSpPr>
        <p:spPr>
          <a:xfrm>
            <a:off x="684360" y="189000"/>
            <a:ext cx="158400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5464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CIRCUL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U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IEL ( COLORACION- Tª -LL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CAPILAR Y HUMED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CON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CONTROLAR PUNTOS SANGR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755640" y="189000"/>
            <a:ext cx="1655640" cy="1557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62658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P U L S O 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427640" y="1413000"/>
            <a:ext cx="3527280" cy="22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PRES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FRECU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REGULAR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26920" y="357336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2"/>
          <p:cNvSpPr/>
          <p:nvPr/>
        </p:nvSpPr>
        <p:spPr>
          <a:xfrm>
            <a:off x="1908000" y="234936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050920" y="386064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4"/>
          <p:cNvSpPr/>
          <p:nvPr/>
        </p:nvSpPr>
        <p:spPr>
          <a:xfrm>
            <a:off x="1619280" y="5734080"/>
            <a:ext cx="216000" cy="216000"/>
          </a:xfrm>
          <a:prstGeom prst="ellipse">
            <a:avLst/>
          </a:prstGeom>
          <a:solidFill>
            <a:srgbClr val="00008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3780000" y="3860640"/>
            <a:ext cx="4859280" cy="2232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PEDIO : P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RADIAL : MUÑ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FEMORAL : IN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Bookman Old Style"/>
              </a:rPr>
              <a:t>CAROTIDEO : CUE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43280" y="228600"/>
            <a:ext cx="5968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DEFICIT NEUROLOGIC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540640" cy="2952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AVDI O AVD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ALE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V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RESPONDE A ESTIMULOS VERB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RESPONDE A ESTIMULOS DOLORO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INCONCIENTE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N</a:t>
            </a: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- </a:t>
            </a:r>
            <a:r>
              <a:rPr b="1" lang="es-ES" sz="2000" spc="-1" strike="noStrike">
                <a:solidFill>
                  <a:srgbClr val="ffff00"/>
                </a:solidFill>
                <a:latin typeface="Bookman Old Style"/>
              </a:rPr>
              <a:t>NO RESPONDE A NINGUN ESTIMU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1042920" y="189000"/>
            <a:ext cx="144144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ALTERACION DE CONCIENCI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619280" y="1989000"/>
            <a:ext cx="55450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OXIGENACION CEREBRAL DISMINU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LESIONES DEL S.N.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DROGAS O ALCOH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ATOLOGIA MEDICA ASOCIADA (DIABETES, CONVULSIONES Y OTR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03640" y="228240"/>
            <a:ext cx="511344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XPOSI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** EVITE LA 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HIPOTER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* SI EL PACIENTE ES CRI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HAGALO RAPID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SEA EFIC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PREPARE EL TRANSP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- HAGALO EN R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900000" y="189000"/>
            <a:ext cx="1513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104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TRANSPORTE RAPIDO UNA VEZ ESTABILIZADO E INMOVILIZADO EL PACIEN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3456000" cy="1295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 PRIMARIA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716360" y="4292640"/>
            <a:ext cx="3240360" cy="1514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SECUN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3924360" y="2492280"/>
            <a:ext cx="1008000" cy="1150920"/>
          </a:xfrm>
          <a:prstGeom prst="downArrow">
            <a:avLst>
              <a:gd name="adj1" fmla="val 50000"/>
              <a:gd name="adj2" fmla="val 28545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EVALUACION PRIMARIA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ESTA EVALUACION VA DES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LA VALORACION DEL AMB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CION DEL 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STABILIZAC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RAPIDO TRASL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 SECUNDAR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Bookman Old Style"/>
              </a:rPr>
              <a:t>EXAMEN SEGMENTARI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CABEZA (CRANEO – REGION FA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CUELLO-TOR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ABD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PELV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EXTREM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*EVALUACION NEUROLO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**SIGNOS VI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Bookman Old Style"/>
              </a:rPr>
              <a:t>TRAUMA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92360" y="1844640"/>
            <a:ext cx="53276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Bookman Old Style"/>
              </a:rPr>
              <a:t>HORA</a:t>
            </a:r>
            <a:r>
              <a:rPr b="1" lang="es-ES" sz="5400" spc="-1" strike="noStrike">
                <a:solidFill>
                  <a:srgbClr val="ffff00"/>
                </a:solidFill>
                <a:latin typeface="Bookman Old Style"/>
              </a:rPr>
              <a:t> DORA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635280" y="3933720"/>
            <a:ext cx="5327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Bookman Old Style"/>
              </a:rPr>
              <a:t>10 MINUTOS DE INTERVENCION EN EL LUGA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297504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50920" y="3860640"/>
            <a:ext cx="79200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50920" y="3645000"/>
            <a:ext cx="2089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940360" y="3500280"/>
            <a:ext cx="1152720" cy="2953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076720" y="1844640"/>
            <a:ext cx="297504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547640" y="5373720"/>
            <a:ext cx="79236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627280" y="3860640"/>
            <a:ext cx="792360" cy="673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 flipH="1">
            <a:off x="611280" y="2492280"/>
            <a:ext cx="1296720" cy="1368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1908000" y="2492280"/>
            <a:ext cx="0" cy="2881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908000" y="2492280"/>
            <a:ext cx="1079640" cy="1297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6156360" y="2565360"/>
            <a:ext cx="576360" cy="863640"/>
          </a:xfrm>
          <a:prstGeom prst="downArrow">
            <a:avLst>
              <a:gd name="adj1" fmla="val 50000"/>
              <a:gd name="adj2" fmla="val 37461"/>
            </a:avLst>
          </a:prstGeom>
          <a:solidFill>
            <a:srgbClr val="00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*SEGURIDAD</a:t>
            </a:r>
            <a:r>
              <a:rPr b="0" lang="es-E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4000" y="170028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Bookman Old Style"/>
              </a:rPr>
              <a:t>*EVALUACION DE LA ESCE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50920" y="357336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Bookman Old Style"/>
              </a:rPr>
              <a:t>*SITUAC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95280" y="4869000"/>
            <a:ext cx="40957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¿Qué pasó?</a:t>
            </a: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¿Cómo pas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356000" y="5013360"/>
            <a:ext cx="4095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Bookman Old Style"/>
              </a:rPr>
              <a:t>IAM??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EVALUACION INICI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5640" y="1676160"/>
            <a:ext cx="6264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SE DEBE REALIZ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N 15 SEGUN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CINEMA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T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Bookman Old Style"/>
              </a:rPr>
              <a:t>EVALUACION A-B-C-D-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EVALUACION DEL PACIENT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900000" y="1700280"/>
            <a:ext cx="784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VALORAR ESTADO DE CONCI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2771640" y="3357720"/>
            <a:ext cx="4176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Bookman Old Style"/>
              </a:rPr>
              <a:t>¿ESTA USTED BI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Bookman Old Style"/>
              </a:rPr>
              <a:t>ABC DEL TRAU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CION INMEDIATA Y SIMULTA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– VIA AEREA CON CONTROL DE COLUM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B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– VENTIL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C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– CIRCULACION CON CONTROL D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HEMORRAG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 -  DEFICIT NEUROLOGICO ( AVDI-AVD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Bookman Old Style"/>
              </a:rPr>
              <a:t>E </a:t>
            </a: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– EXPONER  CON CONTROL DE LA  HIPOTER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5"/>
            </a:gs>
            <a:gs pos="50000">
              <a:srgbClr val="0000a4"/>
            </a:gs>
            <a:gs pos="100000">
              <a:srgbClr val="000005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360" y="228600"/>
            <a:ext cx="56167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Bookman Old Style"/>
              </a:rPr>
              <a:t>VIA AEREA EN TRAUM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989000"/>
            <a:ext cx="854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EVALUAR PERMEABILIDAD DE LA VIA AE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ABRA VIA AEREA CON CONTROL DE COLUM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PERMEABILICE (Despeje con maniobras bás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COLLAR CERV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man Old Style"/>
              </a:rPr>
              <a:t>OXIG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4"/>
          <p:cNvSpPr/>
          <p:nvPr/>
        </p:nvSpPr>
        <p:spPr>
          <a:xfrm>
            <a:off x="468360" y="189000"/>
            <a:ext cx="1655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0000"/>
                </a:solidFill>
                <a:latin typeface="Bookman Old Style"/>
              </a:rPr>
              <a:t>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14:00:00Z</dcterms:created>
  <dc:creator>PCR Y TRAUMA-2008</dc:creator>
  <dc:description/>
  <dc:language>en-US</dc:language>
  <cp:lastModifiedBy>Ivo</cp:lastModifiedBy>
  <dcterms:modified xsi:type="dcterms:W3CDTF">2008-12-04T15:42:28Z</dcterms:modified>
  <cp:revision>42</cp:revision>
  <dc:subject/>
  <dc:title>Diapositiva 1</dc:title>
</cp:coreProperties>
</file>