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833-9889-42EB-B38F-0702C742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198-4ADF-473E-800E-0D998F2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97E-94B7-42A8-97B8-544590C2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73C-3B88-4EA3-982B-DDB022B0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B0A-26C6-495A-8C9E-45810AF6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8DD-9CA9-4525-A37D-5EE6E6ED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51A-D73C-46F6-A7AA-0E6F5BE6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283-2AC5-48AF-AB21-956B125D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D10-D180-4E42-A861-F6F2B55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12E-ED9A-417B-AD1A-059B00EB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5A4-A51B-4D68-8A15-BCCD7C3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6E7-37DF-4425-94B1-3987A04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A13-DD32-49D2-A499-2C1E6558392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EVALUACION PRIMARIA</a:t>
            </a:r>
            <a:br>
              <a:rPr sz="4800"/>
            </a:b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Y SECUNDARI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Bookman Old Style"/>
              </a:rPr>
              <a:t>VIA AEREA CON CONTROL COLUMNA CERVIC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340000" y="4005360"/>
            <a:ext cx="4551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EN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510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VIA AEREA SIN TRAU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24000" y="3716280"/>
            <a:ext cx="85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MANIOBRA FRENTE MENT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000" y="228600"/>
            <a:ext cx="6327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VENTILACION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R : M.E.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            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M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IRAR-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E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SCUCHAR-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S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NT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FRECUENCIA RESPIR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EXPANSION TORA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TRABAJO RESPI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AUSCUL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VENTILACION ASISTIDA (- 10  y + 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4"/>
          <p:cNvSpPr/>
          <p:nvPr/>
        </p:nvSpPr>
        <p:spPr>
          <a:xfrm>
            <a:off x="684360" y="189000"/>
            <a:ext cx="158400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546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CIRCUL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U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IEL ( COLORACION- Tª -LL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CAPILAR Y HUMED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CON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CONTROLAR PUNTOS SANGR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755640" y="189000"/>
            <a:ext cx="1655640" cy="155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265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P U L S O 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427640" y="1413000"/>
            <a:ext cx="3527280" cy="22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PR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FRECU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REGULA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26920" y="357336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908000" y="234936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050920" y="386064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619280" y="573408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780000" y="3860640"/>
            <a:ext cx="4859280" cy="2232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PEDIO : P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RADIAL : MUÑ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FEMORAL : I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CAROTIDEO : CU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43280" y="228600"/>
            <a:ext cx="5968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DEFICIT NEUROLOGIC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540640" cy="2952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AVDI O AVD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AL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V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RESPONDE A ESTIMULOS VERB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RESPONDE A ESTIMULOS DOLOR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I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INCONCIENTE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N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NO RESPONDE A NINGUN EST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1042920" y="189000"/>
            <a:ext cx="144144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ALTERACION DE CONCIENC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619280" y="1989000"/>
            <a:ext cx="55450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OXIGENACION CEREBRAL DISMINU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LESIONES DEL S.N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DROGAS O ALCOH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ATOLOGIA MEDICA ASOCIADA (DIABETES, CONVULSIONES Y OTR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228240"/>
            <a:ext cx="511344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XPOSI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** EVITE LA </a:t>
            </a: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HIPOT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* SI EL PACIENTE ES CRI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HAGALO RAPID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SEA EFICI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REPARE EL TRANSPO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HAGALO EN R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00000" y="189000"/>
            <a:ext cx="1513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104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TRANSPORTE RAPIDO UNA VEZ ESTABILIZADO E INMOVILIZADO EL PACIE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3456000" cy="1295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 PRIMARI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716360" y="4292640"/>
            <a:ext cx="3240360" cy="1514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SECUN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3924360" y="2492280"/>
            <a:ext cx="1008000" cy="1150920"/>
          </a:xfrm>
          <a:prstGeom prst="downArrow">
            <a:avLst>
              <a:gd name="adj1" fmla="val 50000"/>
              <a:gd name="adj2" fmla="val 28545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EVALUACION PRIMARIA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ESTA EVALUACION VA DES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LA VALORACION DEL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CION DEL 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STABILIZAC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RAPIDO TRASL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 SECUNDAR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EXAMEN SEGMENTARI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CABEZA (CRANEO – REGION FA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CUELLO-T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ABD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PELV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EXTREM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*EVALUACION NEUROLO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*SIGNOS V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Bookman Old Style"/>
              </a:rPr>
              <a:t>TRAUMA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92360" y="1844640"/>
            <a:ext cx="53276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ookman Old Style"/>
              </a:rPr>
              <a:t>HORA</a:t>
            </a:r>
            <a:r>
              <a:rPr b="1" lang="es-ES" sz="5400" spc="-1" strike="noStrike">
                <a:solidFill>
                  <a:srgbClr val="ffff00"/>
                </a:solidFill>
                <a:latin typeface="Bookman Old Style"/>
              </a:rPr>
              <a:t> DORA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635280" y="3933720"/>
            <a:ext cx="5327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10 MINUTOS DE INTERVENCION EN EL LUG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297504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0920" y="3860640"/>
            <a:ext cx="79200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0920" y="3645000"/>
            <a:ext cx="208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940360" y="3500280"/>
            <a:ext cx="1152720" cy="295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076720" y="1844640"/>
            <a:ext cx="297504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547640" y="5373720"/>
            <a:ext cx="79236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627280" y="3860640"/>
            <a:ext cx="79236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611280" y="2492280"/>
            <a:ext cx="1296720" cy="1368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1908000" y="2492280"/>
            <a:ext cx="0" cy="288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908000" y="2492280"/>
            <a:ext cx="1079640" cy="1297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6156360" y="2565360"/>
            <a:ext cx="576360" cy="863640"/>
          </a:xfrm>
          <a:prstGeom prst="downArrow">
            <a:avLst>
              <a:gd name="adj1" fmla="val 50000"/>
              <a:gd name="adj2" fmla="val 37461"/>
            </a:avLst>
          </a:prstGeom>
          <a:solidFill>
            <a:srgbClr val="00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*SEGURIDAD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4000" y="170028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Bookman Old Style"/>
              </a:rPr>
              <a:t>*EVALUACION DE LA ESCE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0920" y="357336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*SITUAC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95280" y="4869000"/>
            <a:ext cx="4095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¿Qué pasó?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¿Cómo pas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356000" y="5013360"/>
            <a:ext cx="4095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IAM??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 INICI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676160"/>
            <a:ext cx="626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SE DEBE REALI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N 15 SEGUN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CINEM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T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CION A-B-C-D-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EVALUACION DEL PACIENT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900000" y="1700280"/>
            <a:ext cx="784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VALORAR ESTADO DE CONCI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771640" y="3357720"/>
            <a:ext cx="417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¿ESTA USTED BI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ABC DEL TRAU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 INMEDIATA Y SIMULTA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– VIA AEREA CON CONTROL DE COLUM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B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– VENTIL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C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– CIRCULACION CON CONTROL D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HEMORRA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-  DEFICIT NEUROLOGICO ( AVDI-AVD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E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– EXPONER  CON CONTROL DE LA  HIPOTER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360" y="228600"/>
            <a:ext cx="5616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VIA AEREA EN TRAU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8900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R PERMEABILIDAD DE LA VIA A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ABRA VIA AEREA CON CONTROL DE COLUM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ERMEABILICE (Despeje con maniobras bás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OLLAR 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OXI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468360" y="189000"/>
            <a:ext cx="1655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4:00:00Z</dcterms:created>
  <dc:creator>PCR Y TRAUMA-2008</dc:creator>
  <dc:description/>
  <dc:language>en-US</dc:language>
  <cp:lastModifiedBy>Ivo</cp:lastModifiedBy>
  <dcterms:modified xsi:type="dcterms:W3CDTF">2008-12-04T15:42:28Z</dcterms:modified>
  <cp:revision>42</cp:revision>
  <dc:subject/>
  <dc:title>Diapositiva 1</dc:title>
</cp:coreProperties>
</file>