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B1E-D980-4B74-BDD4-B450DFCA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BCE-D612-42A5-BE13-F62855B5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476-5FAB-43C0-84A2-2CAD4ABC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2F4-B416-4E5F-844C-45D38842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134-03E6-4007-91A2-7730EA74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5DA-29FF-4F4B-A794-2DBA82C1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62E-69A1-4E72-B6F8-5888D88E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1E3-D196-41F4-AEDD-64F4DC0B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569-5E2F-46D7-B3C9-51C5C106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1C2-EAF3-4EAF-A63D-7AE04A4B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D98-6F6D-49CD-A173-F34CF22F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5DF-1B5A-4A73-B0A8-A3A49714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6A49-F52D-4434-822B-498B866F57F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48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Bookman Old Style"/>
              </a:rPr>
              <a:t>EVALUACION PRIMARIA</a:t>
            </a:r>
            <a:br>
              <a:rPr sz="4800"/>
            </a:br>
            <a:r>
              <a:rPr b="1" lang="es-ES" sz="4800" spc="-1" strike="noStrike">
                <a:solidFill>
                  <a:srgbClr val="ff0000"/>
                </a:solidFill>
                <a:latin typeface="Bookman Old Style"/>
              </a:rPr>
              <a:t>Y SECUNDARIA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1773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Bookman Old Style"/>
              </a:rPr>
              <a:t>VIA AEREA CON CONTROL COLUMNA CERVICA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2340000" y="4005360"/>
            <a:ext cx="45514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Bookman Old Style"/>
              </a:rPr>
              <a:t>EN TRAU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510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VIA AEREA SIN TRAUM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24000" y="3716280"/>
            <a:ext cx="851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MANIOBRA FRENTE MENT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84000" y="228600"/>
            <a:ext cx="63277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VENTILACION</a:t>
            </a: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EVALUAR : M.E.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              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(</a:t>
            </a:r>
            <a:r>
              <a:rPr b="1" lang="es-ES" sz="2800" spc="-1" strike="noStrike">
                <a:solidFill>
                  <a:srgbClr val="ff0000"/>
                </a:solidFill>
                <a:latin typeface="Bookman Old Style"/>
              </a:rPr>
              <a:t>M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IRAR-</a:t>
            </a:r>
            <a:r>
              <a:rPr b="1" lang="es-ES" sz="2800" spc="-1" strike="noStrike">
                <a:solidFill>
                  <a:srgbClr val="ff0000"/>
                </a:solidFill>
                <a:latin typeface="Bookman Old Style"/>
              </a:rPr>
              <a:t>E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SCUCHAR-</a:t>
            </a:r>
            <a:r>
              <a:rPr b="1" lang="es-ES" sz="2800" spc="-1" strike="noStrike">
                <a:solidFill>
                  <a:srgbClr val="ff0000"/>
                </a:solidFill>
                <a:latin typeface="Bookman Old Style"/>
              </a:rPr>
              <a:t>S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ENTI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FRECUENCIA RESPIRA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EXPANSION TORAX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TRABAJO RESPIR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AUSCUL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VENTILACION ASISTIDA (- 10  y + 3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4"/>
          <p:cNvSpPr/>
          <p:nvPr/>
        </p:nvSpPr>
        <p:spPr>
          <a:xfrm>
            <a:off x="684360" y="189000"/>
            <a:ext cx="158400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3280" y="260280"/>
            <a:ext cx="546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CIRCULAC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EVAL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PUL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PIEL ( COLORACION- Tª -LL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          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CAPILAR Y HUMED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CONCI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CONTROLAR PUNTOS SANGR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755640" y="189000"/>
            <a:ext cx="1655640" cy="1557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0000"/>
                </a:solidFill>
                <a:latin typeface="Bookman Old Style"/>
              </a:rPr>
              <a:t>C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6265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Bookman Old Style"/>
              </a:rPr>
              <a:t>P U L S O S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427640" y="1413000"/>
            <a:ext cx="3527280" cy="22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PRES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FRECU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C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REGULA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826920" y="3573360"/>
            <a:ext cx="216000" cy="216000"/>
          </a:xfrm>
          <a:prstGeom prst="ellipse">
            <a:avLst/>
          </a:prstGeom>
          <a:solidFill>
            <a:srgbClr val="0000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1908000" y="2349360"/>
            <a:ext cx="216000" cy="216000"/>
          </a:xfrm>
          <a:prstGeom prst="ellipse">
            <a:avLst/>
          </a:prstGeom>
          <a:solidFill>
            <a:srgbClr val="0000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2050920" y="3860640"/>
            <a:ext cx="216000" cy="216000"/>
          </a:xfrm>
          <a:prstGeom prst="ellipse">
            <a:avLst/>
          </a:prstGeom>
          <a:solidFill>
            <a:srgbClr val="0000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1619280" y="5734080"/>
            <a:ext cx="216000" cy="216000"/>
          </a:xfrm>
          <a:prstGeom prst="ellipse">
            <a:avLst/>
          </a:prstGeom>
          <a:solidFill>
            <a:srgbClr val="0000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3780000" y="3860640"/>
            <a:ext cx="4859280" cy="2232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PEDIO : P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RADIAL : MUÑE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FEMORAL : IN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CAROTIDEO : CUE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43280" y="228600"/>
            <a:ext cx="5968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Bookman Old Style"/>
              </a:rPr>
              <a:t>DEFICIT NEUROLOGIC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540640" cy="2952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AVDI O AVD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ALE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V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</a:t>
            </a:r>
            <a:r>
              <a:rPr b="1" lang="es-ES" sz="2000" spc="-1" strike="noStrike">
                <a:solidFill>
                  <a:srgbClr val="ffff00"/>
                </a:solidFill>
                <a:latin typeface="Bookman Old Style"/>
              </a:rPr>
              <a:t>RESPONDE A ESTIMULOS VERB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D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 - </a:t>
            </a:r>
            <a:r>
              <a:rPr b="1" lang="es-ES" sz="2000" spc="-1" strike="noStrike">
                <a:solidFill>
                  <a:srgbClr val="ffff00"/>
                </a:solidFill>
                <a:latin typeface="Bookman Old Style"/>
              </a:rPr>
              <a:t>RESPONDE A ESTIMULOS DOLORO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I</a:t>
            </a:r>
            <a:r>
              <a:rPr b="1" lang="es-ES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 - </a:t>
            </a:r>
            <a:r>
              <a:rPr b="1" lang="es-ES" sz="2000" spc="-1" strike="noStrike">
                <a:solidFill>
                  <a:srgbClr val="ffff00"/>
                </a:solidFill>
                <a:latin typeface="Bookman Old Style"/>
              </a:rPr>
              <a:t>INCONCIENTE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N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</a:t>
            </a:r>
            <a:r>
              <a:rPr b="1" lang="es-ES" sz="2000" spc="-1" strike="noStrike">
                <a:solidFill>
                  <a:srgbClr val="ffff00"/>
                </a:solidFill>
                <a:latin typeface="Bookman Old Style"/>
              </a:rPr>
              <a:t>NO RESPONDE A NINGUN ESTIM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4"/>
          <p:cNvSpPr/>
          <p:nvPr/>
        </p:nvSpPr>
        <p:spPr>
          <a:xfrm>
            <a:off x="1042920" y="189000"/>
            <a:ext cx="144144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0000"/>
                </a:solidFill>
                <a:latin typeface="Bookman Old Style"/>
              </a:rPr>
              <a:t>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Bookman Old Style"/>
              </a:rPr>
              <a:t>ALTERACION DE CONCIENCI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619280" y="1989000"/>
            <a:ext cx="554508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OXIGENACION CEREBRAL DISMINU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LESIONES DEL S.N.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DROGAS O ALCOH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PATOLOGIA MEDICA ASOCIADA (DIABETES, CONVULSIONES Y OTR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3640" y="228240"/>
            <a:ext cx="511344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EXPOSIC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Bookman Old Style"/>
              </a:rPr>
              <a:t>** EVITE LA </a:t>
            </a: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HIPOTERM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* SI EL PACIENTE ES CRI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HAGALO RAPID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SEA EFICIEN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PREPARE EL TRANSPO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HAGALO EN RU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900000" y="189000"/>
            <a:ext cx="151308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0000"/>
                </a:solidFill>
                <a:latin typeface="Bookman Old Style"/>
              </a:rPr>
              <a:t>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51040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TRANSPORTE RAPIDO UNA VEZ ESTABILIZADO E INMOVILIZADO EL PACIEN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3456000" cy="1295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EVALUACION PRIMARI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4716360" y="4292640"/>
            <a:ext cx="3240360" cy="1514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EVALUACION</a:t>
            </a:r>
            <a:br>
              <a:rPr sz="2400"/>
            </a:b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SECUND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3924360" y="2492280"/>
            <a:ext cx="1008000" cy="1150920"/>
          </a:xfrm>
          <a:prstGeom prst="downArrow">
            <a:avLst>
              <a:gd name="adj1" fmla="val 50000"/>
              <a:gd name="adj2" fmla="val 28545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Bookman Old Style"/>
              </a:rPr>
              <a:t>EVALUACION PRIMARIA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Bookman Old Style"/>
              </a:rPr>
              <a:t>ESTA EVALUACION VA DESD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LA VALORACION DEL AMBI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EVALUACION DEL PA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ESTABILIZAC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RAPIDO TRASL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EVALUACION SECUNDAR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Bookman Old Style"/>
              </a:rPr>
              <a:t>EXAMEN SEGMENTARI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CABEZA (CRANEO – REGION FAC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CUELLO-TOR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ABD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PELV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EXTREM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*EVALUACION NEUROLO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*SIGNOS VI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Bookman Old Style"/>
              </a:rPr>
              <a:t>TRAUMA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492360" y="1844640"/>
            <a:ext cx="53276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Bookman Old Style"/>
              </a:rPr>
              <a:t>HORA</a:t>
            </a:r>
            <a:r>
              <a:rPr b="1" lang="es-ES" sz="5400" spc="-1" strike="noStrike">
                <a:solidFill>
                  <a:srgbClr val="ffff00"/>
                </a:solidFill>
                <a:latin typeface="Bookman Old Style"/>
              </a:rPr>
              <a:t> DORAD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635280" y="3933720"/>
            <a:ext cx="5327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Bookman Old Style"/>
              </a:rPr>
              <a:t>10 MINUTOS DE INTERVENCION EN EL LUG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EVALUAC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2975040" cy="67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CEN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50920" y="3860640"/>
            <a:ext cx="792000" cy="67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50920" y="3645000"/>
            <a:ext cx="2089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940360" y="3500280"/>
            <a:ext cx="1152720" cy="2953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076720" y="1844640"/>
            <a:ext cx="2975040" cy="67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547640" y="5373720"/>
            <a:ext cx="792360" cy="67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627280" y="3860640"/>
            <a:ext cx="792360" cy="67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 flipH="1">
            <a:off x="611280" y="2492280"/>
            <a:ext cx="1296720" cy="1368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1908000" y="2492280"/>
            <a:ext cx="0" cy="2881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1908000" y="2492280"/>
            <a:ext cx="1079640" cy="1297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5"/>
          <p:cNvSpPr/>
          <p:nvPr/>
        </p:nvSpPr>
        <p:spPr>
          <a:xfrm>
            <a:off x="6156360" y="2565360"/>
            <a:ext cx="576360" cy="863640"/>
          </a:xfrm>
          <a:prstGeom prst="downArrow">
            <a:avLst>
              <a:gd name="adj1" fmla="val 50000"/>
              <a:gd name="adj2" fmla="val 37461"/>
            </a:avLst>
          </a:prstGeom>
          <a:solidFill>
            <a:srgbClr val="00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Bookman Old Style"/>
              </a:rPr>
              <a:t>*SEGURIDAD</a:t>
            </a: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24000" y="170028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Bookman Old Style"/>
              </a:rPr>
              <a:t>*EVALUACION DE LA ESCE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50920" y="357336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Bookman Old Style"/>
              </a:rPr>
              <a:t>*SITUAC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95280" y="4869000"/>
            <a:ext cx="4095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Bookman Old Style"/>
              </a:rPr>
              <a:t>¿Qué pasó?</a:t>
            </a: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Bookman Old Style"/>
              </a:rPr>
              <a:t>¿Cómo pas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356000" y="5013360"/>
            <a:ext cx="4095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Bookman Old Style"/>
              </a:rPr>
              <a:t>IAM??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EVALUACION INICI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5640" y="1676160"/>
            <a:ext cx="62643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SE DEBE REALIZ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EN 15 SEGUN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CINEMA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TR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EVALUACION A-B-C-D-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Bookman Old Style"/>
              </a:rPr>
              <a:t>EVALUACION DEL PACIENT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900000" y="1700280"/>
            <a:ext cx="784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VALORAR ESTADO DE CONCI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2771640" y="3357720"/>
            <a:ext cx="4176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¿ESTA USTED BI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ABC DEL TRAUM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EVALUACION INMEDIATA Y SIMULTA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 – VIA AEREA CON CONTROL DE COLUM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CERV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B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– VENTIL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C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 – CIRCULACION CON CONTROL D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HEMORRA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D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 -  DEFICIT NEUROLOGICO ( AVDI-AVD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E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– EXPONER  CON CONTROL DE LA  HIPOTER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0360" y="228600"/>
            <a:ext cx="56167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Bookman Old Style"/>
              </a:rPr>
              <a:t>VIA AEREA EN TRAUM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989000"/>
            <a:ext cx="854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EVALUAR PERMEABILIDAD DE LA VIA AE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ABRA VIA AEREA CON CONTROL DE COLUM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CERV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PERMEABILICE (Despeje con maniobras básic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COLLAR CERV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OXIG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4"/>
          <p:cNvSpPr/>
          <p:nvPr/>
        </p:nvSpPr>
        <p:spPr>
          <a:xfrm>
            <a:off x="468360" y="189000"/>
            <a:ext cx="165564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0000"/>
                </a:solidFill>
                <a:latin typeface="Bookman Old Style"/>
              </a:rPr>
              <a:t>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14:00:00Z</dcterms:created>
  <dc:creator>PCR Y TRAUMA-2008</dc:creator>
  <dc:description/>
  <dc:language>en-US</dc:language>
  <cp:lastModifiedBy>Ivo</cp:lastModifiedBy>
  <dcterms:modified xsi:type="dcterms:W3CDTF">2008-12-04T15:42:28Z</dcterms:modified>
  <cp:revision>42</cp:revision>
  <dc:subject/>
  <dc:title>Diapositiva 1</dc:title>
</cp:coreProperties>
</file>