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4.jpeg" ContentType="image/jpeg"/>
  <Override PartName="/ppt/media/image25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29.jpeg" ContentType="image/jpeg"/>
  <Override PartName="/ppt/media/image28.wmf" ContentType="image/x-wmf"/>
  <Override PartName="/ppt/media/image30.png" ContentType="image/png"/>
  <Override PartName="/ppt/media/image3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CDF-DB54-4571-9645-47AD6A9B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B40-306F-42E3-AF37-FD218D28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124-CCF5-4B67-AA9D-A4D00CDC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B7C-52F2-475F-874A-C2291EEB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7AFB-1658-4E92-8D44-B03F84EB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19CF-3C78-46CA-83C6-F859B04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ECB3-A090-4816-AD77-0AABD17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BFF-2D85-45D1-B220-55849AD0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7EAE-70C0-4025-B20F-99DA8BAA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7FD4-C6D8-46B3-8A7A-ADA2AEF2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58E8-F096-4F12-B06C-8FEFA8C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3EF-8A77-4E11-8989-E0F0F921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DFBA-E03C-4FEF-A06A-9C9583FC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B64A-87B5-40FB-9E4D-582B5373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FF9-83AC-4784-83DB-5203153F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F4C2-C856-4E48-850D-ECF8A4D5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20E7-CDD6-40A1-A005-66A417A9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CE5-EAAC-45D1-B8FC-C51D0FA1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BDA-2DA5-49CF-869B-D8461E2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F70-7D2E-4D55-9C98-60B5319A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E22-3841-42D3-AE1C-7AA74B29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152-28BC-4518-AAB5-6C7E7D3F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DF6-8171-4AA7-AB97-94D4C41C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68C-9934-4AA1-A7A3-1493F0F3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327B-3925-4945-B0DB-F7A15F64225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A41B-95AE-4C91-853D-6AF5FA851F24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inemática del Trau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avitació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3867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0000" y="979560"/>
            <a:ext cx="6264000" cy="489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26028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vi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2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Herida por arma blan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9280" y="1195560"/>
            <a:ext cx="6769080" cy="44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24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Herida por b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709" t="555" r="709" b="555"/>
          <a:stretch/>
        </p:blipFill>
        <p:spPr>
          <a:xfrm>
            <a:off x="-541440" y="2492280"/>
            <a:ext cx="3726000" cy="4776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iones por cambio de veloc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05264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00"/>
                </a:solidFill>
                <a:latin typeface="Arial"/>
              </a:rPr>
              <a:t>Órgano sigue desplazándose traccionando ligamento o vas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000" y="5774400"/>
            <a:ext cx="1142280" cy="41400"/>
          </a:xfrm>
          <a:prstGeom prst="line">
            <a:avLst/>
          </a:prstGeom>
          <a:ln w="162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198440"/>
            <a:ext cx="30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tención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brus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5029200"/>
            <a:ext cx="762120" cy="685800"/>
          </a:xfrm>
          <a:prstGeom prst="leftArrow">
            <a:avLst>
              <a:gd name="adj1" fmla="val 50000"/>
              <a:gd name="adj2" fmla="val 2778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1052640"/>
            <a:ext cx="431640" cy="1008000"/>
          </a:xfrm>
          <a:custGeom>
            <a:avLst/>
            <a:gdLst>
              <a:gd name="textAreaLeft" fmla="*/ 0 w 431640"/>
              <a:gd name="textAreaRight" fmla="*/ 155880 w 431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709" t="555" r="709" b="555"/>
          <a:stretch/>
        </p:blipFill>
        <p:spPr>
          <a:xfrm>
            <a:off x="2627280" y="2494080"/>
            <a:ext cx="3708360" cy="475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709" t="555" r="709" b="555"/>
          <a:stretch/>
        </p:blipFill>
        <p:spPr>
          <a:xfrm>
            <a:off x="5796000" y="2567160"/>
            <a:ext cx="359568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3641" r="0" b="0"/>
          <a:stretch/>
        </p:blipFill>
        <p:spPr>
          <a:xfrm>
            <a:off x="-685800" y="482760"/>
            <a:ext cx="11658600" cy="6554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iones por cambio de veloc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9000" y="266688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48400" y="1825560"/>
            <a:ext cx="200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le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iz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c0321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709" t="24901" r="709" b="555"/>
          <a:stretch/>
        </p:blipFill>
        <p:spPr>
          <a:xfrm>
            <a:off x="5241960" y="2781360"/>
            <a:ext cx="5018040" cy="4849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709" t="555" r="709" b="555"/>
          <a:stretch/>
        </p:blipFill>
        <p:spPr>
          <a:xfrm>
            <a:off x="1746360" y="4125960"/>
            <a:ext cx="2320920" cy="297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3880" y="1393920"/>
            <a:ext cx="2590920" cy="2035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lisión vehículos motoriz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495680"/>
            <a:ext cx="38088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4495680"/>
            <a:ext cx="38088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241400">
            <a:off x="8521560" y="5181480"/>
            <a:ext cx="1243080" cy="398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80823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562720"/>
            <a:ext cx="763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5486400"/>
            <a:ext cx="763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241400">
            <a:off x="3187800" y="5867280"/>
            <a:ext cx="54612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80823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3733920"/>
            <a:ext cx="2743200" cy="3124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2819520"/>
            <a:ext cx="2895840" cy="28954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6324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749600">
            <a:off x="3276360" y="5715000"/>
            <a:ext cx="873000" cy="262080"/>
          </a:xfrm>
          <a:prstGeom prst="leftArrow">
            <a:avLst>
              <a:gd name="adj1" fmla="val 50000"/>
              <a:gd name="adj2" fmla="val 8327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36576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371600"/>
            <a:ext cx="762120" cy="17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1</a:t>
            </a:r>
            <a:endParaRPr b="0" lang="en-US" sz="2400" spc="1" strike="noStrike">
              <a:ln w="5724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4343400"/>
            <a:ext cx="91440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33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2</a:t>
            </a:r>
            <a:endParaRPr b="0" lang="en-US" sz="2400" spc="1" strike="noStrike">
              <a:ln w="633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352680"/>
            <a:ext cx="6858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3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os de Prot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29528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Deformación progres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Barras lat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Ca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Cinturón de 3 pu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Bolsa de 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acto fr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492280"/>
            <a:ext cx="7239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tención del movimiento hacia de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uerpo sin suje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Hacia abajo y adel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Hacia arriba y al f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Importancia del Cinturón de tres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680" y="-36828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37000"/>
            <a:ext cx="8534520" cy="39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Analizar accid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y determinar  dañ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egún mov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y fuerz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involucrados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82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Impacto frontal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splazamiento hacia delante y abajo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6162" t="2990" r="0" b="0"/>
          <a:stretch/>
        </p:blipFill>
        <p:spPr>
          <a:xfrm>
            <a:off x="2556000" y="1341360"/>
            <a:ext cx="4782960" cy="5105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5796" t="0" r="5796" b="0"/>
          <a:stretch/>
        </p:blipFill>
        <p:spPr>
          <a:xfrm>
            <a:off x="3203640" y="1484280"/>
            <a:ext cx="5176800" cy="5257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6323" t="0" r="10538" b="0"/>
          <a:stretch/>
        </p:blipFill>
        <p:spPr>
          <a:xfrm>
            <a:off x="3156120" y="2022480"/>
            <a:ext cx="480060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82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Impacto frontal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splazamiento hacia delante y abajo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6162" t="2990" r="0" b="0"/>
          <a:stretch/>
        </p:blipFill>
        <p:spPr>
          <a:xfrm>
            <a:off x="0" y="1052640"/>
            <a:ext cx="2841480" cy="3033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5796" t="0" r="5796" b="0"/>
          <a:stretch/>
        </p:blipFill>
        <p:spPr>
          <a:xfrm>
            <a:off x="2786040" y="2354400"/>
            <a:ext cx="3233880" cy="3284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6323" t="0" r="10538" b="0"/>
          <a:stretch/>
        </p:blipFill>
        <p:spPr>
          <a:xfrm>
            <a:off x="6019920" y="3664080"/>
            <a:ext cx="320040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72"/>
            </a:gs>
            <a:gs pos="100000">
              <a:srgbClr val="00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907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Impacto Frontal</a:t>
            </a:r>
            <a:br>
              <a:rPr sz="5400"/>
            </a:b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Desplazamiento hacia adelante y arriba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3440" y="2282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Impacto posterior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19920" y="50292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80000" y="-2979720"/>
            <a:ext cx="9937440" cy="896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525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Arial"/>
              </a:rPr>
              <a:t>Impacto</a:t>
            </a: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5400" spc="-1" strike="noStrike">
                <a:solidFill>
                  <a:srgbClr val="3333cc"/>
                </a:solidFill>
                <a:latin typeface="Arial"/>
              </a:rPr>
              <a:t>lateral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68560"/>
            <a:ext cx="380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Vehículo permanece en el lug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por compresión y aplastamiento 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4760" y="5105520"/>
            <a:ext cx="193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Cintur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podr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provo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más d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33720" y="635040"/>
            <a:ext cx="4673520" cy="6832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124080" y="685800"/>
            <a:ext cx="3429000" cy="6832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362320" y="2666880"/>
            <a:ext cx="137160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5029200"/>
            <a:ext cx="68580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439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Impacto lateral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620640"/>
            <a:ext cx="792504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 el vehículo es desplazado</a:t>
            </a: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Vehículo se mueve debajo de la víctima alejándose del impacto y arrastránd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Lesiones por flexión lateral y rotación de la columna cervical por colis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4508640"/>
            <a:ext cx="934920" cy="504720"/>
          </a:xfrm>
          <a:prstGeom prst="leftArrow">
            <a:avLst>
              <a:gd name="adj1" fmla="val 50000"/>
              <a:gd name="adj2" fmla="val 4630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80360" y="3284640"/>
            <a:ext cx="1079280" cy="64764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e4a8"/>
          </a:soli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Impacto rotacional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514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mpacto lateral sobre un vehículo en mov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ombinación de lesiones de impacto frontal y 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Volcamiento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557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ombinación de mecanismos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286000"/>
            <a:ext cx="9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Gran transferencia de ener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05920" y="6315120"/>
            <a:ext cx="838080" cy="542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372600" cy="5170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60720" y="907920"/>
            <a:ext cx="44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Lesiones de cualquier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Expulsión del ocupante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19700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27% de muertes traumáticas por esta ca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5080" y="2492280"/>
            <a:ext cx="56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8% presentan fractura de colum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149040" y="3452760"/>
            <a:ext cx="9016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Lesiones por choque contra el vehículo y al ca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Medios de contenció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2060640"/>
            <a:ext cx="71629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inturón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be tener componente diagonal y transverso Adecuadamente posicionado       ( abarcar partes óseas de pelvis y de tór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Bolsas de ai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bsorben energía en impactos frontales y 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No deben ser usados con ni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2742840"/>
            <a:ext cx="6945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Buena  histori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    Análisis escen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+  interpretación adecuad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   INDICE DE SOSPECHA</a:t>
            </a:r>
            <a:br>
              <a:rPr sz="48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005360"/>
            <a:ext cx="633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inturón de seguridad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568680" cy="4952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419720" y="2276640"/>
            <a:ext cx="4724280" cy="3674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067280" y="533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92360" y="1252440"/>
            <a:ext cx="575928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Motocicleta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453" t="651" r="912" b="651"/>
          <a:stretch/>
        </p:blipFill>
        <p:spPr>
          <a:xfrm>
            <a:off x="76320" y="1895400"/>
            <a:ext cx="789120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99072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Lesiones peatonal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657600" cy="2955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708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056360" cy="45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40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57160" y="213840"/>
            <a:ext cx="29797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aída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1295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Lesiones por impactos múltiples influidos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ltura    (sobre 3 altos lesiones grave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uperficie de choque   (compresib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Zona  corporal de imp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aída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153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aídas sobre pi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057400"/>
            <a:ext cx="76201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uni o bilateral de calcán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o luxación de cad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por compresión columna dorsal o                 lum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de Colles 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36360" y="-531720"/>
            <a:ext cx="6011640" cy="7389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-218772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12344" t="0" r="0" b="0"/>
          <a:stretch/>
        </p:blipFill>
        <p:spPr>
          <a:xfrm>
            <a:off x="5364000" y="0"/>
            <a:ext cx="5051520" cy="695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4211640" y="0"/>
          <a:ext cx="205740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0"/>
                    <a:ext cx="2057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08000" y="4941720"/>
            <a:ext cx="762012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DEPORTES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Lesiones variadas  segú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canismos involuc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76680" y="4568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Lesiones por explo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057400"/>
            <a:ext cx="83055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esentan tres tipos de le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prim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producidas por onda de presión                           Afectan órganos con gas como pulmones o   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stino                                                         Lesiones a nivel SNC                                               Que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serias y muchas veces pasan desapercib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057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92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actores pre-trau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94680" y="3429000"/>
            <a:ext cx="39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unto de impa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120" y="4437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uanta es la  energía que está  involucrad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270400"/>
            <a:ext cx="961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ónde y en qué direc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e  produce el intercambio de energí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80" y="772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Analizar :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Lesiones por explo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060640"/>
            <a:ext cx="83055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secund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las producidas por el impacto de sólidos (vidrios, perdigones, fragmentos metálicos,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oducen laceraciones,quemaduras, fractura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8120" y="42228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Lesiones por explo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1916280"/>
            <a:ext cx="83059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terci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aquellas producidas por la proyección de la víctima contra un objeto o sue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oducen  contusiones,  laceraciones,  quemaduras, fractura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505320" y="4502160"/>
          <a:ext cx="45482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02160"/>
                    <a:ext cx="45482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038480" y="4984920"/>
          <a:ext cx="37339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984920"/>
                    <a:ext cx="3733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2349360"/>
            <a:ext cx="73915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as lesiones son el resultado de un intercambio de energía entre la víctima y otros obj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odremos anticipar la magnitud y tipo de lesiones con una buena historia y una cuidadosa observación de la esce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untos a recordar 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4652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916280"/>
            <a:ext cx="828036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ff"/>
                </a:solidFill>
                <a:latin typeface="Tahoma"/>
              </a:rPr>
              <a:t>La energía no  se crea ni se destruye, sólo se transforma </a:t>
            </a: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(Ley de conservación de la energí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ff"/>
                </a:solidFill>
                <a:latin typeface="Tahoma"/>
              </a:rPr>
              <a:t>Un cuerpo en reposo permanecerá en reposo y que un cuerpo en movimiento permanecerá en movimiento a menos que sobre ellos actúe una fuerza externa. </a:t>
            </a: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( Primera ley del movimiento de New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476280"/>
            <a:ext cx="828036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Formula  de energía Cinét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600" spc="-1" strike="noStrike">
                <a:solidFill>
                  <a:srgbClr val="ff0000"/>
                </a:solidFill>
                <a:latin typeface="Times New Roman"/>
              </a:rPr>
              <a:t>EC = ½ m v</a:t>
            </a:r>
            <a:r>
              <a:rPr b="0" lang="es-MX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0" y="2909880"/>
            <a:ext cx="360360" cy="520560"/>
          </a:xfrm>
          <a:prstGeom prst="rect">
            <a:avLst/>
          </a:prstGeom>
          <a:noFill/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Intercambio de Energí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49440"/>
            <a:ext cx="8229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"/>
              </a:rPr>
              <a:t>Determin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Dónde y en qué dirección se produce el intercambio de ener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Cuanta energía afectó a la victima y en qué form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Factores a Analizar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057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413000"/>
            <a:ext cx="7772400" cy="40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Lesiones  en  relación  c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Energí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Anatomía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21:00:20Z</dcterms:created>
  <dc:creator>xgrove</dc:creator>
  <dc:description/>
  <dc:language>en-US</dc:language>
  <cp:lastModifiedBy>Ivo</cp:lastModifiedBy>
  <dcterms:modified xsi:type="dcterms:W3CDTF">2008-12-04T15:41:53Z</dcterms:modified>
  <cp:revision>164</cp:revision>
  <dc:subject/>
  <dc:title>CINEMATICA DEL TRAUMA</dc:title>
</cp:coreProperties>
</file>